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5613-E897-4C14-AE47-14B9FCDB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09A9-2355-47C6-9FAB-56BF4D87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E194-B49C-4594-9727-42779DB8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B26B-CF63-4FCF-B710-0A19A6E0D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9760-4945-4EEA-8B38-373DFC292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3440-249C-4BCE-A567-DEB78B52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A96A-00A2-45B4-A2CF-630798C1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F06B-566B-4189-83C6-B0439A7A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CC29-0CA0-4A52-B8F4-4FE4619D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4280-AE8C-4100-8BAD-305F8377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5C97-6997-4892-905D-9AFA7792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705C-893A-48C2-AF65-DC5701D5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C779-C85B-4B67-BF05-3FB44F46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229F-7D39-4B82-9B97-61C41BC5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7758-31A9-4820-B74E-B6837D19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EB1E-CA64-464A-9704-8F472A2A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5576-8577-4FCD-AE68-4C7F2347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905D-7255-46AF-935E-458DA8EB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7A60-C810-49A4-9C3B-D121171A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D7F4-E333-495C-B7AB-0B60B944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BCB9-3C34-443F-B75D-C964ED1F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FE05-00EA-4ACA-AB74-C796BA17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C3CC-F437-4373-AA5E-73637D6A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444F-8B51-4935-908C-1CAB1C2D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D3A0-CAB2-4D80-92E2-DB2B0FABBE6A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289E-1347-4BFC-AE04-FF8FD9D2EC2E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ct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ct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Why pets attack their owners…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828800" y="1098720"/>
            <a:ext cx="45896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oncept Question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Which of the following statements are true for an undamped simple harmonic oscillator?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9160" indent="-285480" algn="just">
              <a:lnSpc>
                <a:spcPct val="90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  an undamped oscillator will dissipate energy, and decay in amplitude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9160" indent="-285480" algn="just">
              <a:lnSpc>
                <a:spcPct val="112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B  the total energy oscillates between kinetic energy and potential energy forms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9160" indent="-285480" algn="just">
              <a:lnSpc>
                <a:spcPct val="112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 the total energy is imaginary; at the end of calculations the real-valued part is kept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9160" indent="-285480" algn="just">
              <a:lnSpc>
                <a:spcPct val="112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 initial conditions of displacement and velocity determine the phase and amplitude of the oscillation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9160" indent="-285480" algn="just">
              <a:lnSpc>
                <a:spcPct val="112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  exactly two answers above are correct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oncept Question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7467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525"/>
                </a:solidFill>
                <a:latin typeface="Times New Roman"/>
              </a:rPr>
              <a:t>Which statements below describe an 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overdamped simple harmonic oscillator</a:t>
            </a:r>
            <a:r>
              <a:rPr b="0" lang="en-US" sz="3200" spc="-1" strike="noStrike">
                <a:solidFill>
                  <a:srgbClr val="2d2525"/>
                </a:solidFill>
                <a:latin typeface="Times New Roman"/>
              </a:rPr>
              <a:t>?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404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2d2525"/>
              </a:solidFill>
              <a:latin typeface="Times New Roman"/>
            </a:endParaRPr>
          </a:p>
          <a:p>
            <a:pPr lvl="1" marL="404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d2525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2d2525"/>
                </a:solidFill>
                <a:latin typeface="Times New Roman"/>
              </a:rPr>
              <a:t> the oscillation frequency of an overdamped oscillator steadily decreases in time</a:t>
            </a:r>
            <a:endParaRPr b="0" i="1" lang="en-US" sz="2200" spc="-1" strike="noStrike">
              <a:solidFill>
                <a:srgbClr val="2d2525"/>
              </a:solidFill>
              <a:latin typeface="Times New Roman"/>
            </a:endParaRPr>
          </a:p>
          <a:p>
            <a:pPr lvl="1" marL="404640" indent="0" algn="just">
              <a:lnSpc>
                <a:spcPct val="112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d2525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2d2525"/>
                </a:solidFill>
                <a:latin typeface="Times New Roman"/>
              </a:rPr>
              <a:t> keeping everything else the same, and reducing the mass of any oscillator sufficiently will always make it overdamped</a:t>
            </a:r>
            <a:endParaRPr b="0" i="1" lang="en-US" sz="2200" spc="-1" strike="noStrike">
              <a:solidFill>
                <a:srgbClr val="2d2525"/>
              </a:solidFill>
              <a:latin typeface="Times New Roman"/>
            </a:endParaRPr>
          </a:p>
          <a:p>
            <a:pPr lvl="1" marL="404640" indent="0" algn="just">
              <a:lnSpc>
                <a:spcPct val="112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d2525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2d2525"/>
                </a:solidFill>
                <a:latin typeface="Times New Roman"/>
              </a:rPr>
              <a:t>heavier damping gives the overdamped oscillator greater power-dissipation</a:t>
            </a:r>
            <a:endParaRPr b="0" i="1" lang="en-US" sz="2200" spc="-1" strike="noStrike">
              <a:solidFill>
                <a:srgbClr val="2d2525"/>
              </a:solidFill>
              <a:latin typeface="Times New Roman"/>
            </a:endParaRPr>
          </a:p>
          <a:p>
            <a:pPr lvl="1" marL="404640" indent="0" algn="just">
              <a:lnSpc>
                <a:spcPct val="112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d2525"/>
                </a:solidFill>
                <a:latin typeface="Times New Roman"/>
              </a:rPr>
              <a:t>D all of the above are correct</a:t>
            </a:r>
            <a:endParaRPr b="0" i="1" lang="en-US" sz="2200" spc="-1" strike="noStrike">
              <a:solidFill>
                <a:srgbClr val="2d2525"/>
              </a:solidFill>
              <a:latin typeface="Times New Roman"/>
            </a:endParaRPr>
          </a:p>
          <a:p>
            <a:pPr lvl="1" marL="404640" indent="0" algn="just">
              <a:lnSpc>
                <a:spcPct val="112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d2525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2d2525"/>
                </a:solidFill>
                <a:latin typeface="Times New Roman"/>
              </a:rPr>
              <a:t>none of the above is correct</a:t>
            </a:r>
            <a:endParaRPr b="0" i="1" lang="en-US" sz="2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61c62"/>
                </a:solidFill>
                <a:latin typeface="Times New Roman"/>
              </a:rPr>
              <a:t>Concept Question</a:t>
            </a:r>
            <a:endParaRPr b="0" lang="en-US" sz="36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274284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 algn="just">
              <a:lnSpc>
                <a:spcPct val="96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Which of the following statements are true about the driven oscillator whose response is shown above?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9160" indent="-285480">
              <a:lnSpc>
                <a:spcPct val="100000"/>
              </a:lnSpc>
              <a:spcBef>
                <a:spcPts val="4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525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2d2525"/>
                </a:solidFill>
                <a:latin typeface="TimesTen-Roman"/>
              </a:rPr>
              <a:t> </a:t>
            </a:r>
            <a:r>
              <a:rPr b="0" lang="en-US" sz="2000" spc="-1" strike="noStrike">
                <a:solidFill>
                  <a:srgbClr val="2d2525"/>
                </a:solidFill>
                <a:latin typeface="Times New Roman"/>
              </a:rPr>
              <a:t>the peak of the displacement amplitude occurs at the natural frequency of the undamped SHO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749160" indent="-285480">
              <a:lnSpc>
                <a:spcPct val="100000"/>
              </a:lnSpc>
              <a:spcBef>
                <a:spcPts val="4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525"/>
                </a:solidFill>
                <a:latin typeface="Times New Roman"/>
              </a:rPr>
              <a:t>B  the </a:t>
            </a: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2d2525"/>
                </a:solidFill>
                <a:latin typeface="Times New Roman"/>
              </a:rPr>
              <a:t> of the damped oscillator is roughly 2.8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749160" indent="-285480">
              <a:lnSpc>
                <a:spcPct val="100000"/>
              </a:lnSpc>
              <a:spcBef>
                <a:spcPts val="4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525"/>
                </a:solidFill>
                <a:latin typeface="Times New Roman"/>
              </a:rPr>
              <a:t>C  the maximum power transfer occurs at the natural frequency of the undamped simple harmonic oscillator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749160" indent="-285480" algn="just">
              <a:lnSpc>
                <a:spcPct val="112000"/>
              </a:lnSpc>
              <a:spcBef>
                <a:spcPts val="4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525"/>
                </a:solidFill>
                <a:latin typeface="Times New Roman"/>
              </a:rPr>
              <a:t>D  exactly two of the above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749160" indent="-285480" algn="just">
              <a:lnSpc>
                <a:spcPct val="112000"/>
              </a:lnSpc>
              <a:spcBef>
                <a:spcPts val="4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525"/>
                </a:solidFill>
                <a:latin typeface="Times New Roman"/>
              </a:rPr>
              <a:t>E  all of A, B, C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997440" y="152280"/>
            <a:ext cx="354636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Midterm time/room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7391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riday 26 October 2007, 5–7pm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m:  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S 1085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525"/>
                </a:solidFill>
                <a:latin typeface="Times New Roman"/>
              </a:rPr>
              <a:t>Allowed aid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non-programmable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 calculators (or be prepared to prove you can wipe the memory clean on demand (at your risk))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Aid sheet:  </a:t>
            </a:r>
            <a:r>
              <a:rPr b="1" i="1" lang="en-US" sz="2800" spc="-1" strike="noStrike">
                <a:solidFill>
                  <a:srgbClr val="2d2525"/>
                </a:solidFill>
                <a:latin typeface="Times New Roman"/>
              </a:rPr>
              <a:t>one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 side of an 8.5 x 11 inch sheet </a:t>
            </a:r>
            <a:r>
              <a:rPr b="1" i="1" lang="en-US" sz="2800" spc="-1" strike="noStrike">
                <a:solidFill>
                  <a:srgbClr val="2d2525"/>
                </a:solidFill>
                <a:latin typeface="Times New Roman"/>
              </a:rPr>
              <a:t>handwritten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 (no aids in preparing this sheet!)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Material covered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7391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ll material presented in clas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aterial from corresponding sections of text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aterial on problem set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ypically I put on: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61c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efinitions and meanings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61c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1 easy problem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61c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1 problem closely related to a problem set question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61c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1 hard question or section, where you may have to reason or invent something on the spot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ee course webpage for example midterm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oday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7391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riven, damped harmonic oscillator </a:t>
            </a:r>
            <a:r>
              <a:rPr b="0" i="1" lang="en-US" sz="2400" spc="-1" strike="noStrike">
                <a:solidFill>
                  <a:srgbClr val="000033"/>
                </a:solidFill>
                <a:latin typeface="Times New Roman"/>
              </a:rPr>
              <a:t>steady state solution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hase relationship between velocity and drive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hase relationship between displacement and drive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sonance, and peak, for </a:t>
            </a:r>
            <a:r>
              <a:rPr b="0" lang="en-US" sz="2400" spc="-1" strike="noStrike" u="sng">
                <a:solidFill>
                  <a:srgbClr val="000033"/>
                </a:solidFill>
                <a:uFillTx/>
                <a:latin typeface="Times New Roman"/>
              </a:rPr>
              <a:t>velocity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response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sonance, and peak, for </a:t>
            </a:r>
            <a:r>
              <a:rPr b="0" lang="en-US" sz="2400" spc="-1" strike="noStrike" u="sng">
                <a:solidFill>
                  <a:srgbClr val="000033"/>
                </a:solidFill>
                <a:uFillTx/>
                <a:latin typeface="Times New Roman"/>
              </a:rPr>
              <a:t>displacement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response (shifted relative to velocity's peak!) 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1371600"/>
            <a:ext cx="7315200" cy="5486400"/>
          </a:xfrm>
          <a:prstGeom prst="rect">
            <a:avLst/>
          </a:prstGeom>
          <a:solidFill>
            <a:srgbClr val="d8d688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Forced Damped Oscillator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88840" y="3352680"/>
          <a:ext cx="62438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8840" y="3352680"/>
                    <a:ext cx="62438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236600" y="1600200"/>
          <a:ext cx="585648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6600" y="1600200"/>
                    <a:ext cx="58564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160640" y="4110120"/>
          <a:ext cx="5227560" cy="26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60640" y="4110120"/>
                    <a:ext cx="522756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270080" y="2133720"/>
          <a:ext cx="528948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0080" y="2133720"/>
                    <a:ext cx="528948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685800" y="2743200"/>
          <a:ext cx="2816280" cy="571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" y="2743200"/>
                    <a:ext cx="28162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1371600"/>
            <a:ext cx="7315200" cy="5486400"/>
          </a:xfrm>
          <a:prstGeom prst="rect">
            <a:avLst/>
          </a:prstGeom>
          <a:solidFill>
            <a:srgbClr val="d8d688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Forced Damped Oscillator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30160" y="1739880"/>
          <a:ext cx="4551480" cy="22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160" y="1739880"/>
                    <a:ext cx="4551480" cy="22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93840" y="4519440"/>
          <a:ext cx="7243560" cy="183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3840" y="4519440"/>
                    <a:ext cx="724356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1371600"/>
            <a:ext cx="7315200" cy="5486400"/>
          </a:xfrm>
          <a:prstGeom prst="rect">
            <a:avLst/>
          </a:prstGeom>
          <a:solidFill>
            <a:srgbClr val="d8d688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aking it Real…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81040" y="1496880"/>
          <a:ext cx="6810480" cy="528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1496880"/>
                    <a:ext cx="6810480" cy="52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4920" y="1371600"/>
            <a:ext cx="7315200" cy="5486400"/>
          </a:xfrm>
          <a:prstGeom prst="rect">
            <a:avLst/>
          </a:prstGeom>
          <a:solidFill>
            <a:srgbClr val="d8d688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aking it real… (cnt’d)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208160" y="1843200"/>
          <a:ext cx="5408640" cy="42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8160" y="1843200"/>
                    <a:ext cx="5408640" cy="42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Nex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7391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o </a:t>
            </a:r>
            <a:r>
              <a:rPr b="0" i="1" lang="en-US" sz="2800" spc="-1" strike="noStrike">
                <a:solidFill>
                  <a:srgbClr val="000033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get wrapped up on p. 69, with </a:t>
            </a:r>
            <a:r>
              <a:rPr b="0" i="1" lang="en-US" sz="2800" spc="-1" strike="noStrike">
                <a:solidFill>
                  <a:srgbClr val="000033"/>
                </a:solidFill>
                <a:latin typeface="Times New Roman"/>
              </a:rPr>
              <a:t>Significance of the Two Components of the Displacement Curve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33"/>
                </a:solidFill>
                <a:latin typeface="Times New Roman"/>
              </a:rPr>
              <a:t>more suitable for upper years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ower transfer, drive --&gt; oscillator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Q-value and resonance absorption bandwidth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ffect of transient term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bin Marjoribanks</cp:lastModifiedBy>
  <dcterms:modified xsi:type="dcterms:W3CDTF">2007-10-17T14:04:49Z</dcterms:modified>
  <cp:revision>12</cp:revision>
  <dc:subject/>
  <dc:title>Why pets attack their owners…</dc:title>
</cp:coreProperties>
</file>