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605-5D62-4DCF-B502-65ABDB0D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44B-3DD1-4514-B44B-ED686064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D3A-B989-4743-B092-01D926A1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433-60FD-4704-86E0-484BC7BA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66F4-8400-4A16-84AF-86DA3B46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E8DA-BFC3-406B-A4F0-134AA7E3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75B3-7E49-4CD4-91DC-198900BA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3B95-3900-470B-8B6E-9E5DB551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ED86-1F8F-42B3-9CD0-E96738AE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0DE5-FF3F-41E1-B165-6F42F89C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870E-C598-4B8A-AB74-0D0A635A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77A-89CE-4538-95B4-BC892B85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8223-C116-41D0-AE75-E8D4435F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753C-D6AA-4E7A-9D95-FB2B73E7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66A6-E093-4ADD-BDB9-264D6295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4EF6-FC65-4F6E-BA44-9ACA69D6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62F1-E285-4DC6-BC58-6292CA15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BA0-75A7-4661-A1D9-1F3D7A1B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FA2-550D-4872-968D-22F56D49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726-4C52-484D-9C1B-62DCF912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9BB-E6F1-49CB-9848-8FCFAB0B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1DC-D147-4687-BC63-822071D5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A52-7969-4585-883D-87F85FC3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B40-469A-4D91-8448-164D7448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2DAE-88F8-408F-B8B7-AFDF033B89B9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6427-FE5F-46B0-AB88-7D6F4C7A6BC8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ct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ing for the da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52480" y="1434960"/>
            <a:ext cx="444528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81040" y="1496880"/>
          <a:ext cx="6810480" cy="52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496880"/>
                    <a:ext cx="681048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1919160"/>
          <a:ext cx="4621320" cy="42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19160"/>
                    <a:ext cx="462132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da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o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get wrapped up on p. 69, with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Significance of the Two Components of the Displacement Curv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33"/>
                </a:solidFill>
                <a:latin typeface="Times New Roman"/>
              </a:rPr>
              <a:t>more suitable for upper year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wer transfer, drive --&gt; oscillato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Q-value and resonance absorption bandwidth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ffect of transient term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idterm time/room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riday 26 October 2007, 5–7pm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m: 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S 1085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525"/>
                </a:solidFill>
                <a:latin typeface="Times New Roman"/>
              </a:rPr>
              <a:t>Allowed aid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non-programmable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 calculators (or be prepared to prove you can wipe the memory clean on demand (at your risk)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Aid sheet:  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 side of an 8.5 x 11 inch sheet 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handwritten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 (no aids in preparing this sheet!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aterial covered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l material presented in clas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terial from corresponding sections of text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terial on problem set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ypically I put on: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definitions and meanings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1 easy problem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1 problem closely related to a problem set question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1 hard question or section, where you may have to reason or invent something on the spot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e course webpage for example midterm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cap Approach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739152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multiple resourc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extbook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lecture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utorial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office hours (professor &amp; TA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other text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laboratory PHY225H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ll are needed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each has particular advantag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cap Lectur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ill concentrate on what lectures do bes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on’t just lead you through the textbook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ill provide interaction and feedback that books canno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ill provide demonstrations and animation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ill depend on you having read </a:t>
            </a:r>
            <a:r>
              <a:rPr b="1" i="1" lang="en-US" sz="3200" spc="-1" strike="noStrike">
                <a:solidFill>
                  <a:srgbClr val="2d2525"/>
                </a:solidFill>
                <a:latin typeface="Times New Roman"/>
              </a:rPr>
              <a:t>also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cept Ques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7467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Which statements below describe an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overdamped simple harmonic oscillator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?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40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40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 the oscillation frequency of an overdamped oscillator steadily decreases in time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404640" indent="0" algn="just">
              <a:lnSpc>
                <a:spcPct val="112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keeping everything else the same, and reducing the mass of any oscillator sufficiently will always make it overdamped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404640" indent="0" algn="just">
              <a:lnSpc>
                <a:spcPct val="11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heavier damping gives the overdamped oscillator greater power-dissipation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404640" indent="0" algn="just">
              <a:lnSpc>
                <a:spcPct val="11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D all of the above are correct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404640" indent="0" algn="just">
              <a:lnSpc>
                <a:spcPct val="11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none of the above is correct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Last da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riven, damped harmonic oscillator </a:t>
            </a:r>
            <a:r>
              <a:rPr b="0" i="1" lang="en-US" sz="2400" spc="-1" strike="noStrike">
                <a:solidFill>
                  <a:srgbClr val="000033"/>
                </a:solidFill>
                <a:latin typeface="Times New Roman"/>
              </a:rPr>
              <a:t>steady state solution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hase relationship between velocity and driv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hase relationship between displacement and driv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sonance, and peak, for velocity respons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sonance, and peak, for displacement response (shifted relative to velocity's peak!)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88840" y="3352680"/>
          <a:ext cx="62438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3352680"/>
                    <a:ext cx="62438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236600" y="1600200"/>
          <a:ext cx="585648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6600" y="1600200"/>
                    <a:ext cx="5856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160640" y="4110120"/>
          <a:ext cx="5227560" cy="26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0640" y="4110120"/>
                    <a:ext cx="522756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270080" y="2133720"/>
          <a:ext cx="528948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0080" y="2133720"/>
                    <a:ext cx="52894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85800" y="2743200"/>
          <a:ext cx="2816280" cy="57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2743200"/>
                    <a:ext cx="28162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30160" y="1739880"/>
          <a:ext cx="455148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739880"/>
                    <a:ext cx="455148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93840" y="4519440"/>
          <a:ext cx="7243560" cy="18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40" y="4519440"/>
                    <a:ext cx="724356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in Marjoribanks</cp:lastModifiedBy>
  <dcterms:modified xsi:type="dcterms:W3CDTF">2007-10-20T19:23:00Z</dcterms:modified>
  <cp:revision>10</cp:revision>
  <dc:subject/>
  <dc:title>Thing for the day</dc:title>
</cp:coreProperties>
</file>