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AA0E-9BF9-4BE4-941C-C76E1199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79A7-B6CC-45F9-B739-B5DA078B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DE80-0731-42F1-AB1B-9153923B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F77C-BBCA-4864-8E4D-DC07AECC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0916-651A-4AE1-BF8F-E38F4A25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CBA3-4A89-4C94-8BA3-CCCA25EF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0007-1E20-4EF8-BA84-5BE5E4F5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345D-CB6A-4731-A002-69A16237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9F97-0AB7-4FA3-BE47-AE39A9BE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194A-5C06-4635-AA28-68054851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0F66-4F30-4C0C-8AB8-063F78EA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0210-7314-4DE7-84AB-D8BC3229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4504-5766-4471-A800-7503D91E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643D-095D-4453-B7B1-4D5EC222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E16B-1A13-4A62-A554-B6AEDA55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81F4-60CE-4EA9-9EA2-6D6432A5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069B-49FA-4A76-98A9-4A81505A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6B8-102E-4918-B207-E5877C2D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3E8-891A-4C36-AEE5-821094A6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EE39-76DA-4136-B856-056F99AC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D275-BD3D-48BA-BEC8-9C9AF02C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0801-8299-4DE5-B2A4-03F565F7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C74A-FE41-49F1-96EE-10AF2AEE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1A7-8C41-458C-9FC4-BFFBEB3F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3E76-4D00-4A03-B6C3-FF9ACF6B7684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E809-BAB4-400E-941C-BD8E4410966B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2743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Thing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 for the day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440532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nimated phase-space plo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08" name="LabOffice 160:Teaching stuff:PHY485/1485F (2007):PHY485/1860F 2006 Lectures:Lecture 5:damped phase space norm'.mov" descr=""/>
          <p:cNvPicPr/>
          <p:nvPr/>
        </p:nvPicPr>
        <p:blipFill>
          <a:blip r:embed="rId1"/>
          <a:stretch/>
        </p:blipFill>
        <p:spPr>
          <a:xfrm>
            <a:off x="0" y="914400"/>
            <a:ext cx="7975440" cy="5943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104320" y="-7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riven damped SHO–full solutio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04320" y="-7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76197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61a1e"/>
                </a:solidFill>
                <a:latin typeface="Times New Roman"/>
              </a:rPr>
              <a:t>math:</a:t>
            </a: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 homogeneous solution (2D vector space) + inhomogeneous solution (particular sol‘n)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a51a"/>
                </a:solidFill>
                <a:latin typeface="Times New Roman"/>
              </a:rPr>
              <a:t>physics:</a:t>
            </a: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  steady-state solution (2 free params) + transient solution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energy of transient dissipates;  steady-state solution has constant power delivered from drive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13" name="LabOffice 160:Teaching stuff:PHY485/1485F (2007):PHY485/1860F 2006 Lectures:Lecture 5:Lecture 5 2007:damped driven SHO2.mov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83646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61c62"/>
                </a:solidFill>
                <a:latin typeface="Times New Roman"/>
              </a:rPr>
              <a:t>Concept Question</a:t>
            </a: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31240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760"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Which of the following statements are true about the driven oscillator whose response is shown above?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673920" indent="-256680">
              <a:lnSpc>
                <a:spcPct val="100000"/>
              </a:lnSpc>
              <a:spcBef>
                <a:spcPts val="4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2d2525"/>
                </a:solidFill>
                <a:latin typeface="TimesTen-Roman"/>
              </a:rPr>
              <a:t> </a:t>
            </a: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the peak of the displacement amplitude occurs at the natural frequency of the undamped SHO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673920" indent="-256680">
              <a:lnSpc>
                <a:spcPct val="100000"/>
              </a:lnSpc>
              <a:spcBef>
                <a:spcPts val="4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B  the 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 of the damped oscillator is roughly 2.8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673920" indent="-256680">
              <a:lnSpc>
                <a:spcPct val="100000"/>
              </a:lnSpc>
              <a:spcBef>
                <a:spcPts val="4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C  the maximum power transfer occurs at the natural frequency of the undamped simple harmonic oscillator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673920" indent="-256680" algn="just">
              <a:lnSpc>
                <a:spcPct val="112000"/>
              </a:lnSpc>
              <a:spcBef>
                <a:spcPts val="4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D  exactly two of the above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673920" indent="-256680" algn="just">
              <a:lnSpc>
                <a:spcPct val="112000"/>
              </a:lnSpc>
              <a:spcBef>
                <a:spcPts val="4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E  all of A, B, C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1130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LabOffice 160:Teaching stuff:PHY255F (2007):PHY255F-2007 Lectures:Lecture 12:coupled pendulums'.mov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473580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LabOffice 160:Teaching stuff:PHY255F (2007):PHY255F-2007 Lectures:Lecture 12:coupled pendulums II'.mov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47358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hese normal modes combin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20" name="TwitTwoo HD:PHY255F-2003:Lecture 11:coupled osc beating3'" descr=""/>
          <p:cNvPicPr/>
          <p:nvPr/>
        </p:nvPicPr>
        <p:blipFill>
          <a:blip r:embed="rId1"/>
          <a:stretch/>
        </p:blipFill>
        <p:spPr>
          <a:xfrm>
            <a:off x="0" y="1803240"/>
            <a:ext cx="8381880" cy="5054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-528120" y="1752480"/>
            <a:ext cx="59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Arial"/>
              </a:rPr>
              <a:t>Normal modes – symmetric and antisymmetric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00" y="4038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Arial"/>
              </a:rPr>
              <a:t>x=X+Y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1440" y="5181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Arial"/>
              </a:rPr>
              <a:t>y=X–Y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i&gt;clickers basic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Arial"/>
              </a:rPr>
              <a:t>A unique ID (serial number) located on the back of each unit links student &amp; remot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Arial"/>
              </a:rPr>
              <a:t>Three LED indicators (Power, Low Battery, Vote Status)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Arial"/>
              </a:rPr>
              <a:t>The Vote Status LED provides feedback when the student</a:t>
            </a:r>
            <a:r>
              <a:rPr b="0" i="1" lang="en-US" sz="2800" spc="-1" strike="noStrike">
                <a:solidFill>
                  <a:srgbClr val="2d2525"/>
                </a:solidFill>
                <a:latin typeface="Arial"/>
                <a:ea typeface="ヒラギノ角ゴ Pro W3"/>
              </a:rPr>
              <a:t>’</a:t>
            </a:r>
            <a:r>
              <a:rPr b="0" i="1" lang="en-US" sz="2800" spc="-1" strike="noStrike">
                <a:solidFill>
                  <a:srgbClr val="2d2525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2d2525"/>
                </a:solidFill>
                <a:latin typeface="Arial"/>
              </a:rPr>
              <a:t> vote has been received.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Arial"/>
              </a:rPr>
              <a:t>A green light indicates the vote has been received and recorded; a red flashing light indicates the student needs to vote again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Arial"/>
              </a:rPr>
              <a:t>the i&gt;clicker website has FAQs for student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registering i&gt;clicker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Arial"/>
              </a:rPr>
              <a:t>the easiest way is for you to register online: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d2525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2d2525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2d2525"/>
                </a:solidFill>
                <a:latin typeface="Arial"/>
              </a:rPr>
              <a:t>www.iclicker.com/registration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4524480" cy="4524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280" y="2133720"/>
            <a:ext cx="4114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Arial"/>
              </a:rPr>
              <a:t>you’ll enter your name, student number and clicker serial number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Arial"/>
              </a:rPr>
              <a:t>the i&gt;clicker website has FAQs for student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registering i&gt;clicker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Arial"/>
              </a:rPr>
              <a:t>you can also easily register using the roll call, which we’ll do now…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Arial"/>
              </a:rPr>
              <a:t>we’ll do it today, and again on Friday during clas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61c62"/>
                </a:solidFill>
                <a:latin typeface="Times New Roman"/>
              </a:rPr>
              <a:t>double-checking</a:t>
            </a: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96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For the FIRST LETTER of your last name, press: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>
              <a:lnSpc>
                <a:spcPct val="10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2d2525"/>
                </a:solidFill>
                <a:latin typeface="TimesTen-Roman"/>
              </a:rPr>
              <a:t>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- for letters A-E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>
              <a:lnSpc>
                <a:spcPct val="10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B - for letters F-J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>
              <a:lnSpc>
                <a:spcPct val="10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 - for letters K-O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 algn="just">
              <a:lnSpc>
                <a:spcPct val="112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 - for letters P-T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 algn="just">
              <a:lnSpc>
                <a:spcPct val="112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 - for letters U-Z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61c62"/>
                </a:solidFill>
                <a:latin typeface="Times New Roman"/>
              </a:rPr>
              <a:t>double-checking</a:t>
            </a: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96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For the SECOND LETTER of your last name, press: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>
              <a:lnSpc>
                <a:spcPct val="10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2d2525"/>
                </a:solidFill>
                <a:latin typeface="TimesTen-Roman"/>
              </a:rPr>
              <a:t>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- for letters A-E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>
              <a:lnSpc>
                <a:spcPct val="10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B - for letters F-J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>
              <a:lnSpc>
                <a:spcPct val="10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 - for letters K-O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 algn="just">
              <a:lnSpc>
                <a:spcPct val="112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 - for letters P-T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 algn="just">
              <a:lnSpc>
                <a:spcPct val="112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 - for letters U-Z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61c62"/>
                </a:solidFill>
                <a:latin typeface="Times New Roman"/>
              </a:rPr>
              <a:t>double-checking</a:t>
            </a: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96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For the THIRD LETTER of your last name, press: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>
              <a:lnSpc>
                <a:spcPct val="10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2d2525"/>
                </a:solidFill>
                <a:latin typeface="TimesTen-Roman"/>
              </a:rPr>
              <a:t>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- for letters A-E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>
              <a:lnSpc>
                <a:spcPct val="10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B - for letters F-J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>
              <a:lnSpc>
                <a:spcPct val="10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 - for letters K-O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 algn="just">
              <a:lnSpc>
                <a:spcPct val="112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 - for letters P-T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 algn="just">
              <a:lnSpc>
                <a:spcPct val="112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 - for letters U-Z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Last day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riven, damped harmonic oscillator </a:t>
            </a:r>
            <a:r>
              <a:rPr b="0" i="1" lang="en-US" sz="2400" spc="-1" strike="noStrike">
                <a:solidFill>
                  <a:srgbClr val="000033"/>
                </a:solidFill>
                <a:latin typeface="Times New Roman"/>
              </a:rPr>
              <a:t>steady state solution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hase relationship between velocity and drive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hase relationship between displacement and drive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sonance, and peak, for velocity response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sonance, and peak, for displacement response (shifted relative to velocity's peak!) 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oday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ower transfer, drive --&gt; oscillator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Q-value and resonance absorption bandwidth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ffect of transient term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troduction to </a:t>
            </a:r>
            <a:r>
              <a:rPr b="0" i="1" lang="en-US" sz="2800" spc="-1" strike="noStrike">
                <a:solidFill>
                  <a:srgbClr val="000033"/>
                </a:solidFill>
                <a:latin typeface="Times New Roman"/>
              </a:rPr>
              <a:t>coupled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SHO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bin Marjoribanks</cp:lastModifiedBy>
  <dcterms:modified xsi:type="dcterms:W3CDTF">2007-11-04T23:14:24Z</dcterms:modified>
  <cp:revision>13</cp:revision>
  <dc:subject/>
  <dc:title>Thing for the day</dc:title>
</cp:coreProperties>
</file>