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F4B-1F46-4D6F-90F7-74A74F93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237-446F-46D5-86AC-48C6DF08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671-B3BE-499D-B26B-D9191D3E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79B-56BF-42E2-90D4-11524476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02C6-F28E-4574-ADAE-5858C04A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1673-B721-4BAE-A955-C5326592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7666-18E3-49B6-ACAF-F3FFB97C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A66D-1211-4DCC-82B0-090B4016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65A0-A60F-4336-9F6A-234AEE14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ECDA-D51B-4703-BF2A-ED2A4137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C4DC-A2D6-4F82-9885-4FF8CA0E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1F1-B7DA-4CE7-9D0E-8A96F23C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FAF4-B594-410A-A344-E96F3786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D759-7DF5-4CF2-AD03-2D2DC08E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877E-998E-4FBE-9AC8-43C5E489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A102-7854-46BA-92A7-E4A781CD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72E5-4FF9-4DFD-BFB2-974749E9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CE3-B4CF-47C4-916D-2F0AF4EF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FBC-705A-431C-A61E-84A60B5A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0FE-028E-4787-95BA-BDD79B18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1FA-3279-42BF-AAF9-A209C80C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064-1E9E-47E6-8394-C150C63A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8B6-7D67-4D27-AD9D-18068A2A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F4D-1FD1-4D83-85CB-ED681788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F589-71E4-433D-8693-CBEC66A282A7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1A33-9101-43D6-B0C1-1615410B90C2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ing for the da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76197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2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fundamental mode, j=1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6" name="LabOffice 160:Teaching stuff:PHY255F (2007):PHY255F-2007 Lectures:Lecture 13:bobsonastring2a'" descr=""/>
          <p:cNvPicPr/>
          <p:nvPr/>
        </p:nvPicPr>
        <p:blipFill>
          <a:blip r:embed="rId1"/>
          <a:stretch/>
        </p:blipFill>
        <p:spPr>
          <a:xfrm>
            <a:off x="-228600" y="2463840"/>
            <a:ext cx="8407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2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upper mode, j=2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8" name="LabOffice 160:Teaching stuff:PHY255F (2007):PHY255F-2007 Lectures:Lecture 13:bobsonastring2b'" descr=""/>
          <p:cNvPicPr/>
          <p:nvPr/>
        </p:nvPicPr>
        <p:blipFill>
          <a:blip r:embed="rId1"/>
          <a:stretch/>
        </p:blipFill>
        <p:spPr>
          <a:xfrm>
            <a:off x="-254160" y="2540160"/>
            <a:ext cx="8407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-Clicker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39152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e’ll be using the classroom response system ‘i-Clickers’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’ll ask a multiple-choice question, and be able to poll your respons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you’ll be able to see the class’s respon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ese are available at the Bookstore, like textbook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&gt;clicker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Arial"/>
              </a:rPr>
              <a:t>you should be fully registered now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Arial"/>
              </a:rPr>
              <a:t>be sure to write your i&gt;clicker serial number on your exam booklet, where you put your name and student numb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1c62"/>
                </a:solidFill>
                <a:latin typeface="Times New Roman"/>
              </a:rPr>
              <a:t>Concept Question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31240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760"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Which of the following statements are true about the driven oscillator whose response is shown above?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673920" indent="-256680">
              <a:lnSpc>
                <a:spcPct val="100000"/>
              </a:lnSpc>
              <a:spcBef>
                <a:spcPts val="4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2d2525"/>
                </a:solidFill>
                <a:latin typeface="TimesTen-Roman"/>
              </a:rPr>
              <a:t> </a:t>
            </a: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the peak of the displacement amplitude occurs at the natural frequency of the undamped SHO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673920" indent="-256680">
              <a:lnSpc>
                <a:spcPct val="100000"/>
              </a:lnSpc>
              <a:spcBef>
                <a:spcPts val="4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B  the 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 of the damped oscillator is roughly 2.8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673920" indent="-256680">
              <a:lnSpc>
                <a:spcPct val="100000"/>
              </a:lnSpc>
              <a:spcBef>
                <a:spcPts val="4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C  the maximum power transfer occurs at the natural frequency of the undamped simple harmonic oscillator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673920" indent="-256680" algn="just">
              <a:lnSpc>
                <a:spcPct val="112000"/>
              </a:lnSpc>
              <a:spcBef>
                <a:spcPts val="4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D  exactly two of the above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673920" indent="-256680" algn="just">
              <a:lnSpc>
                <a:spcPct val="112000"/>
              </a:lnSpc>
              <a:spcBef>
                <a:spcPts val="4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E  all of A, B, C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113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da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troduction to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coupled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SHO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LabOffice 160:Teaching stuff:PHY255F (2007):PHY255F-2007 Lectures:Lecture 13:coupled pendulums'.mov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47358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LabOffice 160:Teaching stuff:PHY255F (2007):PHY255F-2007 Lectures:Lecture 13:coupled pendulums II'.mov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47358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ese normal modes combin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1" name="Lab/Office 60:Teaching stuff:PHY255F (2004):PHY255F-2004 Lectures:Lecture 11:coupled osc beating3'" descr=""/>
          <p:cNvPicPr/>
          <p:nvPr/>
        </p:nvPicPr>
        <p:blipFill>
          <a:blip r:embed="rId1"/>
          <a:stretch/>
        </p:blipFill>
        <p:spPr>
          <a:xfrm>
            <a:off x="0" y="1803240"/>
            <a:ext cx="8381880" cy="5054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528120" y="175248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Arial"/>
              </a:rPr>
              <a:t>Normal modes – symmetric and antisymmetric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4038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Arial"/>
              </a:rPr>
              <a:t>x=X+Y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5181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Arial"/>
              </a:rPr>
              <a:t>y=X–Y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02:40:32Z</dcterms:created>
  <dc:creator>dobra chelovich</dc:creator>
  <dc:description/>
  <cp:keywords/>
  <dc:language>en-US</dc:language>
  <cp:lastModifiedBy>Robin Marjoribanks</cp:lastModifiedBy>
  <dcterms:modified xsi:type="dcterms:W3CDTF">2007-11-04T23:07:34Z</dcterms:modified>
  <cp:revision>118</cp:revision>
  <dc:subject/>
  <dc:title>Oscillations and Waves PHY255F</dc:title>
</cp:coreProperties>
</file>