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DBB1-39E9-4FD4-9D11-5E53DF68B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F9C-1685-4E74-857B-8A8D5BCD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DAB-AC10-40DD-81E8-67A2BEBE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31F-F0AB-465E-95C5-D2DF73B1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74F8-713E-4AA0-9B4A-69EA4F97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6A31-27C7-4004-A1DF-A9C8A69C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0957-FC02-4325-8DF9-5E08CBCA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3EED-8937-4888-AED3-EEC3587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AC41-8AF7-44AE-B22F-52312260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65FD-27BE-4732-8933-0AF680FE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9CBA-10BE-4F14-9129-5A887521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C118-7CC8-4CF0-B142-570A2CF8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02EF-3844-4D4E-A12F-17BAC944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BFFF-84FB-43DD-BA1D-9C72CC39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394B-CBA7-46EB-8FDF-E6A69010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D7A0-E64C-4CCB-A415-C8E4DDCF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AE7A-2CBA-4FB9-A30A-B62FF6110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530-5763-4864-93A7-F1696355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5713-F2E4-4AC0-8F03-3B235F45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322-997E-48B1-B8CE-EBA0336D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1B99-DEDD-4D57-B08C-FE6C7544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B6F-E189-450B-878E-3E86D00B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B8D4-9B3F-4A47-8BE6-B184D026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ACA4-21E6-402B-AE20-85ACDF0B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831F-F042-48CA-B543-A0B8EF179D1B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DE0-C224-4CB8-8C81-20ACEDB182BE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ing for the day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86000" y="1530360"/>
            <a:ext cx="39942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3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5" name="LabOffice 160:Teaching stuff:PHY255F (2007):PHY255F-2007 Lectures:Lecture 14:bobsonastring3c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LabOffice 160:Teaching stuff:PHY255F (2007):PHY255F-2007 Lectures:Lecture 13:coupled pendulums'.mov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73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LabOffice 160:Teaching stuff:PHY255F (2007):PHY255F-2007 Lectures:Lecture 13:coupled pendulums II'.mov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4735800" cy="57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hese normal modes combine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2" name="Lab/Office 60:Teaching stuff:PHY255F (2004):PHY255F-2004 Lectures:Lecture 11:coupled osc beating3'" descr=""/>
          <p:cNvPicPr/>
          <p:nvPr/>
        </p:nvPicPr>
        <p:blipFill>
          <a:blip r:embed="rId1"/>
          <a:stretch/>
        </p:blipFill>
        <p:spPr>
          <a:xfrm>
            <a:off x="0" y="1803240"/>
            <a:ext cx="8381880" cy="50547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-528120" y="1752480"/>
            <a:ext cx="59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Normal modes – symmetric and antisymmetric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00" y="4038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x=X+Y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1440" y="518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d2525"/>
                </a:solidFill>
                <a:latin typeface="Arial"/>
              </a:rPr>
              <a:t>y=X–Y</a:t>
            </a:r>
            <a:endParaRPr b="0" lang="en-US" sz="1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7" name="LabOffice 160:Teaching stuff:PHY255F (2007):PHY255F-2007 Lectures:Lecture 14:bobsonastring2a'" descr=""/>
          <p:cNvPicPr/>
          <p:nvPr/>
        </p:nvPicPr>
        <p:blipFill>
          <a:blip r:embed="rId1"/>
          <a:stretch/>
        </p:blipFill>
        <p:spPr>
          <a:xfrm>
            <a:off x="-228600" y="246384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2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upper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9" name="LabOffice 160:Teaching stuff:PHY255F (2007):PHY255F-2007 Lectures:Lecture 14:bobsonastring2b'" descr=""/>
          <p:cNvPicPr/>
          <p:nvPr/>
        </p:nvPicPr>
        <p:blipFill>
          <a:blip r:embed="rId1"/>
          <a:stretch/>
        </p:blipFill>
        <p:spPr>
          <a:xfrm>
            <a:off x="-254160" y="2540160"/>
            <a:ext cx="84074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fundamental mode, j=1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1" name="LabOffice 160:Teaching stuff:PHY255F (2007):PHY255F-2007 Lectures:Lecture 14:bobsonastring3a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3 masses on an elastic cord – </a:t>
            </a:r>
            <a:r>
              <a:rPr b="0" i="1" lang="en-US" sz="4400" spc="-1" strike="noStrike">
                <a:solidFill>
                  <a:srgbClr val="061c62"/>
                </a:solidFill>
                <a:latin typeface="Times New Roman"/>
              </a:rPr>
              <a:t>middle mode, j=2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3" name="LabOffice 160:Teaching stuff:PHY255F (2007):PHY255F-2007 Lectures:Lecture 14:bobsonastring3b'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65912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Robin Marjoribanks</cp:lastModifiedBy>
  <dcterms:modified xsi:type="dcterms:W3CDTF">2007-11-04T23:05:57Z</dcterms:modified>
  <cp:revision>118</cp:revision>
  <dc:subject/>
  <dc:title>Oscillations and Waves PHY255F</dc:title>
</cp:coreProperties>
</file>