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F8D-4C6A-4968-A992-444AD03E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581-CB1F-43F0-9BEA-E18A3A8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D53-0096-4E51-9829-9870B808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03B-B033-405D-9418-B5685E17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DD7D-E561-4D5A-AF7A-A05B5087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CC1D-0012-4D99-8CD6-03C9EE7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4FC0-A5A9-4220-8A5E-7C67A38E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A672-6EB9-4BF5-B3C8-07951D37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7CA9-74B8-4F55-83A6-9E94F848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FBF6-1613-45E4-B32A-97916152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4DBB-AED1-4814-8C02-CA428AD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9DD-94B3-49EE-9ADA-13563AFE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94BF-42FD-416C-807A-76ECE4F4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6359-2EDD-4937-A08C-1EC5543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AE95-6C71-4686-B4AC-74DCA9E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9E6D-3856-4A4C-AFCA-9B701240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F3A0-69E1-438F-B770-C688E5A8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1D3-5C9A-405B-9AE7-BB1E9086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9B2-535A-43AE-B3F3-7466A003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60E-E080-4756-9872-8BF4702D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9B5-7E15-4A6D-984E-9F6F238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F42-08C5-4C7C-9AE4-D9684D66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11D-29E0-4C10-94FD-FEE1E9CF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34A-73B8-4B9D-B2E5-EBA3C43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B884-B223-417E-B70E-7E638AD1AEF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644B-3882-4644-BAAA-031EA9641E6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afety thing for the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96760" y="1384200"/>
            <a:ext cx="367524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4th mode, j=4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6" name="LabOffice 160:Teaching stuff:PHY255F (2007):PHY255F-2007 Lectures:Lecture 14:bobsonastringN=5j=4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highest mode, j=5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8" name="LabOffice 160:Teaching stuff:PHY255F (2007):PHY255F-2007 Lectures:Lecture 14:bobsonastringN=5j=5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0" name="LabOffice 160:Teaching stuff:PHY255F (2007):PHY255F-2007 Lectures:Lecture 14:bobsonastringN=5j=1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2nd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2" name="LabOffice 160:Teaching stuff:PHY255F (2007):PHY255F-2007 Lectures:Lecture 14:bobsonastringN=5j=2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3rd mode, j=3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4" name="LabOffice 160:Teaching stuff:PHY255F (2007):PHY255F-2007 Lectures:Lecture 14:bobsonastringN=5j=3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4th mode, j=4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6" name="LabOffice 160:Teaching stuff:PHY255F (2007):PHY255F-2007 Lectures:Lecture 14:bobsonastringN=5j=4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highest mode, j=5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8" name="LabOffice 160:Teaching stuff:PHY255F (2007):PHY255F-2007 Lectures:Lecture 14:bobsonastringN=5j=5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2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0" name="LabOffice 160:Teaching stuff:PHY255F (2007):PHY255F-2007 Lectures:Lecture 14:bobsonastring2a'" descr=""/>
          <p:cNvPicPr/>
          <p:nvPr/>
        </p:nvPicPr>
        <p:blipFill>
          <a:blip r:embed="rId1"/>
          <a:stretch/>
        </p:blipFill>
        <p:spPr>
          <a:xfrm>
            <a:off x="-228600" y="2463840"/>
            <a:ext cx="8407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2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upper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2" name="LabOffice 160:Teaching stuff:PHY255F (2007):PHY255F-2007 Lectures:Lecture 14:bobsonastring2b'" descr=""/>
          <p:cNvPicPr/>
          <p:nvPr/>
        </p:nvPicPr>
        <p:blipFill>
          <a:blip r:embed="rId1"/>
          <a:stretch/>
        </p:blipFill>
        <p:spPr>
          <a:xfrm>
            <a:off x="-254160" y="2540160"/>
            <a:ext cx="8407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4" name="LabOffice 160:Teaching stuff:PHY255F (2007):PHY255F-2007 Lectures:Lecture 14:bobsonastring3a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middle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6" name="LabOffice 160:Teaching stuff:PHY255F (2007):PHY255F-2007 Lectures:Lecture 14:bobsonastring3b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upper mode, j=3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8" name="LabOffice 160:Teaching stuff:PHY255F (2007):PHY255F-2007 Lectures:Lecture 14:bobsonastring3c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0" name="LabOffice 160:Teaching stuff:PHY255F (2007):PHY255F-2007 Lectures:Lecture 14:bobsonastringN=5j=1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2nd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2" name="LabOffice 160:Teaching stuff:PHY255F (2007):PHY255F-2007 Lectures:Lecture 14:bobsonastringN=5j=2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3rd mode, j=3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4" name="LabOffice 160:Teaching stuff:PHY255F (2007):PHY255F-2007 Lectures:Lecture 14:bobsonastringN=5j=3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2:40:32Z</dcterms:created>
  <dc:creator>dobra chelovich</dc:creator>
  <dc:description/>
  <cp:keywords/>
  <dc:language>en-US</dc:language>
  <cp:lastModifiedBy>Robin Marjoribanks</cp:lastModifiedBy>
  <dcterms:modified xsi:type="dcterms:W3CDTF">2007-11-04T23:04:04Z</dcterms:modified>
  <cp:revision>119</cp:revision>
  <dc:subject/>
  <dc:title>Oscillations and Waves PHY255F</dc:title>
</cp:coreProperties>
</file>