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gif" ContentType="image/gif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E26-2712-46F8-BCF7-F4586BF7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s from http://www.lsbu.ac.uk/water/vibra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116-5E16-461F-B6B5-4C619EE8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3EA0-7FB2-4161-A49D-BDFF3C33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794-6705-4390-A7D1-D8676F62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31C-CCCB-4177-85C1-E99F4340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ACB3-FB17-4037-AF6E-C582BCE8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E19F-892F-4766-B714-BD6276DA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305C-636B-415E-9555-54BFA1E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5BF4-CDFC-430A-B928-9C2D8F19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F7EA-91D8-47A0-9460-63F3514D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445B-24BC-4B27-975F-5026D7E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4F44-058B-4BF8-B621-6E12847D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D8D-0A32-4C51-AB0B-DE8298F2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7F78-3A43-430F-AFBE-65CB92E2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798E-8E96-47F0-8DA2-EF16C30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3316-2D72-4A96-9DD7-F338CA3F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2861-336E-4831-8683-CBEA8A6D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E02E-08CC-4E32-A454-E2C8C68F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0C2-CC15-44E2-9805-B6CA90DF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E3F-0E00-41DD-B47F-33E5D84A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BD7-100B-4842-9E55-AF23DBB8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571-BE59-43F5-B557-93767FCD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AF0-8650-41B0-B047-B60E4CF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F18-8296-4879-B69A-6A15842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C27-D490-4FDB-906F-C4AE6DB4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994B-0446-44F9-8AE1-D1E15112F02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20C6-8865-4CDA-B344-F7D1976AD7A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Electrical-generation stations put out alternating current (AC) electricity with a frequency around 60 Hz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This current and voltage are in simple harmonic oscilla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wallplug clocks count cycles, to keep tim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the 60Hz frequency, and your clocks, drift faster and slower during the day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power companies contract to </a:t>
            </a:r>
            <a:r>
              <a:rPr b="0" i="1" lang="en-US" sz="2400" spc="-1" strike="noStrike">
                <a:solidFill>
                  <a:srgbClr val="061c62"/>
                </a:solidFill>
                <a:latin typeface="Arial"/>
              </a:rPr>
              <a:t>touch up the phase each day</a:t>
            </a:r>
            <a:r>
              <a:rPr b="0" lang="en-US" sz="2400" spc="-1" strike="noStrike">
                <a:solidFill>
                  <a:srgbClr val="061c62"/>
                </a:solidFill>
                <a:latin typeface="Arial"/>
              </a:rPr>
              <a:t> to keep the total number of cycles constant, for your clock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9" name="LabOffice 160:Teaching stuff:PHY255F (2007):PHY255F-2007 Lectures:Lecture 14:bobsonastring3c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1" name="LabOffice 160:Teaching stuff:PHY255F (2007):PHY255F-2007 Lectures:Lecture 14:bobsonastringN=5j=1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2nd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3" name="LabOffice 160:Teaching stuff:PHY255F (2007):PHY255F-2007 Lectures:Lecture 14:bobsonastringN=5j=2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3rd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5" name="LabOffice 160:Teaching stuff:PHY255F (2007):PHY255F-2007 Lectures:Lecture 14:bobsonastringN=5j=3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4th mode, j=4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7" name="LabOffice 160:Teaching stuff:PHY255F (2007):PHY255F-2007 Lectures:Lecture 14:bobsonastringN=5j=4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highest mode, j=5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9" name="LabOffice 160:Teaching stuff:PHY255F (2007):PHY255F-2007 Lectures:Lecture 14:bobsonastringN=5j=5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1" name="LabOffice 160:Teaching stuff:PHY255F (2007):PHY255F-2007 Lectures:Lecture 14:bobsonastringN=5j=1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2nd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3" name="LabOffice 160:Teaching stuff:PHY255F (2007):PHY255F-2007 Lectures:Lecture 14:bobsonastringN=5j=2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3rd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5" name="LabOffice 160:Teaching stuff:PHY255F (2007):PHY255F-2007 Lectures:Lecture 14:bobsonastringN=5j=3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4th mode, j=4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7" name="LabOffice 160:Teaching stuff:PHY255F (2007):PHY255F-2007 Lectures:Lecture 14:bobsonastringN=5j=4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612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No class on Wednesday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6480" indent="612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Professor Thywissen will lecture for me on Friday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5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highest mode, j=5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9" name="LabOffice 160:Teaching stuff:PHY255F (2007):PHY255F-2007 Lectures:Lecture 14:bobsonastringN=5j=5+gc" descr=""/>
          <p:cNvPicPr/>
          <p:nvPr/>
        </p:nvPicPr>
        <p:blipFill>
          <a:blip r:embed="rId1"/>
          <a:stretch/>
        </p:blipFill>
        <p:spPr>
          <a:xfrm>
            <a:off x="380880" y="2273400"/>
            <a:ext cx="702324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– 4 normal modes</a:t>
            </a:r>
            <a:br>
              <a:rPr sz="4400"/>
            </a:br>
            <a:r>
              <a:rPr b="0" i="1" lang="en-US" sz="2200" spc="-1" strike="noStrike">
                <a:solidFill>
                  <a:srgbClr val="061c62"/>
                </a:solidFill>
                <a:latin typeface="Geneva"/>
              </a:rPr>
              <a:t>example 1</a:t>
            </a:r>
            <a:endParaRPr b="0" lang="en-US" sz="22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1" name="LabOffice 160:Teaching stuff:PHY255F (2007):PHY255F-2007 Lectures:Lecture 16:4 modes of string mov" descr=""/>
          <p:cNvPicPr/>
          <p:nvPr/>
        </p:nvPicPr>
        <p:blipFill>
          <a:blip r:embed="rId1"/>
          <a:stretch/>
        </p:blipFill>
        <p:spPr>
          <a:xfrm>
            <a:off x="455760" y="1752480"/>
            <a:ext cx="7011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– 4 normal modes</a:t>
            </a:r>
            <a:br>
              <a:rPr sz="4400"/>
            </a:br>
            <a:r>
              <a:rPr b="0" i="1" lang="en-US" sz="2200" spc="-1" strike="noStrike">
                <a:solidFill>
                  <a:srgbClr val="061c62"/>
                </a:solidFill>
                <a:latin typeface="Geneva"/>
              </a:rPr>
              <a:t>example 2</a:t>
            </a:r>
            <a:endParaRPr b="0" lang="en-US" sz="22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3" name="LabOffice 160:Teaching stuff:PHY255F (2007):PHY255F-2007 Lectures:Lecture 16:4 modes of string mov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012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– 5 normal modes</a:t>
            </a:r>
            <a:br>
              <a:rPr sz="4400"/>
            </a:br>
            <a:r>
              <a:rPr b="0" i="1" lang="en-US" sz="2200" spc="-1" strike="noStrike">
                <a:solidFill>
                  <a:srgbClr val="061c62"/>
                </a:solidFill>
                <a:latin typeface="Geneva"/>
              </a:rPr>
              <a:t>example 3</a:t>
            </a:r>
            <a:endParaRPr b="0" lang="en-US" sz="22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5" name="LabOffice 160:Teaching stuff:PHY255F (2007):PHY255F-2007 Lectures:Lecture 16:4 modes of string mov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012080" cy="4586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95280" y="6477120"/>
            <a:ext cx="53974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scillations – 5 normal modes</a:t>
            </a:r>
            <a:br>
              <a:rPr sz="4400"/>
            </a:br>
            <a:r>
              <a:rPr b="0" i="1" lang="en-US" sz="2200" spc="-1" strike="noStrike">
                <a:solidFill>
                  <a:srgbClr val="061c62"/>
                </a:solidFill>
                <a:latin typeface="Geneva"/>
              </a:rPr>
              <a:t>example 3 – separated</a:t>
            </a:r>
            <a:endParaRPr b="0" lang="en-US" sz="22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6477120"/>
            <a:ext cx="539748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LabOffice 160:Teaching stuff:PHY255F (2007):PHY255F-2007 Lectures:Lecture 16:4 modes of string indep mov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7012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4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nging show complex oscillations</a:t>
            </a:r>
            <a:br>
              <a:rPr sz="4400"/>
            </a:br>
            <a:r>
              <a:rPr b="0" i="1" lang="en-US" sz="2400" spc="-1" strike="noStrike">
                <a:solidFill>
                  <a:srgbClr val="061c62"/>
                </a:solidFill>
                <a:latin typeface="Times New Roman"/>
              </a:rPr>
              <a:t>man’s voice</a:t>
            </a:r>
            <a:endParaRPr b="0" lang="en-US" sz="2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68738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pectrum shows many normal modes, with </a:t>
            </a:r>
            <a:r>
              <a:rPr b="0" lang="en-US" sz="4400" spc="-1" strike="noStrike">
                <a:solidFill>
                  <a:srgbClr val="061c62"/>
                </a:solidFill>
                <a:latin typeface="Symbol"/>
                <a:ea typeface="Symbol"/>
              </a:rPr>
              <a:t>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n 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= n</a:t>
            </a:r>
            <a:r>
              <a:rPr b="0" lang="en-US" sz="4400" spc="-1" strike="noStrike">
                <a:solidFill>
                  <a:srgbClr val="061c62"/>
                </a:solidFill>
                <a:latin typeface="Symbol"/>
                <a:ea typeface="Symbol"/>
              </a:rPr>
              <a:t></a:t>
            </a:r>
            <a:r>
              <a:rPr b="0" lang="en-US" sz="4400" spc="-1" strike="noStrike" baseline="-25000">
                <a:solidFill>
                  <a:srgbClr val="061c62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72388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467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How many normal modes of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vibration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 are there for the H</a:t>
            </a:r>
            <a:r>
              <a:rPr b="0" lang="en-US" sz="2800" spc="-1" strike="noStrike" baseline="-25000">
                <a:solidFill>
                  <a:srgbClr val="2d252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2d2525"/>
                </a:solidFill>
                <a:latin typeface="Times New Roman"/>
              </a:rPr>
              <a:t>0 molecule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 2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  3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  4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more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 not enough informa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352680"/>
            <a:ext cx="533520" cy="533520"/>
          </a:xfrm>
          <a:prstGeom prst="ellipse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3352680"/>
            <a:ext cx="533160" cy="533520"/>
          </a:xfrm>
          <a:prstGeom prst="ellipse">
            <a:avLst/>
          </a:prstGeom>
          <a:solidFill>
            <a:srgbClr val="d8d688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83400" y="2301840"/>
            <a:ext cx="838080" cy="838080"/>
          </a:xfrm>
          <a:prstGeom prst="ellipse">
            <a:avLst/>
          </a:prstGeom>
          <a:solidFill>
            <a:srgbClr val="f50505"/>
          </a:soli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10080" y="2971800"/>
            <a:ext cx="457200" cy="457200"/>
          </a:xfrm>
          <a:prstGeom prst="line">
            <a:avLst/>
          </a:prstGeom>
          <a:ln w="572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537240" y="2971800"/>
            <a:ext cx="457200" cy="457200"/>
          </a:xfrm>
          <a:prstGeom prst="line">
            <a:avLst/>
          </a:prstGeom>
          <a:ln w="5724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Concept Question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27428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 algn="just">
              <a:lnSpc>
                <a:spcPct val="9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Which of these pictures does 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show a normal mode of oscillation for the molecule H</a:t>
            </a:r>
            <a:r>
              <a:rPr b="0" lang="en-US" sz="2400" spc="-1" strike="noStrike" baseline="-25000">
                <a:solidFill>
                  <a:srgbClr val="2d2525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0?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2d2525"/>
                </a:solidFill>
                <a:latin typeface="TimesTen-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(i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 (ii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>
              <a:lnSpc>
                <a:spcPct val="10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 (iii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(i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9160" indent="-285480" algn="just">
              <a:lnSpc>
                <a:spcPct val="112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 only (iii) is a normal mode, all the others are not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0" y="380880"/>
            <a:ext cx="2781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[water vibration modes]"/>
          <p:cNvPicPr/>
          <p:nvPr/>
        </p:nvPicPr>
        <p:blipFill>
          <a:blip r:embed="rId1"/>
          <a:stretch/>
        </p:blipFill>
        <p:spPr>
          <a:xfrm>
            <a:off x="76320" y="1652760"/>
            <a:ext cx="7742160" cy="3551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65640" y="40176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Arial"/>
              </a:rPr>
              <a:t>Water’s vibration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1" name="LabOffice 160:Teaching stuff:PHY255F (2007):PHY255F-2007 Lectures:Lecture 14:bobsonastring2a'" descr=""/>
          <p:cNvPicPr/>
          <p:nvPr/>
        </p:nvPicPr>
        <p:blipFill>
          <a:blip r:embed="rId1"/>
          <a:stretch/>
        </p:blipFill>
        <p:spPr>
          <a:xfrm>
            <a:off x="-228600" y="246384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3" name="LabOffice 160:Teaching stuff:PHY255F (2007):PHY255F-2007 Lectures:Lecture 14:bobsonastring2b'" descr=""/>
          <p:cNvPicPr/>
          <p:nvPr/>
        </p:nvPicPr>
        <p:blipFill>
          <a:blip r:embed="rId1"/>
          <a:stretch/>
        </p:blipFill>
        <p:spPr>
          <a:xfrm>
            <a:off x="-254160" y="254016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5" name="LabOffice 160:Teaching stuff:PHY255F (2007):PHY255F-2007 Lectures:Lecture 14:bobsonastring3a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middle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7" name="LabOffice 160:Teaching stuff:PHY255F (2007):PHY255F-2007 Lectures:Lecture 14:bobsonastring3b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Robin Marjoribanks</cp:lastModifiedBy>
  <dcterms:modified xsi:type="dcterms:W3CDTF">2007-11-13T00:25:37Z</dcterms:modified>
  <cp:revision>129</cp:revision>
  <dc:subject/>
  <dc:title>Oscillations and Waves PHY255F</dc:title>
</cp:coreProperties>
</file>