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10.pct" ContentType="image/x-pict"/>
  <Override PartName="/ppt/media/image22.png" ContentType="image/pn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C35-E349-48C1-968D-DECBACCB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E97-4870-414B-BD85-AACCE5FF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831-FCF3-4A9C-B18C-512CFE75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05F-247B-4AF6-9A69-5F0144A4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86EB-DFD0-424A-8DC1-F5AB1FF3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C3DB-0FAD-4333-8D2A-FD702A07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3499-4204-46E8-93C5-E9BECFED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D830-B426-4601-BD3A-20275921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392C-BEE6-47A3-A781-389A5B5B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9343-6E4E-4407-AF76-3CD1A36D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BB1B-3411-4A0C-8832-80A6C8C9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CB6-D68A-4EF5-AD7F-003965C2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0A86-D364-470E-B9FD-5A28ECBD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48F9-DFE0-4AF3-B1E5-15A9DA87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52B2-4BA5-417D-A779-F9D32B9B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5282-ED32-4B11-97D8-3FB9AFC5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2178-4C9A-418D-9B19-351FFE04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19A-9371-4F97-B0FD-443B21E7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E45-3B05-4380-94B5-94852220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7CD-418D-4F0A-83BE-9891481F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39C-9528-4689-829D-39BEACA5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E05-B1AC-4802-913E-C43E9412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6B1-4A4F-49ED-8E8C-6DB354A3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3A7-95BB-4BF1-B9BE-89666531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BEB7-095C-49E6-84BE-3287C4618C59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277B-8EA2-4576-9C07-1F8F6A8BD244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ct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ct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ct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ought for the da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762012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hasor notation:  meaning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47" name="Lab/Office 100:Teaching stuff:PHY255F (2006):PHY255F-2006 Lectures:Lecture 2:phasor vector unique'.mov" descr=""/>
          <p:cNvPicPr/>
          <p:nvPr/>
        </p:nvPicPr>
        <p:blipFill>
          <a:blip r:embed="rId1"/>
          <a:stretch/>
        </p:blipFill>
        <p:spPr>
          <a:xfrm>
            <a:off x="2286000" y="1612800"/>
            <a:ext cx="5257800" cy="5245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x(t)=Aexp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{i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+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 baseline="-25000">
                <a:solidFill>
                  <a:srgbClr val="2d2525"/>
                </a:solidFill>
                <a:latin typeface="Times New Roman"/>
              </a:rPr>
              <a:t>o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)}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is a solution also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(t)=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+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 baseline="-25000">
                <a:solidFill>
                  <a:srgbClr val="2d2525"/>
                </a:solidFill>
                <a:latin typeface="Times New Roman"/>
              </a:rPr>
              <a:t>o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‘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otal phase’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9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scillating solu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50" name="Lab/Office 100:Teaching stuff:PHY255F (2006):PHY255F-2006 Lectures:Lecture 2:bob-2a'" descr=""/>
          <p:cNvPicPr/>
          <p:nvPr/>
        </p:nvPicPr>
        <p:blipFill>
          <a:blip r:embed="rId1"/>
          <a:stretch/>
        </p:blipFill>
        <p:spPr>
          <a:xfrm>
            <a:off x="0" y="1079640"/>
            <a:ext cx="751824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5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scillating solu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52" name="Lab/Office 100:Teaching stuff:PHY255F (2006):PHY255F-2006 Lectures:Lecture 2:bob-2'" descr=""/>
          <p:cNvPicPr/>
          <p:nvPr/>
        </p:nvPicPr>
        <p:blipFill>
          <a:blip r:embed="rId1"/>
          <a:stretch/>
        </p:blipFill>
        <p:spPr>
          <a:xfrm>
            <a:off x="0" y="1079640"/>
            <a:ext cx="751824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1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nection to linear algebr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81080"/>
            <a:ext cx="7620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recall, for a vector space: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members of the vector space 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ny linear combination a</a:t>
            </a:r>
            <a:r>
              <a:rPr b="0" i="1" lang="en-US" sz="6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+ b</a:t>
            </a:r>
            <a:r>
              <a:rPr b="0" i="1" lang="en-US" sz="6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is </a:t>
            </a:r>
            <a:r>
              <a:rPr b="0" i="1" lang="en-US" sz="2800" spc="-1" strike="noStrike" u="sng">
                <a:solidFill>
                  <a:srgbClr val="2d2525"/>
                </a:solidFill>
                <a:uFillTx/>
                <a:latin typeface="Times New Roman"/>
              </a:rPr>
              <a:t>also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a member of the vector space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eory of ordinary differential equations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olutions of an ODE form a vector space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(vectors are </a:t>
            </a:r>
            <a:r>
              <a:rPr b="0" i="1" lang="en-US" sz="2800" spc="-1" strike="noStrike" u="sng">
                <a:solidFill>
                  <a:srgbClr val="2d2525"/>
                </a:solidFill>
                <a:uFillTx/>
                <a:latin typeface="Times New Roman"/>
              </a:rPr>
              <a:t>functions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here)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2nd order ODE 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2-dimensional vector space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Vector space connection ...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828800"/>
            <a:ext cx="76201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our equation 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s a second-order ODE 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wo dimensional vector space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our basis can be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{cos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), sin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)}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ll linear combinations are solutions, i.e., Acos(</a:t>
            </a:r>
            <a:r>
              <a:rPr b="0" i="1" lang="en-US" sz="32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) + Bsin(</a:t>
            </a:r>
            <a:r>
              <a:rPr b="0" i="1" lang="en-US" sz="32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)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14600"/>
            <a:ext cx="3352680" cy="83808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51040" y="2679840"/>
          <a:ext cx="257796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2679840"/>
                    <a:ext cx="25779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Vector space connection ...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1905120"/>
            <a:ext cx="76201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hat about Asin</a:t>
            </a:r>
            <a:r>
              <a:rPr b="0" lang="en-US" sz="32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+</a:t>
            </a:r>
            <a:r>
              <a:rPr b="0" i="1" lang="en-US" sz="32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i="1" lang="en-US" sz="3200" spc="-1" strike="noStrike" baseline="-25000">
                <a:solidFill>
                  <a:srgbClr val="2d2525"/>
                </a:solidFill>
                <a:latin typeface="Symbol"/>
                <a:ea typeface="Symbol"/>
              </a:rPr>
              <a:t></a:t>
            </a:r>
            <a:r>
              <a:rPr b="0" lang="en-US" sz="3200" spc="-1" strike="noStrike">
                <a:solidFill>
                  <a:srgbClr val="2d2525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sin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+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 baseline="-25000">
                <a:solidFill>
                  <a:srgbClr val="2d2525"/>
                </a:solidFill>
                <a:latin typeface="Symbol"/>
                <a:ea typeface="Symbol"/>
              </a:rPr>
              <a:t>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in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cos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 baseline="-25000">
                <a:solidFill>
                  <a:srgbClr val="2d2525"/>
                </a:solidFill>
                <a:latin typeface="Symbol"/>
                <a:ea typeface="Symbol"/>
              </a:rPr>
              <a:t>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cos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in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 baseline="-25000">
                <a:solidFill>
                  <a:srgbClr val="2d2525"/>
                </a:solidFill>
                <a:latin typeface="Symbol"/>
                <a:ea typeface="Symbol"/>
              </a:rPr>
              <a:t>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cos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 baseline="-25000">
                <a:solidFill>
                  <a:srgbClr val="2d2525"/>
                </a:solidFill>
                <a:latin typeface="Symbol"/>
                <a:ea typeface="Symbol"/>
              </a:rPr>
              <a:t>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) •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in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sin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 baseline="-25000">
                <a:solidFill>
                  <a:srgbClr val="2d2525"/>
                </a:solidFill>
                <a:latin typeface="Symbol"/>
                <a:ea typeface="Symbol"/>
              </a:rPr>
              <a:t>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)•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cos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'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in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' tan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 baseline="-25000">
                <a:solidFill>
                  <a:srgbClr val="2d2525"/>
                </a:solidFill>
                <a:latin typeface="Symbol"/>
                <a:ea typeface="Symbol"/>
              </a:rPr>
              <a:t>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)•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cos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'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in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B' cos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o Asin</a:t>
            </a:r>
            <a:r>
              <a:rPr b="0" lang="en-US" sz="32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+</a:t>
            </a:r>
            <a:r>
              <a:rPr b="0" i="1" lang="en-US" sz="32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i="1" lang="en-US" sz="3200" spc="-1" strike="noStrike" baseline="-25000">
                <a:solidFill>
                  <a:srgbClr val="2d2525"/>
                </a:solidFill>
                <a:latin typeface="Symbol"/>
                <a:ea typeface="Symbol"/>
              </a:rPr>
              <a:t></a:t>
            </a:r>
            <a:r>
              <a:rPr b="0" lang="en-US" sz="3200" spc="-1" strike="noStrike">
                <a:solidFill>
                  <a:srgbClr val="2d2525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gives </a:t>
            </a:r>
            <a:r>
              <a:rPr b="0" i="1" lang="en-US" sz="3200" spc="-1" strike="noStrike" u="sng">
                <a:solidFill>
                  <a:srgbClr val="2d2525"/>
                </a:solidFill>
                <a:uFillTx/>
                <a:latin typeface="Times New Roman"/>
              </a:rPr>
              <a:t>all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linear combinations of basis solutions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… </a:t>
            </a:r>
            <a:r>
              <a:rPr b="1" i="1" lang="en-US" sz="3200" spc="-1" strike="noStrike" u="sng">
                <a:solidFill>
                  <a:srgbClr val="2d2525"/>
                </a:solidFill>
                <a:uFillTx/>
                <a:latin typeface="Times New Roman"/>
              </a:rPr>
              <a:t>spans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the space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dding oscilla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dding two scalar oscilla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6380280" cy="4938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270160" y="1828800"/>
            <a:ext cx="13111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2d2525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2d2525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=6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dding two scalar oscilla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6379920" cy="4938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133720" y="1981080"/>
            <a:ext cx="13111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2d2525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=11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2d2525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=12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dding two scalar oscilla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1919160"/>
            <a:ext cx="6379920" cy="4938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09680" y="1981080"/>
            <a:ext cx="131148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2d2525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=11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2d2525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=11.5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roblem Set #1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ill go out by email today to all registered email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ill be posted on website: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www.physics.utoronto.ca/~phy255/OscWav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due Wednesday 3 October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dependent oscilla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onsider two oscillations of one objec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independent of each othe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perpendicular in spac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llow the net motio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'resultant' or vector sum of two displacement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leads to 'Lissajous Figures'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esp. if different stiffness in each direction (different frequencies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generalize past (x,y), e.g., to (y,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)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Lissajous Figur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320" y="1447920"/>
            <a:ext cx="7543800" cy="53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tudy group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o find others wanting to form study groups, send me an email EXACTLY LIKE THIS: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ubject:  ABC PHY255 study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no content in the body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’ll send out an email tomorrow to those people, with all people’s addresses in the To: field (in the clear)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lements of an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need inertia, or its equivalent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mass, for linear motion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moment of inertia, for rotational motion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nductance, e.g., for electrical circuit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need a displacement, or its equivalent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amplitude (position, voltage, pressure, etc.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need a negative feedback to counter inertia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displacement-dependent restoring force:  spring, gravity, etc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electrical potential restoring charge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ooke’s Law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restoring force proportional to displacement from equilibrium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4749840"/>
            <a:ext cx="4203720" cy="1193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19320" y="3573360"/>
            <a:ext cx="483876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600200" y="3581280"/>
          <a:ext cx="170172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581280"/>
                    <a:ext cx="17017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429000" y="1778040"/>
            <a:ext cx="4114800" cy="213372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scillation of mass on spring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4191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x(t) is a function describing the oscillatio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hat function gives itself back after twice differentiated, with negative constant?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os(at), sin(at) both do work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exp(at) looks like it </a:t>
            </a:r>
            <a:r>
              <a:rPr b="0" i="1" lang="en-US" sz="3200" spc="-1" strike="noStrike" u="sng">
                <a:solidFill>
                  <a:srgbClr val="2d2525"/>
                </a:solidFill>
                <a:uFillTx/>
                <a:latin typeface="Times New Roman"/>
              </a:rPr>
              <a:t>ought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to work..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733920" y="1879560"/>
          <a:ext cx="224784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879560"/>
                    <a:ext cx="2247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733920" y="2590920"/>
          <a:ext cx="346716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590920"/>
                    <a:ext cx="34671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733920" y="3314880"/>
          <a:ext cx="2577960" cy="44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3314880"/>
                    <a:ext cx="25779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-99000" y="1828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Lucida Grande"/>
              </a:rPr>
              <a:t>restoring forc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64160" y="25909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Lucida Grande"/>
              </a:rPr>
              <a:t>inertial forc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47880" y="33526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Lucida Grande"/>
              </a:rPr>
              <a:t>equation of mo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1752480"/>
            <a:ext cx="7315200" cy="243864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scillation of mass on spring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45716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= (k/m)</a:t>
            </a:r>
            <a:r>
              <a:rPr b="0" i="1" lang="en-US" sz="3200" spc="-1" strike="noStrike" baseline="30000">
                <a:solidFill>
                  <a:srgbClr val="2d2525"/>
                </a:solidFill>
                <a:latin typeface="Times New Roman"/>
              </a:rPr>
              <a:t>1/2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 frequency determined by ratio of </a:t>
            </a:r>
            <a:r>
              <a:rPr b="0" i="1" lang="en-US" sz="3200" spc="-1" strike="noStrike" u="sng">
                <a:solidFill>
                  <a:srgbClr val="2d2525"/>
                </a:solidFill>
                <a:uFillTx/>
                <a:latin typeface="Times New Roman"/>
              </a:rPr>
              <a:t>spring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and </a:t>
            </a:r>
            <a:r>
              <a:rPr b="0" i="1" lang="en-US" sz="3200" spc="-1" strike="noStrike" u="sng">
                <a:solidFill>
                  <a:srgbClr val="2d2525"/>
                </a:solidFill>
                <a:uFillTx/>
                <a:latin typeface="Times New Roman"/>
              </a:rPr>
              <a:t>inertial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force-constant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os(</a:t>
            </a:r>
            <a:r>
              <a:rPr b="0" i="1" lang="en-US" sz="32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+</a:t>
            </a:r>
            <a:r>
              <a:rPr b="0" i="1" lang="en-US" sz="32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i="1" lang="en-US" sz="3200" spc="-1" strike="noStrike" baseline="-25000">
                <a:solidFill>
                  <a:srgbClr val="2d2525"/>
                </a:solidFill>
                <a:latin typeface="Times New Roman"/>
              </a:rPr>
              <a:t>o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) is similar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371600" y="1841400"/>
          <a:ext cx="25779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41400"/>
                    <a:ext cx="2577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171880" y="2438280"/>
          <a:ext cx="331452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438280"/>
                    <a:ext cx="331452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82480" y="2838600"/>
          <a:ext cx="715176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2480" y="2838600"/>
                    <a:ext cx="71517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270080" y="3606840"/>
          <a:ext cx="2019240" cy="58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0080" y="3606840"/>
                    <a:ext cx="20192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143000" y="2362320"/>
            <a:ext cx="96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d2525"/>
                </a:solidFill>
                <a:uFillTx/>
                <a:latin typeface="Times New Roman"/>
              </a:rPr>
              <a:t>try: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1752480"/>
            <a:ext cx="7315200" cy="373392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hasor nota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58672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us </a:t>
            </a:r>
            <a:r>
              <a:rPr b="0" i="1" lang="en-US" sz="3200" spc="-1" strike="noStrike">
                <a:solidFill>
                  <a:srgbClr val="d91a34"/>
                </a:solidFill>
                <a:latin typeface="Times New Roman"/>
              </a:rPr>
              <a:t>x(t)=Aexp{i(</a:t>
            </a:r>
            <a:r>
              <a:rPr b="0" i="1" lang="en-US" sz="3200" spc="-1" strike="noStrike">
                <a:solidFill>
                  <a:srgbClr val="d91a34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d91a34"/>
                </a:solidFill>
                <a:latin typeface="Times New Roman"/>
              </a:rPr>
              <a:t>t+</a:t>
            </a:r>
            <a:r>
              <a:rPr b="0" i="1" lang="en-US" sz="3200" spc="-1" strike="noStrike">
                <a:solidFill>
                  <a:srgbClr val="d91a34"/>
                </a:solidFill>
                <a:latin typeface="Symbol"/>
                <a:ea typeface="Symbol"/>
              </a:rPr>
              <a:t></a:t>
            </a:r>
            <a:r>
              <a:rPr b="0" i="1" lang="en-US" sz="3200" spc="-1" strike="noStrike" baseline="-25000">
                <a:solidFill>
                  <a:srgbClr val="d91a34"/>
                </a:solidFill>
                <a:latin typeface="Times New Roman"/>
              </a:rPr>
              <a:t>o</a:t>
            </a:r>
            <a:r>
              <a:rPr b="0" i="1" lang="en-US" sz="3200" spc="-1" strike="noStrike">
                <a:solidFill>
                  <a:srgbClr val="d91a34"/>
                </a:solidFill>
                <a:latin typeface="Times New Roman"/>
              </a:rPr>
              <a:t>)}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is a solution also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62120" y="2006640"/>
          <a:ext cx="25779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06640"/>
                    <a:ext cx="2577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62120" y="3987720"/>
          <a:ext cx="22222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987720"/>
                    <a:ext cx="2222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936720" y="2590920"/>
            <a:ext cx="96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d2525"/>
                </a:solidFill>
                <a:uFillTx/>
                <a:latin typeface="Times New Roman"/>
              </a:rPr>
              <a:t>try: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4711680"/>
          <a:ext cx="599580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711680"/>
                    <a:ext cx="59958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704880" y="3098880"/>
          <a:ext cx="707544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4880" y="3098880"/>
                    <a:ext cx="70754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057400" y="2647800"/>
          <a:ext cx="3441600" cy="48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2647800"/>
                    <a:ext cx="34416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2895480"/>
            <a:ext cx="7315200" cy="99072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hasor notation – connec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x(t)=Acos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+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 baseline="-25000">
                <a:solidFill>
                  <a:srgbClr val="2d2525"/>
                </a:solidFill>
                <a:latin typeface="Times New Roman"/>
              </a:rPr>
              <a:t>o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) &amp; x(t)=Asin(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+</a:t>
            </a:r>
            <a:r>
              <a:rPr b="0" i="1" lang="en-US" sz="28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 baseline="-25000">
                <a:solidFill>
                  <a:srgbClr val="2d2525"/>
                </a:solidFill>
                <a:latin typeface="Times New Roman"/>
              </a:rPr>
              <a:t>o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) are sol’n 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x(t)=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exp{i(</a:t>
            </a:r>
            <a:r>
              <a:rPr b="0" i="1" lang="en-US" sz="3200" spc="-1" strike="noStrike">
                <a:solidFill>
                  <a:srgbClr val="2d2525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+</a:t>
            </a:r>
            <a:r>
              <a:rPr b="0" i="1" lang="en-US" sz="32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i="1" lang="en-US" sz="3200" spc="-1" strike="noStrike" baseline="-25000">
                <a:solidFill>
                  <a:srgbClr val="2d2525"/>
                </a:solidFill>
                <a:latin typeface="Times New Roman"/>
              </a:rPr>
              <a:t>o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)}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is a solution also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90720" y="2819520"/>
          <a:ext cx="60595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60595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28600" y="3962520"/>
            <a:ext cx="7620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Real and imaginary parts here are linearly independent — we have </a:t>
            </a:r>
            <a:r>
              <a:rPr b="0" i="1" lang="en-US" sz="3200" spc="-1" strike="noStrike" u="sng">
                <a:solidFill>
                  <a:srgbClr val="2d2525"/>
                </a:solidFill>
                <a:uFillTx/>
                <a:latin typeface="Times New Roman"/>
              </a:rPr>
              <a:t>two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solutions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nce we used </a:t>
            </a:r>
            <a:r>
              <a:rPr b="0" i="1" lang="en-US" sz="3200" spc="-1" strike="noStrike">
                <a:solidFill>
                  <a:srgbClr val="2d2525"/>
                </a:solidFill>
                <a:latin typeface="Symbol"/>
                <a:ea typeface="Symbol"/>
              </a:rPr>
              <a:t>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, these are redundant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e can elect to use the real part, but just write the phasor, dropping the “Re[...]”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in Marjoribanks</cp:lastModifiedBy>
  <dcterms:modified xsi:type="dcterms:W3CDTF">2007-09-19T03:15:47Z</dcterms:modified>
  <cp:revision>6</cp:revision>
  <dc:subject/>
  <dc:title>thought for the day</dc:title>
</cp:coreProperties>
</file>