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5.pct" ContentType="image/x-pict"/>
  <Override PartName="/ppt/media/image28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1.png" ContentType="image/png"/>
  <Override PartName="/ppt/media/image12.pct" ContentType="image/x-pict"/>
  <Override PartName="/ppt/media/image18.pct" ContentType="image/x-pict"/>
  <Override PartName="/ppt/media/image20.pct" ContentType="image/x-pict"/>
  <Override PartName="/ppt/media/image7.png" ContentType="image/png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.pct" ContentType="image/x-pict"/>
  <Override PartName="/ppt/media/image25.pct" ContentType="image/x-pict"/>
  <Override PartName="/ppt/media/image14.pct" ContentType="image/x-pict"/>
  <Override PartName="/ppt/media/image15.pct" ContentType="image/x-pict"/>
  <Override PartName="/ppt/media/image16.pct" ContentType="image/x-pict"/>
  <Override PartName="/ppt/media/image17.pct" ContentType="image/x-pict"/>
  <Override PartName="/ppt/media/image19.pct" ContentType="image/x-pict"/>
  <Override PartName="/ppt/media/image21.pct" ContentType="image/x-pict"/>
  <Override PartName="/ppt/media/image2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5A0-27B5-4ED1-B3D1-F2466A20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55B-C51E-4129-AE59-48FAB065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C89-C22F-47A9-9E5B-2F345FB0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3CF-639D-492A-A40F-898EA170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30A6-D602-42EE-AA56-0B2456E5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88DB-712E-45EC-B8F1-0A77B5A6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A060-1660-4861-9B4D-BBECF03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9CBF-D784-4CC1-9B41-042D09BC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7E0A-7DC8-4CD9-AD8B-14875C85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160F-9764-4836-91BC-4CA38B3D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4269-FE3B-484F-BF13-590BEED6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A49-00A6-4273-BF56-4252F485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FD3D-2FA0-4576-9DB0-254B037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42FE-5202-402D-BDFF-55DAB84D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F414-5242-4822-B80E-03607B99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7B11-A80F-4E0B-A1E1-8FB26AF9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5FFD-E588-4B2E-9FE9-040913DF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DCE-494F-446D-AED1-88DD4E85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453-F7C4-43A8-80AA-240401BF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AE6-0133-4B11-8786-2FC11BFE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589-477C-43C2-BFCE-407839B6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97D-F88B-47FC-926B-77286898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D83-E220-4899-9703-D1FF2F16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142-2ABA-469B-8E70-183FABA6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035A-9225-433E-B14F-0A166A964A5B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C1F8-93D3-4AA5-A153-C0DF43DCB879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ct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ct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ct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pct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dea for the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2240" y="181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7620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scillations of a bridg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3" name="Lab/Office 60:Teaching stuff:PHY255F (2004):PHY255F-2004 Lectures:Lecture 0:TacomaNarrowsBridge2.mpg" descr=""/>
          <p:cNvPicPr/>
          <p:nvPr/>
        </p:nvPicPr>
        <p:blipFill>
          <a:blip r:embed="rId1"/>
          <a:stretch/>
        </p:blipFill>
        <p:spPr>
          <a:xfrm>
            <a:off x="0" y="747720"/>
            <a:ext cx="814536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0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88840" y="3352680"/>
          <a:ext cx="62438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3352680"/>
                    <a:ext cx="6243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236600" y="1600200"/>
          <a:ext cx="58564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6600" y="1600200"/>
                    <a:ext cx="5856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160640" y="4110120"/>
          <a:ext cx="5227560" cy="26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0640" y="4110120"/>
                    <a:ext cx="522756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270080" y="2133720"/>
          <a:ext cx="528948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0080" y="2133720"/>
                    <a:ext cx="5289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85800" y="2743200"/>
          <a:ext cx="281628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2743200"/>
                    <a:ext cx="2816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30160" y="1739880"/>
          <a:ext cx="455148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739880"/>
                    <a:ext cx="45514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93840" y="4519440"/>
          <a:ext cx="7243560" cy="18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40" y="4519440"/>
                    <a:ext cx="72435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81040" y="1496880"/>
          <a:ext cx="681048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496880"/>
                    <a:ext cx="681048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09480" y="1676520"/>
          <a:ext cx="6602400" cy="37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660240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cap of last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1676520"/>
            <a:ext cx="6019920" cy="29718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dding dampin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487656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ry our phasor notation to see if there’s a good solu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09760" y="1758960"/>
          <a:ext cx="31622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758960"/>
                    <a:ext cx="3162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84200" y="2438280"/>
          <a:ext cx="295920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4200" y="2438280"/>
                    <a:ext cx="29592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371600" y="3873600"/>
          <a:ext cx="555156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73600"/>
                    <a:ext cx="55515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384200" y="3137040"/>
          <a:ext cx="349272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84200" y="3137040"/>
                    <a:ext cx="34927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6553080" y="57913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22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752480"/>
            <a:ext cx="7315200" cy="381024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mped Oscillation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f mass on sprin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57150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has two solutions except for square root=0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behaviour depends on this 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discriminan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2362320"/>
          <a:ext cx="6929280" cy="84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69292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919080" y="1890720"/>
          <a:ext cx="467856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1890720"/>
                    <a:ext cx="46785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62120" y="2971800"/>
          <a:ext cx="3952800" cy="8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971800"/>
                    <a:ext cx="395280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77960" y="3809880"/>
          <a:ext cx="5241960" cy="168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960" y="3809880"/>
                    <a:ext cx="52419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752480"/>
            <a:ext cx="7315200" cy="48006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mped oscillation:  Cas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905120"/>
            <a:ext cx="7010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)  overdamped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eal roots, solutions grow/di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2514600"/>
          <a:ext cx="146196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14619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095640" y="2666880"/>
          <a:ext cx="335772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2666880"/>
                    <a:ext cx="3357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14400" y="4114800"/>
          <a:ext cx="146196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114800"/>
                    <a:ext cx="14619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914400" y="5715000"/>
          <a:ext cx="1461960" cy="73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5715000"/>
                    <a:ext cx="14619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933640" y="5867280"/>
          <a:ext cx="3527640" cy="64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33640" y="5867280"/>
                    <a:ext cx="35276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171960" y="4495680"/>
          <a:ext cx="156348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71960" y="4495680"/>
                    <a:ext cx="15634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0880" y="358128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i) critically damped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‘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double’ roots, solutions grow then di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1055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ii) underdamped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eal roots, solutions oscillate &amp; di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mped oscill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plotted as two lines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50505"/>
                </a:solidFill>
                <a:latin typeface="Times New Roman"/>
              </a:rPr>
              <a:t>x=x(t)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1822cd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v=m</a:t>
            </a:r>
            <a:r>
              <a:rPr b="0" i="1" lang="en-US" sz="1400" spc="-1" strike="noStrike">
                <a:solidFill>
                  <a:srgbClr val="1822cd"/>
                </a:solidFill>
                <a:latin typeface="Palatino"/>
              </a:rPr>
              <a:t>•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v(t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6413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plotted as one line in two dimensions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50505"/>
                </a:solidFill>
                <a:latin typeface="Times New Roman"/>
              </a:rPr>
              <a:t>x(t)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m</a:t>
            </a:r>
            <a:r>
              <a:rPr b="0" i="1" lang="en-US" sz="1400" spc="-1" strike="noStrike">
                <a:solidFill>
                  <a:srgbClr val="1822cd"/>
                </a:solidFill>
                <a:latin typeface="Palatino"/>
              </a:rPr>
              <a:t>•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v(t)</a:t>
            </a:r>
            <a:r>
              <a:rPr b="0" i="1" lang="en-US" sz="3200" spc="-1" strike="noStrike">
                <a:solidFill>
                  <a:srgbClr val="2d2525"/>
                </a:solidFill>
                <a:latin typeface="Palatino"/>
              </a:rPr>
              <a:t>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mped oscill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1295280"/>
            <a:ext cx="739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normalize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plotted as one line in two dimensions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50505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50505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f50505"/>
                </a:solidFill>
                <a:latin typeface="Times New Roman"/>
              </a:rPr>
              <a:t>x(t)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m</a:t>
            </a:r>
            <a:r>
              <a:rPr b="0" i="1" lang="en-US" sz="1400" spc="-1" strike="noStrike">
                <a:solidFill>
                  <a:srgbClr val="1822cd"/>
                </a:solidFill>
                <a:latin typeface="Palatino"/>
              </a:rPr>
              <a:t>•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v(t)</a:t>
            </a:r>
            <a:r>
              <a:rPr b="0" i="1" lang="en-US" sz="3200" spc="-1" strike="noStrike">
                <a:solidFill>
                  <a:srgbClr val="2d2525"/>
                </a:solidFill>
                <a:latin typeface="Palatino"/>
              </a:rPr>
              <a:t>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mped oscill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54230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nimated phase-space plo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1" name="Lab/Office 100:Teaching stuff:PHY255F (2005):PHY255F-2005 Lectures:Lecture 7:damped phase space norm'.mov" descr=""/>
          <p:cNvPicPr/>
          <p:nvPr/>
        </p:nvPicPr>
        <p:blipFill>
          <a:blip r:embed="rId1"/>
          <a:stretch/>
        </p:blipFill>
        <p:spPr>
          <a:xfrm>
            <a:off x="0" y="914400"/>
            <a:ext cx="7975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in Marjoribanks</cp:lastModifiedBy>
  <dcterms:modified xsi:type="dcterms:W3CDTF">2007-10-04T03:22:03Z</dcterms:modified>
  <cp:revision>9</cp:revision>
  <dc:subject/>
  <dc:title>Idea for the day</dc:title>
</cp:coreProperties>
</file>