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5.pct" ContentType="image/x-pict"/>
  <Override PartName="/ppt/media/image28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1.png" ContentType="image/png"/>
  <Override PartName="/ppt/media/image12.pct" ContentType="image/x-pict"/>
  <Override PartName="/ppt/media/image18.pct" ContentType="image/x-pict"/>
  <Override PartName="/ppt/media/image20.pct" ContentType="image/x-pict"/>
  <Override PartName="/ppt/media/image7.png" ContentType="image/png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9.pct" ContentType="image/x-pict"/>
  <Override PartName="/ppt/media/image2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C03-9B9E-4702-B692-29BC0396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315-32FA-456E-82A9-4202D71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7DE-F172-4C3F-B5AF-3EC97AC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E8D-05E4-4DE3-A767-10CF35B0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547-402D-44D7-B437-3C5F4582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305-DDE4-4716-906E-2B73060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855-3865-40B2-838B-95C46152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7BA1-A247-4765-8CFF-0CEA3045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70C6-181F-4ABD-BCC5-6520E9D7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FB5-AAA7-4B18-9788-042E8FB7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AE5-8F30-4F1F-B06A-CA7CFB4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F33-B7D4-4AFB-843C-8E17801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970-E879-4703-A102-7091413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2DF0-737F-4270-8C67-52E118F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913-4F40-416D-B906-40851BC4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33C9-CDFD-4BB1-8F06-4CB44A22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29AD-691B-451C-B6FB-F9DE8534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11E-3BA7-43B2-B849-54078C62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F8D-2D23-4A7F-9149-38931FB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D3D-BA48-4AA1-ABCE-0AB3FD40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1B6-60AE-40AB-A783-2409F96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28B-4E35-42C0-BAD2-35A5363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FBB-4BA1-40AE-B75C-D9E6689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688-758E-4229-B5DC-6F8499A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9010-0619-4093-B960-8D405303178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051E-5F98-4085-ACAD-13D5D8B34AE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ct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ct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ct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 – </a:t>
            </a:r>
            <a:br>
              <a:rPr sz="4400"/>
            </a:br>
            <a:r>
              <a:rPr b="0" i="1" lang="en-US" sz="2800" spc="-1" strike="noStrike">
                <a:solidFill>
                  <a:srgbClr val="061c62"/>
                </a:solidFill>
                <a:latin typeface="Times New Roman"/>
              </a:rPr>
              <a:t>what our pets are up to while we’re here in class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0866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739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ormalize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lotted as one line in two dimension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50505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x(t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m</a:t>
            </a:r>
            <a:r>
              <a:rPr b="0" i="1" lang="en-US" sz="1400" spc="-1" strike="noStrike">
                <a:solidFill>
                  <a:srgbClr val="1822cd"/>
                </a:solidFill>
                <a:latin typeface="Palatino"/>
              </a:rPr>
              <a:t>•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(t)</a:t>
            </a:r>
            <a:r>
              <a:rPr b="0" i="1" lang="en-US" sz="3200" spc="-1" strike="noStrike">
                <a:solidFill>
                  <a:srgbClr val="2d2525"/>
                </a:solidFill>
                <a:latin typeface="Palatino"/>
              </a:rPr>
              <a:t>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4230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imated phase-space plo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6" name="Lab/Office 100:Teaching stuff:PHY255F (2005):PHY255F-2005 Lectures:Lecture 7:damped phase space norm'.mov" descr=""/>
          <p:cNvPicPr/>
          <p:nvPr/>
        </p:nvPicPr>
        <p:blipFill>
          <a:blip r:embed="rId1"/>
          <a:stretch/>
        </p:blipFill>
        <p:spPr>
          <a:xfrm>
            <a:off x="0" y="914400"/>
            <a:ext cx="7975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of a bridg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8" name="Lab/Office 60:Teaching stuff:PHY255F (2004):PHY255F-2004 Lectures:Lecture 0:TacomaNarrowsBridge2.mpg" descr=""/>
          <p:cNvPicPr/>
          <p:nvPr/>
        </p:nvPicPr>
        <p:blipFill>
          <a:blip r:embed="rId1"/>
          <a:stretch/>
        </p:blipFill>
        <p:spPr>
          <a:xfrm>
            <a:off x="0" y="747720"/>
            <a:ext cx="814536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88840" y="3352680"/>
          <a:ext cx="62438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3352680"/>
                    <a:ext cx="6243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236600" y="1600200"/>
          <a:ext cx="5856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600200"/>
                    <a:ext cx="5856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60640" y="4110120"/>
          <a:ext cx="5227560" cy="26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0640" y="4110120"/>
                    <a:ext cx="522756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270080" y="2133720"/>
          <a:ext cx="52894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0080" y="2133720"/>
                    <a:ext cx="528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5800" y="2743200"/>
          <a:ext cx="281628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743200"/>
                    <a:ext cx="281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0160" y="1739880"/>
          <a:ext cx="455148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739880"/>
                    <a:ext cx="4551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93840" y="4519440"/>
          <a:ext cx="724356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40" y="4519440"/>
                    <a:ext cx="72435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81040" y="1496880"/>
          <a:ext cx="68104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496880"/>
                    <a:ext cx="68104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919160"/>
          <a:ext cx="462132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19160"/>
                    <a:ext cx="462132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cap of last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676520"/>
            <a:ext cx="6019920" cy="29718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dding damp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48765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ry our phasor notation to see if there’s a good solu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09760" y="1758960"/>
          <a:ext cx="3162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758960"/>
                    <a:ext cx="3162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84200" y="2438280"/>
          <a:ext cx="295920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4200" y="2438280"/>
                    <a:ext cx="2959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371600" y="3873600"/>
          <a:ext cx="555156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73600"/>
                    <a:ext cx="5551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384200" y="3137040"/>
          <a:ext cx="349272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84200" y="3137040"/>
                    <a:ext cx="349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553080" y="5791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22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752480"/>
            <a:ext cx="7315200" cy="381024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f mass on spr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57150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has two solutions except for square root=0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behaviour depends on this 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discriminan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2362320"/>
          <a:ext cx="692928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69292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919080" y="1890720"/>
          <a:ext cx="467856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1890720"/>
                    <a:ext cx="46785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62120" y="2971800"/>
          <a:ext cx="395280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971800"/>
                    <a:ext cx="39528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77960" y="3809880"/>
          <a:ext cx="5241960" cy="16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960" y="3809880"/>
                    <a:ext cx="52419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752480"/>
            <a:ext cx="7315200" cy="48006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:  Cas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905120"/>
            <a:ext cx="7010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)  overdampe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eal roots, solutions grow/di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2514600"/>
          <a:ext cx="146196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14619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95640" y="2666880"/>
          <a:ext cx="33577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2666880"/>
                    <a:ext cx="3357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914400" y="4114800"/>
          <a:ext cx="146196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114800"/>
                    <a:ext cx="14619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5715000"/>
          <a:ext cx="1461960" cy="7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5715000"/>
                    <a:ext cx="14619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933640" y="5867280"/>
          <a:ext cx="3527640" cy="64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3640" y="5867280"/>
                    <a:ext cx="3527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71960" y="4495680"/>
          <a:ext cx="156348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1960" y="4495680"/>
                    <a:ext cx="15634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80880" y="35812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i) critically dampe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‘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double’ roots, solutions grow then di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1055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ii) underdampe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eal roots, solutions oscillate &amp; di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creasing damping to critic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1" name="Lab/Office 100:Teaching stuff:PHY255F (2007):PHY255F-2007 Lectures:Lecture 8:damped SHO slider movie slo'.mov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7875720" cy="4483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oscillation period increas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xponential amplitude decays faster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creasing damping to critic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4" name="Lab/Office 100:Teaching stuff:PHY255F (2007):PHY255F-2007 Lectures:Lecture 8:damped SHO slider w env-movie'.mov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7875720" cy="4483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oscillation period increas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xponential envelope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(blue)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 decays faster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lotted as two line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x=x(t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1822cd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=m</a:t>
            </a:r>
            <a:r>
              <a:rPr b="0" i="1" lang="en-US" sz="1400" spc="-1" strike="noStrike">
                <a:solidFill>
                  <a:srgbClr val="1822cd"/>
                </a:solidFill>
                <a:latin typeface="Palatino"/>
              </a:rPr>
              <a:t>•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(t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6413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lotted as one line in two dimension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50505"/>
                </a:solidFill>
                <a:latin typeface="Times New Roman"/>
              </a:rPr>
              <a:t>x(t)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m</a:t>
            </a:r>
            <a:r>
              <a:rPr b="0" i="1" lang="en-US" sz="1400" spc="-1" strike="noStrike">
                <a:solidFill>
                  <a:srgbClr val="1822cd"/>
                </a:solidFill>
                <a:latin typeface="Palatino"/>
              </a:rPr>
              <a:t>•</a:t>
            </a:r>
            <a:r>
              <a:rPr b="0" i="1" lang="en-US" sz="3200" spc="-1" strike="noStrike">
                <a:solidFill>
                  <a:srgbClr val="1822cd"/>
                </a:solidFill>
                <a:latin typeface="Palatino"/>
              </a:rPr>
              <a:t>v(t)</a:t>
            </a:r>
            <a:r>
              <a:rPr b="0" i="1" lang="en-US" sz="3200" spc="-1" strike="noStrike">
                <a:solidFill>
                  <a:srgbClr val="2d2525"/>
                </a:solidFill>
                <a:latin typeface="Palatino"/>
              </a:rPr>
              <a:t>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amped oscill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rrester Paul</cp:lastModifiedBy>
  <dcterms:modified xsi:type="dcterms:W3CDTF">2007-10-12T14:00:07Z</dcterms:modified>
  <cp:revision>12</cp:revision>
  <dc:subject/>
  <dc:title>Idea for the day</dc:title>
</cp:coreProperties>
</file>