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82C6-C94E-4CB8-8F58-DC3FE5E9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E933-E5B0-4DD8-BE15-6A8E10A0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797E-C3FD-4945-8080-3A9197F3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87C9-7DD0-4155-BA51-5448AED9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B36B-1060-4834-BCB0-1CEBEF79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482E-B9C8-4FA3-B13B-A217CD10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9B3B-55EE-4856-8CC6-4149DD52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8BE6-86C7-4A31-A40D-13A4379C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138A-6BE0-40FA-AF44-1A0EEA15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7C20-34AA-4A53-9288-C71061D6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73B0-BD5D-4DD4-A507-087EACD2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7DF2-5540-440F-9F20-C77B2243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A7C2-F3DD-413A-9BD5-5558E46E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B469-135D-464D-B90B-3C6508BE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7D94-BE40-46A8-A435-075A26A0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5230-FFB3-4B7A-81A9-1619844B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A257-05F8-43E6-8A66-94159499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E6E3-35AD-431A-BEB4-8156052B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A791-7698-4A58-B0E9-0289162D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3463-D2B2-418F-9F8D-5573D071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1000-694B-4680-B465-371D8BED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DFFB-8BFC-4A55-AE8D-A2DEDE4A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721C-3115-4A54-908D-888A9B11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FEEC-0456-4681-99B4-9F86D519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E91F-5F10-4523-8B6D-ECB886C68418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9356-8FBE-4834-B5E8-3EA522142BCB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pct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ct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3915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hing for the day – </a:t>
            </a:r>
            <a:br>
              <a:rPr sz="4400"/>
            </a:br>
            <a:r>
              <a:rPr b="0" i="1" lang="en-US" sz="2800" spc="-1" strike="noStrike">
                <a:solidFill>
                  <a:srgbClr val="061c62"/>
                </a:solidFill>
                <a:latin typeface="Times New Roman"/>
              </a:rPr>
              <a:t>what our pets are up to while we’re here in class</a:t>
            </a:r>
            <a:endParaRPr b="0" lang="en-US" sz="28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70866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ass schedul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32040" y="2209680"/>
            <a:ext cx="822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525"/>
                </a:solidFill>
                <a:latin typeface="Arial"/>
              </a:rPr>
              <a:t>No class on Wednesday 19 October…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-3052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Oscillations of a bridg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92" name="Lab/Office 60:Teaching stuff:PHY255F (2004):PHY255F-2004 Lectures:Lecture 0:TacomaNarrowsBridge2.mpg" descr=""/>
          <p:cNvPicPr/>
          <p:nvPr/>
        </p:nvPicPr>
        <p:blipFill>
          <a:blip r:embed="rId1"/>
          <a:stretch/>
        </p:blipFill>
        <p:spPr>
          <a:xfrm>
            <a:off x="0" y="747720"/>
            <a:ext cx="814536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1371600"/>
            <a:ext cx="7315200" cy="548640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orced Damped Oscillator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88840" y="3352680"/>
          <a:ext cx="62438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3352680"/>
                    <a:ext cx="62438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236600" y="1600200"/>
          <a:ext cx="585648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6600" y="1600200"/>
                    <a:ext cx="58564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160640" y="4110120"/>
          <a:ext cx="5227560" cy="26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60640" y="4110120"/>
                    <a:ext cx="522756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270080" y="2133720"/>
          <a:ext cx="528948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0080" y="2133720"/>
                    <a:ext cx="52894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685800" y="2743200"/>
          <a:ext cx="2816280" cy="571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2743200"/>
                    <a:ext cx="28162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1371600"/>
            <a:ext cx="7315200" cy="548640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orced Damped Oscillator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30160" y="1739880"/>
          <a:ext cx="4551480" cy="22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1739880"/>
                    <a:ext cx="455148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93840" y="4519440"/>
          <a:ext cx="7243560" cy="18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3840" y="4519440"/>
                    <a:ext cx="724356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1371600"/>
            <a:ext cx="7315200" cy="548640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orced Damped Oscillator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81040" y="1496880"/>
          <a:ext cx="6810480" cy="528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1496880"/>
                    <a:ext cx="681048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1371600"/>
            <a:ext cx="7315200" cy="548640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orced Damped Oscillator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09480" y="1676520"/>
          <a:ext cx="6602400" cy="37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6602400" cy="37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bin Marjoribanks</cp:lastModifiedBy>
  <dcterms:modified xsi:type="dcterms:W3CDTF">2007-10-17T04:19:08Z</dcterms:modified>
  <cp:revision>1</cp:revision>
  <dc:subject/>
  <dc:title>Thing for the day –  what our pets are up to while we’re here in class</dc:title>
</cp:coreProperties>
</file>