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ct" ContentType="image/x-pict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10.pct" ContentType="image/x-pict"/>
  <Override PartName="/ppt/media/image8.pct" ContentType="image/x-pict"/>
  <Override PartName="/ppt/media/image9.pct" ContentType="image/x-pict"/>
  <Override PartName="/ppt/media/image11.pct" ContentType="image/x-pict"/>
  <Override PartName="/ppt/media/image1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580-8093-4747-884B-B1143CE3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6C3-7F09-4D55-9DC0-5658299B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436-2274-476F-BBAC-FF16AA1B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A43-EC2E-4862-8F16-359F3CDB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D1E-E070-4E96-8727-02829CE0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D4D-4728-498F-A183-044C9620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0D0-AAB1-4194-81C1-3E0722F7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233-C6DF-47C8-86E6-CF343C6F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AC9-E304-4AF2-B442-E78D149D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174-35D9-4078-820E-BE310F3D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3E6-31BA-418D-A332-7D43A906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ED9-05DD-4C3A-90A9-B2468944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7F02-1484-410D-ADCC-AC9B545F7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2520" y="2930400"/>
            <a:ext cx="3076560" cy="36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5120" y="21564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Wave 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4600" y="1025640"/>
            <a:ext cx="452124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beam propagates through a birefringent medium, one polarization sees more phase delay than the oth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hanges the relative phase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elds, and hence changing the polar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29440" y="298440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ization sta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874880" y="3276720"/>
          <a:ext cx="350820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4880" y="3276720"/>
                    <a:ext cx="35082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975280" y="3432240"/>
          <a:ext cx="2627280" cy="30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75280" y="3432240"/>
                    <a:ext cx="2627280" cy="30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82600" y="515628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81280" y="3201840"/>
            <a:ext cx="46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81280" y="4721400"/>
            <a:ext cx="46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70080" y="4826160"/>
          <a:ext cx="4162320" cy="11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0080" y="4826160"/>
                    <a:ext cx="416232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5537160" y="382680"/>
            <a:ext cx="3085920" cy="2042640"/>
            <a:chOff x="5537160" y="382680"/>
            <a:chExt cx="3085920" cy="2042640"/>
          </a:xfrm>
        </p:grpSpPr>
        <p:sp>
          <p:nvSpPr>
            <p:cNvPr id="55" name=""/>
            <p:cNvSpPr/>
            <p:nvPr/>
          </p:nvSpPr>
          <p:spPr>
            <a:xfrm>
              <a:off x="5537160" y="426960"/>
              <a:ext cx="3085920" cy="1998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21160" y="457920"/>
              <a:ext cx="18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ff"/>
                  </a:solidFill>
                  <a:latin typeface="Arial"/>
                </a:rPr>
                <a:t>Wave plate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4880" y="1573560"/>
              <a:ext cx="167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ff99"/>
                  </a:solidFill>
                  <a:latin typeface="Arial"/>
                  <a:ea typeface="Arial"/>
                </a:rPr>
                <a:t>+45° </a:t>
              </a:r>
              <a:r>
                <a:rPr b="0" lang="en-US" sz="1800" spc="-1" strike="noStrike">
                  <a:solidFill>
                    <a:srgbClr val="99ff99"/>
                  </a:solidFill>
                  <a:latin typeface="Arial"/>
                </a:rPr>
                <a:t>Polar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385400" y="1555920"/>
              <a:ext cx="668160" cy="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32520" y="1555920"/>
              <a:ext cx="668160" cy="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7194600" y="1160640"/>
              <a:ext cx="262800" cy="2923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86840" y="82764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Optic ax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259320" y="1278360"/>
              <a:ext cx="170640" cy="248040"/>
            </a:xfrm>
            <a:prstGeom prst="line">
              <a:avLst/>
            </a:prstGeom>
            <a:ln w="3816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91480" y="1573560"/>
              <a:ext cx="167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ff99"/>
                  </a:solidFill>
                  <a:latin typeface="Arial"/>
                  <a:ea typeface="Arial"/>
                </a:rPr>
                <a:t>-45° </a:t>
              </a:r>
              <a:r>
                <a:rPr b="0" lang="en-US" sz="1800" spc="-1" strike="noStrike">
                  <a:solidFill>
                    <a:srgbClr val="99ff99"/>
                  </a:solidFill>
                  <a:latin typeface="Arial"/>
                </a:rPr>
                <a:t>Polar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7519680" y="1310040"/>
              <a:ext cx="170280" cy="247680"/>
            </a:xfrm>
            <a:prstGeom prst="line">
              <a:avLst/>
            </a:prstGeom>
            <a:ln w="38160">
              <a:solidFill>
                <a:srgbClr val="99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5753160" y="583200"/>
              <a:ext cx="415080" cy="525960"/>
              <a:chOff x="5753160" y="583200"/>
              <a:chExt cx="415080" cy="525960"/>
            </a:xfrm>
          </p:grpSpPr>
          <p:sp>
            <p:nvSpPr>
              <p:cNvPr id="66" name=""/>
              <p:cNvSpPr/>
              <p:nvPr/>
            </p:nvSpPr>
            <p:spPr>
              <a:xfrm>
                <a:off x="5868000" y="939600"/>
                <a:ext cx="3002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5868000" y="583200"/>
                <a:ext cx="0" cy="353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5753160" y="936720"/>
                <a:ext cx="117720" cy="172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5848560" y="382680"/>
              <a:ext cx="2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40200" y="969120"/>
              <a:ext cx="2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16400" y="715320"/>
              <a:ext cx="2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360" y="1364040"/>
              <a:ext cx="211680" cy="4957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359424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12880" y="2220840"/>
            <a:ext cx="7112160" cy="24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844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ave plate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0240" y="1028880"/>
            <a:ext cx="4419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 plate output polarization sta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765760" y="851040"/>
          <a:ext cx="228600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5760" y="851040"/>
                    <a:ext cx="22860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905120" y="2305080"/>
          <a:ext cx="6738840" cy="22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305080"/>
                    <a:ext cx="673884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33440" y="5108400"/>
            <a:ext cx="840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quarter-wave plate creates circular polar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half-wave plate rotates linear polarization by 90</a:t>
            </a:r>
            <a:r>
              <a:rPr b="1" lang="en-US" sz="2000" spc="-1" strike="noStrike">
                <a:solidFill>
                  <a:srgbClr val="66ccff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add an addition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out changing the polarization, so the polarization cycles through this evolution 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fur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304164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Quarter-wave 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133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Half-wave 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3486240"/>
            <a:ext cx="838080" cy="0"/>
          </a:xfrm>
          <a:prstGeom prst="line">
            <a:avLst/>
          </a:prstGeom>
          <a:ln w="284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19320" y="3753000"/>
            <a:ext cx="1371600" cy="457200"/>
          </a:xfrm>
          <a:prstGeom prst="line">
            <a:avLst/>
          </a:prstGeom>
          <a:ln w="284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47880" y="140796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5-degree input polar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170000" y="2052720"/>
            <a:ext cx="6714720" cy="3436560"/>
            <a:chOff x="1170000" y="2052720"/>
            <a:chExt cx="6714720" cy="3436560"/>
          </a:xfrm>
        </p:grpSpPr>
        <p:sp>
          <p:nvSpPr>
            <p:cNvPr id="88" name=""/>
            <p:cNvSpPr/>
            <p:nvPr/>
          </p:nvSpPr>
          <p:spPr>
            <a:xfrm>
              <a:off x="1170000" y="2052720"/>
              <a:ext cx="6714720" cy="343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429920" y="2372400"/>
              <a:ext cx="6136200" cy="2939400"/>
              <a:chOff x="1429920" y="2372400"/>
              <a:chExt cx="6136200" cy="2939400"/>
            </a:xfrm>
          </p:grpSpPr>
          <p:pic>
            <p:nvPicPr>
              <p:cNvPr id="9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9920" y="2399760"/>
                <a:ext cx="2958120" cy="291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37280" y="2372400"/>
                <a:ext cx="3228840" cy="287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Half-wave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5759280"/>
            <a:ext cx="72961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incident polarization is +45° to the principal axes, then the output polarization is rotated by 90° to -45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6440" y="-1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6320" y="111132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beam propagates through a half-wave plate, one polariz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ences half of a wavelength more phase delay than the 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291960"/>
            <a:ext cx="7061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ave plates and input pola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066680"/>
            <a:ext cx="751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 that our wave plate analysis assumes 4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° input polarization relative to its principal axes.  This means that either the input polarization is oriented at 4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or the wave plate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4080" y="2577960"/>
            <a:ext cx="2743200" cy="195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62200" y="3168720"/>
            <a:ext cx="204840" cy="406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11480" y="3591000"/>
            <a:ext cx="179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plate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/ axes 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or 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57400" y="257796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45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54240" y="3325680"/>
            <a:ext cx="290520" cy="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35320" y="3325680"/>
            <a:ext cx="290520" cy="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70040" y="2972880"/>
            <a:ext cx="826920" cy="699120"/>
            <a:chOff x="1670040" y="2972880"/>
            <a:chExt cx="826920" cy="699120"/>
          </a:xfrm>
        </p:grpSpPr>
        <p:grpSp>
          <p:nvGrpSpPr>
            <p:cNvPr id="105" name=""/>
            <p:cNvGrpSpPr/>
            <p:nvPr/>
          </p:nvGrpSpPr>
          <p:grpSpPr>
            <a:xfrm>
              <a:off x="1670040" y="2972880"/>
              <a:ext cx="826920" cy="699120"/>
              <a:chOff x="1670040" y="2972880"/>
              <a:chExt cx="826920" cy="699120"/>
            </a:xfrm>
          </p:grpSpPr>
          <p:sp>
            <p:nvSpPr>
              <p:cNvPr id="106" name=""/>
              <p:cNvSpPr/>
              <p:nvPr/>
            </p:nvSpPr>
            <p:spPr>
              <a:xfrm flipH="1">
                <a:off x="1670040" y="3322800"/>
                <a:ext cx="664560" cy="349200"/>
              </a:xfrm>
              <a:prstGeom prst="parallelogram">
                <a:avLst>
                  <a:gd name="adj" fmla="val 47577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170080" y="2974680"/>
                <a:ext cx="326880" cy="694440"/>
              </a:xfrm>
              <a:prstGeom prst="diamond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1670040" y="2972520"/>
                <a:ext cx="664560" cy="349560"/>
              </a:xfrm>
              <a:prstGeom prst="parallelogram">
                <a:avLst>
                  <a:gd name="adj" fmla="val 47528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1834560" y="2974680"/>
              <a:ext cx="326520" cy="34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245200" y="2565360"/>
            <a:ext cx="2743200" cy="195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53360" y="3591000"/>
            <a:ext cx="156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plate w/ axes 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4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9240" y="255276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or 90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45000" y="3313080"/>
            <a:ext cx="290520" cy="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26440" y="3313080"/>
            <a:ext cx="290520" cy="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07320" y="2986200"/>
            <a:ext cx="356760" cy="622080"/>
            <a:chOff x="6907320" y="2986200"/>
            <a:chExt cx="356760" cy="622080"/>
          </a:xfrm>
        </p:grpSpPr>
        <p:sp>
          <p:nvSpPr>
            <p:cNvPr id="116" name=""/>
            <p:cNvSpPr/>
            <p:nvPr/>
          </p:nvSpPr>
          <p:spPr>
            <a:xfrm flipH="1">
              <a:off x="6907320" y="3297240"/>
              <a:ext cx="286560" cy="311040"/>
            </a:xfrm>
            <a:prstGeom prst="parallelogram">
              <a:avLst>
                <a:gd name="adj" fmla="val 25000"/>
              </a:avLst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3680" y="2987280"/>
              <a:ext cx="140400" cy="618120"/>
            </a:xfrm>
            <a:prstGeom prst="diamond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907320" y="2986200"/>
              <a:ext cx="286560" cy="311040"/>
            </a:xfrm>
            <a:prstGeom prst="parallelogram">
              <a:avLst>
                <a:gd name="adj" fmla="val 25000"/>
              </a:avLst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986440" y="3098880"/>
            <a:ext cx="507960" cy="514440"/>
            <a:chOff x="5986440" y="3098880"/>
            <a:chExt cx="507960" cy="514440"/>
          </a:xfrm>
        </p:grpSpPr>
        <p:sp>
          <p:nvSpPr>
            <p:cNvPr id="120" name=""/>
            <p:cNvSpPr/>
            <p:nvPr/>
          </p:nvSpPr>
          <p:spPr>
            <a:xfrm>
              <a:off x="5986440" y="3098880"/>
              <a:ext cx="507960" cy="5144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89680" y="3110040"/>
              <a:ext cx="488880" cy="50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88840" y="4711680"/>
            <a:ext cx="3746520" cy="1472400"/>
            <a:chOff x="888840" y="4711680"/>
            <a:chExt cx="3746520" cy="1472400"/>
          </a:xfrm>
        </p:grpSpPr>
        <p:sp>
          <p:nvSpPr>
            <p:cNvPr id="123" name=""/>
            <p:cNvSpPr/>
            <p:nvPr/>
          </p:nvSpPr>
          <p:spPr>
            <a:xfrm>
              <a:off x="888840" y="4711680"/>
              <a:ext cx="374652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f a HWP, this yields    45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° polarizatio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f a QWP, this yields circular polarizatio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263760" y="473436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079960" y="4711680"/>
            <a:ext cx="3746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HWP, this yields 9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° polar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a QWP, this yields circular polar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342720"/>
            <a:ext cx="7061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not to use a wave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640" y="1257480"/>
            <a:ext cx="751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input polarization is parallel to the wave plate principal axes, no polarization rotation occu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4080" y="2577960"/>
            <a:ext cx="2743200" cy="195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2200" y="3168720"/>
            <a:ext cx="204840" cy="406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11480" y="3591000"/>
            <a:ext cx="179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plate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/ axes 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or 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4240" y="3325680"/>
            <a:ext cx="290520" cy="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35320" y="3325680"/>
            <a:ext cx="290520" cy="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45200" y="2565360"/>
            <a:ext cx="2743200" cy="195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53360" y="3591000"/>
            <a:ext cx="156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plate w/ axes 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4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93680" y="259092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or 90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45000" y="3313080"/>
            <a:ext cx="290520" cy="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26440" y="3313080"/>
            <a:ext cx="290520" cy="0"/>
          </a:xfrm>
          <a:prstGeom prst="line">
            <a:avLst/>
          </a:prstGeom>
          <a:ln w="381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907320" y="2986200"/>
            <a:ext cx="356760" cy="622080"/>
            <a:chOff x="6907320" y="2986200"/>
            <a:chExt cx="356760" cy="622080"/>
          </a:xfrm>
        </p:grpSpPr>
        <p:sp>
          <p:nvSpPr>
            <p:cNvPr id="139" name=""/>
            <p:cNvSpPr/>
            <p:nvPr/>
          </p:nvSpPr>
          <p:spPr>
            <a:xfrm flipH="1">
              <a:off x="6907320" y="3297240"/>
              <a:ext cx="286560" cy="311040"/>
            </a:xfrm>
            <a:prstGeom prst="parallelogram">
              <a:avLst>
                <a:gd name="adj" fmla="val 25000"/>
              </a:avLst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23680" y="2987280"/>
              <a:ext cx="140400" cy="618120"/>
            </a:xfrm>
            <a:prstGeom prst="diamond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6907320" y="2986200"/>
              <a:ext cx="286560" cy="311040"/>
            </a:xfrm>
            <a:prstGeom prst="parallelogram">
              <a:avLst>
                <a:gd name="adj" fmla="val 25000"/>
              </a:avLst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31960" y="3124080"/>
            <a:ext cx="507960" cy="514440"/>
            <a:chOff x="1731960" y="3124080"/>
            <a:chExt cx="507960" cy="514440"/>
          </a:xfrm>
        </p:grpSpPr>
        <p:sp>
          <p:nvSpPr>
            <p:cNvPr id="143" name=""/>
            <p:cNvSpPr/>
            <p:nvPr/>
          </p:nvSpPr>
          <p:spPr>
            <a:xfrm>
              <a:off x="1731960" y="3124080"/>
              <a:ext cx="507960" cy="5144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35200" y="3135240"/>
              <a:ext cx="488880" cy="50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899320" y="2986200"/>
            <a:ext cx="826920" cy="698040"/>
            <a:chOff x="5899320" y="2986200"/>
            <a:chExt cx="826920" cy="698040"/>
          </a:xfrm>
        </p:grpSpPr>
        <p:grpSp>
          <p:nvGrpSpPr>
            <p:cNvPr id="146" name=""/>
            <p:cNvGrpSpPr/>
            <p:nvPr/>
          </p:nvGrpSpPr>
          <p:grpSpPr>
            <a:xfrm>
              <a:off x="5899320" y="2986200"/>
              <a:ext cx="826920" cy="698040"/>
              <a:chOff x="5899320" y="2986200"/>
              <a:chExt cx="826920" cy="69804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5899320" y="3335400"/>
                <a:ext cx="664560" cy="348840"/>
              </a:xfrm>
              <a:prstGeom prst="parallelogram">
                <a:avLst>
                  <a:gd name="adj" fmla="val 47626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9360" y="2987640"/>
                <a:ext cx="326880" cy="694080"/>
              </a:xfrm>
              <a:prstGeom prst="diamond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5899320" y="2986200"/>
                <a:ext cx="664560" cy="349200"/>
              </a:xfrm>
              <a:prstGeom prst="parallelogram">
                <a:avLst>
                  <a:gd name="adj" fmla="val 4757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6063840" y="2987640"/>
              <a:ext cx="326520" cy="34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284800" y="259092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45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7640" y="5207040"/>
            <a:ext cx="786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arrangement can, however, be useful.  In high-power lasers, we desire to keep the laser from lasing and then abruptly allow it to do so.  In this case, we switch between this and the previous 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41200"/>
            <a:ext cx="79754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Thickness of wave 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4600" y="110484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wave plate has less than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ve phase delay, we say it’s a </a:t>
            </a:r>
            <a:r>
              <a:rPr b="1" lang="en-US" sz="2000" spc="-1" strike="noStrike">
                <a:solidFill>
                  <a:srgbClr val="99ff99"/>
                </a:solidFill>
                <a:latin typeface="Arial"/>
              </a:rPr>
              <a:t>zero-order wave p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Unfortunately, they tend to be very th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ind the thickness of a zero-order quarter-wave pl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92560" y="2502000"/>
          <a:ext cx="2085840" cy="74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2560" y="2502000"/>
                    <a:ext cx="208584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519360" y="3343320"/>
          <a:ext cx="16304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19360" y="3343320"/>
                    <a:ext cx="1630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44600" y="4444920"/>
            <a:ext cx="7734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green light 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500 n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quartz, whose refractive indices a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.5534 – 1.5443 = 0.009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e f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4600" y="6108840"/>
            <a:ext cx="773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so thin that it is very fragile and very difficult to manufa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578640" y="2952720"/>
            <a:ext cx="964800" cy="938520"/>
            <a:chOff x="6578640" y="2952720"/>
            <a:chExt cx="964800" cy="938520"/>
          </a:xfrm>
        </p:grpSpPr>
        <p:sp>
          <p:nvSpPr>
            <p:cNvPr id="162" name=""/>
            <p:cNvSpPr/>
            <p:nvPr/>
          </p:nvSpPr>
          <p:spPr>
            <a:xfrm>
              <a:off x="6980400" y="2952720"/>
              <a:ext cx="115920" cy="4064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78640" y="354348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137000" y="354348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08760" y="34923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32040" y="534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13.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600" y="380880"/>
            <a:ext cx="7975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Multi-order wave 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4600" y="1193760"/>
            <a:ext cx="798804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multi-order wave p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more than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ve phase dela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design a twentieth-order quarter-wave plate with 20¼ waves of relative phase delay, instead of just 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908440" y="2603520"/>
          <a:ext cx="280512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8440" y="2603520"/>
                    <a:ext cx="28051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919240" y="3610080"/>
          <a:ext cx="31878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9240" y="3610080"/>
                    <a:ext cx="3187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44600" y="5664240"/>
            <a:ext cx="8318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icker, but it’s now 41 times more wavelength dependent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also temperature dependent due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dependence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85080" y="2774880"/>
            <a:ext cx="1117080" cy="862560"/>
            <a:chOff x="6985080" y="2774880"/>
            <a:chExt cx="1117080" cy="862560"/>
          </a:xfrm>
        </p:grpSpPr>
        <p:sp>
          <p:nvSpPr>
            <p:cNvPr id="175" name=""/>
            <p:cNvSpPr/>
            <p:nvPr/>
          </p:nvSpPr>
          <p:spPr>
            <a:xfrm>
              <a:off x="7386480" y="2774880"/>
              <a:ext cx="318600" cy="4064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85080" y="3365640"/>
              <a:ext cx="40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7696080" y="3365640"/>
              <a:ext cx="40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78560" y="3238560"/>
              <a:ext cx="4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543480" y="47498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56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50800" y="254160"/>
            <a:ext cx="6184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66ff66"/>
                </a:solidFill>
                <a:latin typeface="Arial"/>
              </a:rPr>
              <a:t>thick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 zero-order wave pl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11960" y="1312920"/>
            <a:ext cx="29098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plate is cut with fast and slow axes opposite to those of the second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ones vector beco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60240" y="3824280"/>
            <a:ext cx="7797960" cy="1667520"/>
            <a:chOff x="660240" y="3824280"/>
            <a:chExt cx="7797960" cy="1667520"/>
          </a:xfrm>
        </p:grpSpPr>
        <p:graphicFrame>
          <p:nvGraphicFramePr>
            <p:cNvPr id="184" name=""/>
            <p:cNvGraphicFramePr/>
            <p:nvPr/>
          </p:nvGraphicFramePr>
          <p:xfrm>
            <a:off x="660240" y="3824280"/>
            <a:ext cx="7797960" cy="120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0240" y="3824280"/>
                      <a:ext cx="7797960" cy="120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"/>
            <p:cNvSpPr/>
            <p:nvPr/>
          </p:nvSpPr>
          <p:spPr>
            <a:xfrm>
              <a:off x="1481400" y="5092920"/>
              <a:ext cx="12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irst pl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38560" y="509292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cond pl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84480" y="48639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076640" y="48639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82760" y="5826240"/>
            <a:ext cx="7761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as long 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qual to the thin zero-order wave plate, this optic behaves like the prohibitively thin one!  This is id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38080" y="1257480"/>
            <a:ext cx="4445280" cy="2234880"/>
            <a:chOff x="838080" y="1257480"/>
            <a:chExt cx="4445280" cy="2234880"/>
          </a:xfrm>
        </p:grpSpPr>
        <p:sp>
          <p:nvSpPr>
            <p:cNvPr id="192" name=""/>
            <p:cNvSpPr/>
            <p:nvPr/>
          </p:nvSpPr>
          <p:spPr>
            <a:xfrm>
              <a:off x="838080" y="1257480"/>
              <a:ext cx="4445280" cy="2234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041640" y="2023560"/>
              <a:ext cx="263520" cy="293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61200" y="2306520"/>
              <a:ext cx="7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60680" y="1974600"/>
              <a:ext cx="357120" cy="888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14760" y="1974600"/>
              <a:ext cx="318960" cy="888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89120" y="2107800"/>
              <a:ext cx="709560" cy="523800"/>
            </a:xfrm>
            <a:prstGeom prst="rightArrow">
              <a:avLst>
                <a:gd name="adj1" fmla="val 50000"/>
                <a:gd name="adj2" fmla="val 33866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22880" y="1425240"/>
              <a:ext cx="12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Optic ax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346040" y="1322280"/>
              <a:ext cx="586080" cy="894240"/>
              <a:chOff x="1346040" y="1322280"/>
              <a:chExt cx="586080" cy="89424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1359000" y="1523160"/>
                <a:ext cx="415440" cy="525960"/>
                <a:chOff x="1359000" y="1523160"/>
                <a:chExt cx="415440" cy="5259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473840" y="1879560"/>
                  <a:ext cx="300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1473840" y="1523160"/>
                  <a:ext cx="0" cy="353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1359000" y="1876680"/>
                  <a:ext cx="118080" cy="172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>
                <a:off x="1454040" y="1322280"/>
                <a:ext cx="211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346040" y="1909440"/>
                <a:ext cx="211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722600" y="1655280"/>
                <a:ext cx="20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 flipV="1">
              <a:off x="3860640" y="1574280"/>
              <a:ext cx="0" cy="304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05240" y="2107800"/>
              <a:ext cx="709560" cy="523800"/>
            </a:xfrm>
            <a:prstGeom prst="rightArrow">
              <a:avLst>
                <a:gd name="adj1" fmla="val 50000"/>
                <a:gd name="adj2" fmla="val 33866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76880" y="148104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65360" y="2831760"/>
              <a:ext cx="46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81280" y="2844720"/>
              <a:ext cx="47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908440" y="2997000"/>
              <a:ext cx="139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87520" y="2997000"/>
              <a:ext cx="139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911760" y="2997000"/>
              <a:ext cx="139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41600" y="2997000"/>
              <a:ext cx="139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8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The Babinet Compensator rotates polarization by an arbitrary am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57800" y="1566720"/>
            <a:ext cx="346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wedge is cut with fast and slow axes opposite to those of bottom w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2657520"/>
            <a:ext cx="2655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 one wedge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ect to the oth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</a:t>
            </a:r>
            <a:r>
              <a:rPr b="1" i="1" lang="en-US" sz="20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ff66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</a:t>
            </a:r>
            <a:r>
              <a:rPr b="0" lang="en-US" sz="20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66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3800520"/>
            <a:ext cx="337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the two wedges are conta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09480" y="4840200"/>
          <a:ext cx="779796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40200"/>
                    <a:ext cx="779796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1430280" y="610884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 w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8480" y="610884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tom w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33720" y="58798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886200" y="58798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680" y="1968480"/>
            <a:ext cx="4444920" cy="2235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4800" y="2967120"/>
            <a:ext cx="7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40080" y="3543480"/>
            <a:ext cx="469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54520" y="204804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ptic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079640" y="1982880"/>
            <a:ext cx="585360" cy="894600"/>
            <a:chOff x="1079640" y="1982880"/>
            <a:chExt cx="585360" cy="894600"/>
          </a:xfrm>
        </p:grpSpPr>
        <p:grpSp>
          <p:nvGrpSpPr>
            <p:cNvPr id="231" name=""/>
            <p:cNvGrpSpPr/>
            <p:nvPr/>
          </p:nvGrpSpPr>
          <p:grpSpPr>
            <a:xfrm>
              <a:off x="1092240" y="2184480"/>
              <a:ext cx="415080" cy="525960"/>
              <a:chOff x="1092240" y="2184480"/>
              <a:chExt cx="415080" cy="525960"/>
            </a:xfrm>
          </p:grpSpPr>
          <p:sp>
            <p:nvSpPr>
              <p:cNvPr id="232" name=""/>
              <p:cNvSpPr/>
              <p:nvPr/>
            </p:nvSpPr>
            <p:spPr>
              <a:xfrm>
                <a:off x="1206720" y="2540880"/>
                <a:ext cx="300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1206720" y="2184480"/>
                <a:ext cx="0" cy="354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1092240" y="2538000"/>
                <a:ext cx="118080" cy="172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1187280" y="1982880"/>
              <a:ext cx="21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79640" y="2570400"/>
              <a:ext cx="21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55840" y="2316240"/>
              <a:ext cx="20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038480" y="2768760"/>
            <a:ext cx="709560" cy="523800"/>
          </a:xfrm>
          <a:prstGeom prst="rightArrow">
            <a:avLst>
              <a:gd name="adj1" fmla="val 50000"/>
              <a:gd name="adj2" fmla="val 33866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10120" y="2141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263040" y="2629080"/>
            <a:ext cx="444600" cy="888840"/>
          </a:xfrm>
          <a:prstGeom prst="triangle">
            <a:avLst>
              <a:gd name="adj" fmla="val 1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171880" y="2831760"/>
            <a:ext cx="749160" cy="1291680"/>
            <a:chOff x="2171880" y="2831760"/>
            <a:chExt cx="749160" cy="1291680"/>
          </a:xfrm>
        </p:grpSpPr>
        <p:sp>
          <p:nvSpPr>
            <p:cNvPr id="242" name=""/>
            <p:cNvSpPr/>
            <p:nvPr/>
          </p:nvSpPr>
          <p:spPr>
            <a:xfrm>
              <a:off x="2349360" y="3682800"/>
              <a:ext cx="470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476440" y="2831760"/>
              <a:ext cx="444600" cy="888840"/>
              <a:chOff x="2476440" y="2831760"/>
              <a:chExt cx="444600" cy="88884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2476440" y="2831400"/>
                <a:ext cx="444600" cy="888840"/>
              </a:xfrm>
              <a:prstGeom prst="triangle">
                <a:avLst>
                  <a:gd name="adj" fmla="val 1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2600" y="3153600"/>
                <a:ext cx="237960" cy="3063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 flipH="1">
              <a:off x="2705040" y="3848040"/>
              <a:ext cx="139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880" y="3848040"/>
              <a:ext cx="139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213000" y="3695760"/>
            <a:ext cx="571320" cy="0"/>
            <a:chOff x="3213000" y="3695760"/>
            <a:chExt cx="571320" cy="0"/>
          </a:xfrm>
        </p:grpSpPr>
        <p:sp>
          <p:nvSpPr>
            <p:cNvPr id="249" name=""/>
            <p:cNvSpPr/>
            <p:nvPr/>
          </p:nvSpPr>
          <p:spPr>
            <a:xfrm flipH="1">
              <a:off x="3644640" y="3695760"/>
              <a:ext cx="139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13000" y="3695760"/>
              <a:ext cx="139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3416400" y="2463840"/>
            <a:ext cx="0" cy="419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070000" y="2120760"/>
            <a:ext cx="965160" cy="2070360"/>
            <a:chOff x="2070000" y="2120760"/>
            <a:chExt cx="965160" cy="2070360"/>
          </a:xfrm>
        </p:grpSpPr>
        <p:sp>
          <p:nvSpPr>
            <p:cNvPr id="253" name=""/>
            <p:cNvSpPr/>
            <p:nvPr/>
          </p:nvSpPr>
          <p:spPr>
            <a:xfrm>
              <a:off x="2070000" y="2120760"/>
              <a:ext cx="965160" cy="207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47840" y="3695760"/>
              <a:ext cx="46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2463480" y="2514240"/>
              <a:ext cx="444600" cy="888840"/>
              <a:chOff x="2463480" y="2514240"/>
              <a:chExt cx="444600" cy="888840"/>
            </a:xfrm>
          </p:grpSpPr>
          <p:sp>
            <p:nvSpPr>
              <p:cNvPr id="256" name=""/>
              <p:cNvSpPr/>
              <p:nvPr/>
            </p:nvSpPr>
            <p:spPr>
              <a:xfrm flipV="1">
                <a:off x="2463480" y="2513880"/>
                <a:ext cx="444600" cy="888840"/>
              </a:xfrm>
              <a:prstGeom prst="triangle">
                <a:avLst>
                  <a:gd name="adj" fmla="val 1667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09640" y="2836080"/>
                <a:ext cx="237960" cy="3063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 flipH="1">
              <a:off x="2514600" y="3860640"/>
              <a:ext cx="139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58920" y="3860640"/>
              <a:ext cx="139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422360" y="2768760"/>
            <a:ext cx="709560" cy="523800"/>
          </a:xfrm>
          <a:prstGeom prst="rightArrow">
            <a:avLst>
              <a:gd name="adj1" fmla="val 50000"/>
              <a:gd name="adj2" fmla="val 33866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01:12:24Z</dcterms:created>
  <dc:creator>Rick Trebino</dc:creator>
  <dc:description/>
  <dc:language>en-US</dc:language>
  <cp:lastModifiedBy>Robin Marjoribanks</cp:lastModifiedBy>
  <dcterms:modified xsi:type="dcterms:W3CDTF">2008-10-23T02:35:19Z</dcterms:modified>
  <cp:revision>190</cp:revision>
  <dc:subject/>
  <dc:title>11. More Polarization</dc:title>
</cp:coreProperties>
</file>