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16.jpeg" ContentType="image/jpeg"/>
  <Override PartName="/ppt/media/image28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19.png" ContentType="image/png"/>
  <Override PartName="/ppt/media/image15.png" ContentType="image/png"/>
  <Override PartName="/ppt/media/image12.pct" ContentType="image/x-pict"/>
  <Override PartName="/ppt/media/image49.pct" ContentType="image/x-pict"/>
  <Override PartName="/ppt/media/image14.png" ContentType="image/png"/>
  <Override PartName="/ppt/media/image48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0.png" ContentType="image/png"/>
  <Override PartName="/ppt/media/image44.pct" ContentType="image/x-pict"/>
  <Override PartName="/ppt/media/image5.png" ContentType="image/png"/>
  <Override PartName="/ppt/media/image32.pct" ContentType="image/x-pict"/>
  <Override PartName="/ppt/media/image2.png" ContentType="image/png"/>
  <Override PartName="/ppt/media/image26.pct" ContentType="image/x-pict"/>
  <Override PartName="/ppt/media/image3.pct" ContentType="image/x-pict"/>
  <Override PartName="/ppt/media/image6.png" ContentType="image/png"/>
  <Override PartName="/ppt/media/image33.pct" ContentType="image/x-pict"/>
  <Override PartName="/ppt/media/image17.pct" ContentType="image/x-pict"/>
  <Override PartName="/ppt/media/image27.pct" ContentType="image/x-pict"/>
  <Override PartName="/ppt/media/image38.pct" ContentType="image/x-pict"/>
  <Override PartName="/ppt/media/image40.png" ContentType="image/png"/>
  <Override PartName="/ppt/media/image46.pct" ContentType="image/x-pict"/>
  <Override PartName="/ppt/media/image50.pct" ContentType="image/x-pict"/>
  <Override PartName="/ppt/media/image53.png" ContentType="image/png"/>
  <Override PartName="/ppt/media/image41.pct" ContentType="image/x-pict"/>
  <Override PartName="/ppt/media/image51.pct" ContentType="image/x-pict"/>
  <Override PartName="/ppt/media/image52.pct" ContentType="image/x-pict"/>
  <Override PartName="/ppt/media/image42.pct" ContentType="image/x-pict"/>
  <Override PartName="/ppt/media/image54.pct" ContentType="image/x-pict"/>
  <Override PartName="/ppt/media/image43.pct" ContentType="image/x-pict"/>
  <Override PartName="/ppt/media/image55.pct" ContentType="image/x-pict"/>
  <Override PartName="/ppt/media/image56.png" ContentType="image/png"/>
  <Override PartName="/ppt/media/image36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1.png" ContentType="image/png"/>
  <Override PartName="/ppt/media/image45.pct" ContentType="image/x-pict"/>
  <Override PartName="/ppt/media/image13.png" ContentType="image/png"/>
  <Override PartName="/ppt/media/image47.pct" ContentType="image/x-pict"/>
  <Override PartName="/ppt/media/image35.pct" ContentType="image/x-pict"/>
  <Override PartName="/ppt/media/image8.png" ContentType="image/png"/>
  <Override PartName="/ppt/media/image21.pct" ContentType="image/x-pict"/>
  <Override PartName="/ppt/media/image37.pct" ContentType="image/x-pict"/>
  <Override PartName="/ppt/media/image7.pct" ContentType="image/x-pict"/>
  <Override PartName="/ppt/media/image34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0390-B08A-475F-A6DD-401E65CE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ond is grown as [1,1,1]sectors(right, lower left, upper left) from a tiny seed (in the centre). At the sector interfaces there is a slight crystal-lattice misalignment, which allows for the incorporation of nitrogen (slightly absorbing, see intensity image). The misalignment together with the presence of nitrogen causes a build-up of strain. The strain from one boundary dominates half of each sector (j -imag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 http://www.metripol.com/applications/diamon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31F-04DA-4099-8133-0BA46B3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6A4-D23E-41D3-B4B3-3E40298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8F4-5D41-4926-B32E-466AE613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A7B-9F7C-41A2-9324-60BEA95D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F635-A7EA-48C0-92AA-E217A8A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911-1F21-49F6-9FE2-8DE7E7F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896-251C-452F-B931-3D9949A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36D5-BFB6-41D2-BF6C-54154ED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C43-BBA3-48E9-91AC-2D2598A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F316-CECC-48BA-B3A7-D0AF954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BEEE-7D33-4581-94AE-FB83FBF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A40-E8AC-470C-B6C7-8F0DC5B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B49D-9EFA-4F49-8B17-15C9072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503-CEC3-49D5-BD4B-64C7AF8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3135-F507-4601-936B-E01B7B71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F8E-9266-4EC2-8579-B11C8912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210-1F3E-4CF1-B935-49EBC600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487-7947-4EA2-9A4A-BAA6614E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C46-61DD-4B29-8636-BDEA9A4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EE4-9AEF-4717-91C6-E65443AF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C4A-3B65-4ACA-B420-B9CDCD9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C27-E6A1-4429-8C7C-26C8E1BC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454-38C3-4B7D-95A3-7FA72C9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B1D-FBBC-4687-B36D-08A2F6D2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285-CE40-4C33-832A-6E94C0F6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D6E-E362-4CE0-A7CB-71C5A683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ct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ct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pct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pct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ct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ct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03600" y="1832040"/>
            <a:ext cx="4800600" cy="36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18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Optical Activity &amp; Jones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93680"/>
            <a:ext cx="746136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s to actively control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kels'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r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elas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day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es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olarized light, Stokes Parameters, &amp; Mueller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218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tical Activity (also called “Chiralit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7440" y="1066320"/>
            <a:ext cx="7635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birefringence, optical activity maintains a linear polarization throughout.  The polarization rotation angle is proportional to the distance.  Optical activity was discovered in 1811 by Ar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4160" y="2351160"/>
            <a:ext cx="5008680" cy="3168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77800" y="5834160"/>
            <a:ext cx="81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rotate the polarization clockwise (“dextrorotatory”) and some produce a counterclockwise rotation (“levorotatory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47680"/>
            <a:ext cx="6858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Right vs. left-hande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077480"/>
            <a:ext cx="66326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aturally occurring materials do not exhibit chirality.  But those that do can be left- or right-h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0" b="4839"/>
          <a:stretch/>
        </p:blipFill>
        <p:spPr>
          <a:xfrm>
            <a:off x="1201680" y="2050920"/>
            <a:ext cx="4891320" cy="4305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270480" y="2219400"/>
            <a:ext cx="227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orms of quartz, have the same chemical formulas and structures, but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rror im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ach other.  One form of quartz rotates the polarization clockwise and the other rotates it counterclock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82240"/>
            <a:ext cx="8136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eft-handed vs. right-hande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irality" descr=""/>
          <p:cNvPicPr/>
          <p:nvPr/>
        </p:nvPicPr>
        <p:blipFill>
          <a:blip r:embed="rId1"/>
          <a:stretch/>
        </p:blipFill>
        <p:spPr>
          <a:xfrm>
            <a:off x="1339920" y="2028960"/>
            <a:ext cx="5280120" cy="35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6360" y="1103400"/>
            <a:ext cx="78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molecules of life are almost all left-handed.  Sugar is one of the most chiral substances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6360" y="58896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asionally, a molecule of the wrong chirality can cause serious illness (e.g., thalidimide) while its other “enantiomer” is harm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1560" y="2855880"/>
            <a:ext cx="1668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’d like to look for signs of life on other planets, look for chi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676520"/>
            <a:ext cx="327672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rincipal Axes for Opt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33560" y="2035080"/>
            <a:ext cx="5181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or birefringent media, the principal axes of an optically active medium are the medium's symmetry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nsider the component of light along each principal axis independently in the medium and recombine them afterw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edia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tic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principal axes correspon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ircular polar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6431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mplex Principal 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write the E-field in terms of its x- and y-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can equally well write it in terms of its right and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324240" y="2438280"/>
          <a:ext cx="19335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2438280"/>
                    <a:ext cx="1933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87800" y="5146560"/>
          <a:ext cx="2133360" cy="12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7800" y="5146560"/>
                    <a:ext cx="213336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56720" y="3733920"/>
            <a:ext cx="71971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rincipal axes of a medium are circular, as they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ptical activity is present, this is required.  We must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e linear polarization into its circula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1600200"/>
            <a:ext cx="723924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Faraday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gnetic field can induce optic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360" y="6019920"/>
            <a:ext cx="72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raday effect allows control over the polarization r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80036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43200" y="1905120"/>
            <a:ext cx="60958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447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The Faraday effect:  the polarization rotation is proportional to the Verdet cons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209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 V B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olarization rotation ang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gnetic field strengt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distan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"Verdet constant" of the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>
            <a:lum contrast="42000"/>
          </a:blip>
          <a:srcRect l="0" t="0" r="41209" b="0"/>
          <a:stretch/>
        </p:blipFill>
        <p:spPr>
          <a:xfrm>
            <a:off x="2895480" y="2057400"/>
            <a:ext cx="5715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ff"/>
                </a:solidFill>
                <a:latin typeface="Arial"/>
              </a:rPr>
              <a:t>To model the effect of a medium on light's</a:t>
            </a:r>
            <a:br>
              <a:rPr sz="3000"/>
            </a:br>
            <a:r>
              <a:rPr b="1" lang="en-US" sz="3000" spc="-1" strike="noStrike">
                <a:solidFill>
                  <a:srgbClr val="ffccff"/>
                </a:solidFill>
                <a:latin typeface="Arial"/>
              </a:rPr>
              <a:t>polarization state, we use Jones mat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39536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we can write a polarization state as a (Jones) vector, w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ce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transform them from the input polariza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polariza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n x-polarizer can be writt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62520" y="2386080"/>
          <a:ext cx="114300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386080"/>
                    <a:ext cx="1143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144960" y="3173400"/>
          <a:ext cx="251748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4960" y="3173400"/>
                    <a:ext cx="2517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955880" y="5443560"/>
          <a:ext cx="4395600" cy="11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5880" y="5443560"/>
                    <a:ext cx="43956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297480" y="4414680"/>
          <a:ext cx="143532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7480" y="4414680"/>
                    <a:ext cx="1435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22068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Other Jones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9600" y="14684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-polari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81280" y="1305000"/>
          <a:ext cx="160020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05000"/>
                    <a:ext cx="16002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214800" y="2523960"/>
          <a:ext cx="2025360" cy="9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523960"/>
                    <a:ext cx="20253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69960" y="252396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lf-wave p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05520" y="2523960"/>
          <a:ext cx="234936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5520" y="2523960"/>
                    <a:ext cx="23493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05520" y="3514680"/>
          <a:ext cx="2349360" cy="90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05520" y="3514680"/>
                    <a:ext cx="2349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219320" y="3591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lf-wave plate rotates 45-degree-polarization to -45-degree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8880" y="503856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arter-wave p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257640" y="5191200"/>
          <a:ext cx="2000160" cy="9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57640" y="5191200"/>
                    <a:ext cx="20001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7360" y="5191200"/>
          <a:ext cx="2274840" cy="90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67360" y="5191200"/>
                    <a:ext cx="22748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 flipV="1">
            <a:off x="5486400" y="3286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41241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wave plate is not a wave plate if it’s oriented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023920"/>
            <a:ext cx="4353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hat a wave plate wa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45° (or circular) pola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it sees, say, x polariza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527280" y="4029120"/>
          <a:ext cx="224964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4029120"/>
                    <a:ext cx="2249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696960" y="5986440"/>
            <a:ext cx="79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use Jones matrices until you’re really on top of thi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68840" y="5073480"/>
            <a:ext cx="75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078440" y="484452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49280" y="3597120"/>
            <a:ext cx="2525400" cy="436680"/>
            <a:chOff x="2249280" y="3597120"/>
            <a:chExt cx="2525400" cy="436680"/>
          </a:xfrm>
        </p:grpSpPr>
        <p:sp>
          <p:nvSpPr>
            <p:cNvPr id="269" name=""/>
            <p:cNvSpPr/>
            <p:nvPr/>
          </p:nvSpPr>
          <p:spPr>
            <a:xfrm>
              <a:off x="4774680" y="377136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49280" y="377136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251440" y="359712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335560" y="1444680"/>
            <a:ext cx="274320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43680" y="2035080"/>
            <a:ext cx="204840" cy="406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92960" y="2457360"/>
            <a:ext cx="17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plate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/ axes 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35720" y="219240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16800" y="219240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5160" y="14572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13440" y="1990800"/>
            <a:ext cx="507960" cy="514440"/>
            <a:chOff x="6013440" y="1990800"/>
            <a:chExt cx="507960" cy="514440"/>
          </a:xfrm>
        </p:grpSpPr>
        <p:sp>
          <p:nvSpPr>
            <p:cNvPr id="279" name=""/>
            <p:cNvSpPr/>
            <p:nvPr/>
          </p:nvSpPr>
          <p:spPr>
            <a:xfrm>
              <a:off x="6013440" y="1990800"/>
              <a:ext cx="507960" cy="514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6680" y="2001960"/>
              <a:ext cx="48888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202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The Pockels'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579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ic field can induce birefrin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9320" y="6172200"/>
            <a:ext cx="72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ckels' effect allows control over the polarization r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otated Jones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ay, s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What about when the polarizer or wave 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otated by some angl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 of a vector by an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multiplication by a r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serting the ident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hav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362320" y="2362320"/>
          <a:ext cx="3886200" cy="16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62320"/>
                    <a:ext cx="388620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528920" y="4797360"/>
          <a:ext cx="616248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8920" y="4797360"/>
                    <a:ext cx="61624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160800" y="6059520"/>
          <a:ext cx="2287440" cy="61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0800" y="6059520"/>
                    <a:ext cx="2287440" cy="6141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otated Jones matrix for a polar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this result to an x-polariz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47760" y="1905120"/>
          <a:ext cx="627372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1905120"/>
                    <a:ext cx="62737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522760" y="1030320"/>
          <a:ext cx="228924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2760" y="1030320"/>
                    <a:ext cx="22892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57240" y="3200400"/>
          <a:ext cx="5247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3200400"/>
                    <a:ext cx="5247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238480" y="4419720"/>
          <a:ext cx="4551120" cy="90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8480" y="4419720"/>
                    <a:ext cx="4551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376280" y="5646600"/>
          <a:ext cx="263844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6280" y="5646600"/>
                    <a:ext cx="26384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149800" y="5648400"/>
          <a:ext cx="1917720" cy="86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9800" y="5648400"/>
                    <a:ext cx="19177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7175520" y="57610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Jones Matrices for standard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0" t="10001" r="39031" b="47781"/>
          <a:stretch/>
        </p:blipFill>
        <p:spPr>
          <a:xfrm>
            <a:off x="457200" y="1295280"/>
            <a:ext cx="3895560" cy="5105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rcRect l="0" t="53220" r="39031" b="5554"/>
          <a:stretch/>
        </p:blipFill>
        <p:spPr>
          <a:xfrm>
            <a:off x="4772160" y="1295280"/>
            <a:ext cx="3990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3880" y="2795760"/>
            <a:ext cx="60199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o model the effect of many media on light's polarization state, we use many Jones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4760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del the effects of more than one component on the polarization state, just multiply the input polarization Jones vector by all of the Jones mat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52480" y="3059280"/>
            <a:ext cx="5648400" cy="79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386160" y="4148280"/>
          <a:ext cx="2133720" cy="49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6160" y="4148280"/>
                    <a:ext cx="21337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834120" y="569916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use the correct ord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75400" y="5167440"/>
            <a:ext cx="316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Jones matrix (the product of the individual Jones matrices) can describe the combination of several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8760" y="247320"/>
            <a:ext cx="5713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plying Jones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8120" y="1142640"/>
            <a:ext cx="249732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ed polariz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209600" y="2503440"/>
          <a:ext cx="3562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2503440"/>
                    <a:ext cx="3562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726320" y="185760"/>
            <a:ext cx="1074600" cy="948600"/>
            <a:chOff x="7726320" y="185760"/>
            <a:chExt cx="1074600" cy="948600"/>
          </a:xfrm>
        </p:grpSpPr>
        <p:sp>
          <p:nvSpPr>
            <p:cNvPr id="320" name=""/>
            <p:cNvSpPr/>
            <p:nvPr/>
          </p:nvSpPr>
          <p:spPr>
            <a:xfrm flipV="1">
              <a:off x="8155440" y="387720"/>
              <a:ext cx="0" cy="40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950600" y="793080"/>
              <a:ext cx="201600" cy="1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5440" y="788400"/>
              <a:ext cx="40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56880" y="1857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26320" y="7354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21200" y="664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6" name=""/>
          <p:cNvGraphicFramePr/>
          <p:nvPr/>
        </p:nvGraphicFramePr>
        <p:xfrm>
          <a:off x="1066680" y="1692360"/>
          <a:ext cx="172728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92360"/>
                    <a:ext cx="1727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8" name=""/>
          <p:cNvGrpSpPr/>
          <p:nvPr/>
        </p:nvGrpSpPr>
        <p:grpSpPr>
          <a:xfrm>
            <a:off x="4330800" y="1065240"/>
            <a:ext cx="3643200" cy="1422360"/>
            <a:chOff x="4330800" y="1065240"/>
            <a:chExt cx="3643200" cy="1422360"/>
          </a:xfrm>
        </p:grpSpPr>
        <p:grpSp>
          <p:nvGrpSpPr>
            <p:cNvPr id="329" name=""/>
            <p:cNvGrpSpPr/>
            <p:nvPr/>
          </p:nvGrpSpPr>
          <p:grpSpPr>
            <a:xfrm>
              <a:off x="4330800" y="1112400"/>
              <a:ext cx="3107880" cy="1375200"/>
              <a:chOff x="4330800" y="1112400"/>
              <a:chExt cx="3107880" cy="137520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0800" y="1811160"/>
                <a:ext cx="1204920" cy="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5537160" y="1581120"/>
                <a:ext cx="508320" cy="507960"/>
                <a:chOff x="5537160" y="1581120"/>
                <a:chExt cx="508320" cy="5079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537160" y="1581120"/>
                  <a:ext cx="508320" cy="5079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546880" y="1585800"/>
                  <a:ext cx="482400" cy="501840"/>
                </a:xfrm>
                <a:prstGeom prst="line">
                  <a:avLst/>
                </a:prstGeom>
                <a:ln w="284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766200" y="1419120"/>
                <a:ext cx="672480" cy="669960"/>
                <a:chOff x="6766200" y="1419120"/>
                <a:chExt cx="672480" cy="6699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766200" y="1581120"/>
                  <a:ext cx="507600" cy="5079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6770520" y="1419120"/>
                  <a:ext cx="668160" cy="16200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5813640" y="2125800"/>
                <a:ext cx="0" cy="36180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205760" y="1112400"/>
                <a:ext cx="219240" cy="2905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40520" y="1811160"/>
                <a:ext cx="56844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40" name=""/>
            <p:cNvGraphicFramePr/>
            <p:nvPr/>
          </p:nvGraphicFramePr>
          <p:xfrm>
            <a:off x="4515120" y="1274760"/>
            <a:ext cx="415800" cy="49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15120" y="1274760"/>
                      <a:ext cx="41580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"/>
            <p:cNvGraphicFramePr/>
            <p:nvPr/>
          </p:nvGraphicFramePr>
          <p:xfrm>
            <a:off x="7585200" y="1516320"/>
            <a:ext cx="388800" cy="49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5200" y="1516320"/>
                      <a:ext cx="38880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560200" y="1065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71600" y="2044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-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210280" y="2732040"/>
            <a:ext cx="30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no light leak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8480" y="3824280"/>
            <a:ext cx="29322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rossed polar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lightl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80920" y="4803840"/>
          <a:ext cx="38293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0920" y="4803840"/>
                    <a:ext cx="3829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"/>
          <p:cNvGrpSpPr/>
          <p:nvPr/>
        </p:nvGrpSpPr>
        <p:grpSpPr>
          <a:xfrm>
            <a:off x="4308480" y="3557520"/>
            <a:ext cx="3648240" cy="1711440"/>
            <a:chOff x="4308480" y="3557520"/>
            <a:chExt cx="3648240" cy="1711440"/>
          </a:xfrm>
        </p:grpSpPr>
        <p:sp>
          <p:nvSpPr>
            <p:cNvPr id="351" name=""/>
            <p:cNvSpPr/>
            <p:nvPr/>
          </p:nvSpPr>
          <p:spPr>
            <a:xfrm>
              <a:off x="4308480" y="4546440"/>
              <a:ext cx="12049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4840" y="4390920"/>
              <a:ext cx="507960" cy="507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00800" y="4410000"/>
              <a:ext cx="530280" cy="4586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743880" y="4157640"/>
              <a:ext cx="672480" cy="669960"/>
              <a:chOff x="6743880" y="4157640"/>
              <a:chExt cx="672480" cy="669960"/>
            </a:xfrm>
          </p:grpSpPr>
          <p:sp>
            <p:nvSpPr>
              <p:cNvPr id="355" name=""/>
              <p:cNvSpPr/>
              <p:nvPr/>
            </p:nvSpPr>
            <p:spPr>
              <a:xfrm>
                <a:off x="6743880" y="4319640"/>
                <a:ext cx="507600" cy="507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748200" y="4157640"/>
                <a:ext cx="668160" cy="16200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791320" y="4892760"/>
              <a:ext cx="56880" cy="3762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183440" y="3850920"/>
              <a:ext cx="219240" cy="2905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8200" y="4546440"/>
              <a:ext cx="5968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4492800" y="4013280"/>
            <a:ext cx="415800" cy="49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92800" y="4013280"/>
                      <a:ext cx="41580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7534440" y="4051080"/>
            <a:ext cx="388800" cy="49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34440" y="4051080"/>
                      <a:ext cx="38880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5571000" y="3557520"/>
              <a:ext cx="8910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t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49280" y="4782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-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59480" y="4545000"/>
              <a:ext cx="597240" cy="0"/>
            </a:xfrm>
            <a:prstGeom prst="line">
              <a:avLst/>
            </a:prstGeom>
            <a:ln w="28440">
              <a:solidFill>
                <a:srgbClr val="66ff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885960" y="5676840"/>
          <a:ext cx="406548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85960" y="5676840"/>
                    <a:ext cx="40654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5746680" y="5791320"/>
            <a:ext cx="230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,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all that, when the phases of the x- and y-polarizations fluctuate, the light is "unpolarized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functions that vary on a time scale slower 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faster than you can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zation state (Jones vector) will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this is difficult to analyze using Jones m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882800" y="1447920"/>
          <a:ext cx="4768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1447920"/>
                    <a:ext cx="4768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963880" y="4765680"/>
          <a:ext cx="259092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3880" y="4765680"/>
                    <a:ext cx="2590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286680" y="481824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the amplitudes vary,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4520" y="11880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Stokes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eat fully, partially, or unpolarized light, we define "Stokes parameter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we have four detectors, three with polarizers in front of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#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cts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rradiance............................................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#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cts </a:t>
            </a: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horizontally polar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rradiance..........…...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c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45° polar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rradiance...........................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#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cts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right circularly polar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rradiance.....…….</a:t>
            </a:r>
            <a:r>
              <a:rPr b="1" i="1" lang="en-US" sz="2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9900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kes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8240" y="4772160"/>
            <a:ext cx="7804440" cy="46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</a:t>
            </a:r>
            <a:r>
              <a:rPr b="1" i="1" lang="en-US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cc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9933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5759280"/>
          <a:ext cx="5311800" cy="5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759280"/>
                    <a:ext cx="5311800" cy="562320"/>
                  </a:xfrm>
                  <a:prstGeom prst="rect">
                    <a:avLst/>
                  </a:prstGeom>
                  <a:ln w="381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6095880" y="5715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 for polarized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for unpolarized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incar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é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8387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present the polarization state as a point on the surface of a sphere of rad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4788000" y="0"/>
          <a:ext cx="9730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0"/>
                    <a:ext cx="973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924520" y="1822320"/>
            <a:ext cx="3022560" cy="30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1517760" y="3162240"/>
          <a:ext cx="2222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17760" y="3162240"/>
                    <a:ext cx="2222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09480" y="4178160"/>
            <a:ext cx="515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equator are linearly polarized light at different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and South poles are circular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ints are elliptically pola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49760" y="4013280"/>
            <a:ext cx="1155960" cy="1447560"/>
            <a:chOff x="5549760" y="4013280"/>
            <a:chExt cx="1155960" cy="1447560"/>
          </a:xfrm>
        </p:grpSpPr>
        <p:sp>
          <p:nvSpPr>
            <p:cNvPr id="392" name=""/>
            <p:cNvSpPr/>
            <p:nvPr/>
          </p:nvSpPr>
          <p:spPr>
            <a:xfrm>
              <a:off x="5549760" y="5105520"/>
              <a:ext cx="1155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566040" y="4013280"/>
              <a:ext cx="12672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886520" y="1879560"/>
            <a:ext cx="1257480" cy="990720"/>
            <a:chOff x="7886520" y="1879560"/>
            <a:chExt cx="1257480" cy="990720"/>
          </a:xfrm>
        </p:grpSpPr>
        <p:sp>
          <p:nvSpPr>
            <p:cNvPr id="395" name=""/>
            <p:cNvSpPr/>
            <p:nvPr/>
          </p:nvSpPr>
          <p:spPr>
            <a:xfrm>
              <a:off x="7988400" y="1879560"/>
              <a:ext cx="1155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886520" y="2057400"/>
              <a:ext cx="11412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394840" y="3479760"/>
            <a:ext cx="622080" cy="1117800"/>
            <a:chOff x="8394840" y="3479760"/>
            <a:chExt cx="622080" cy="1117800"/>
          </a:xfrm>
        </p:grpSpPr>
        <p:sp>
          <p:nvSpPr>
            <p:cNvPr id="398" name=""/>
            <p:cNvSpPr/>
            <p:nvPr/>
          </p:nvSpPr>
          <p:spPr>
            <a:xfrm>
              <a:off x="8394840" y="4241880"/>
              <a:ext cx="622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8470440" y="3479760"/>
              <a:ext cx="19044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965840" y="2971800"/>
            <a:ext cx="1104840" cy="495360"/>
            <a:chOff x="4965840" y="2971800"/>
            <a:chExt cx="1104840" cy="495360"/>
          </a:xfrm>
        </p:grpSpPr>
        <p:sp>
          <p:nvSpPr>
            <p:cNvPr id="401" name=""/>
            <p:cNvSpPr/>
            <p:nvPr/>
          </p:nvSpPr>
          <p:spPr>
            <a:xfrm>
              <a:off x="4965840" y="2971800"/>
              <a:ext cx="711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7160" y="3174840"/>
              <a:ext cx="53352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37440" y="1371600"/>
            <a:ext cx="939600" cy="901800"/>
            <a:chOff x="6337440" y="1371600"/>
            <a:chExt cx="939600" cy="901800"/>
          </a:xfrm>
        </p:grpSpPr>
        <p:sp>
          <p:nvSpPr>
            <p:cNvPr id="404" name=""/>
            <p:cNvSpPr/>
            <p:nvPr/>
          </p:nvSpPr>
          <p:spPr>
            <a:xfrm>
              <a:off x="6337440" y="1371600"/>
              <a:ext cx="711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H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05720" y="1714680"/>
              <a:ext cx="5713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289640" y="4673520"/>
            <a:ext cx="1079640" cy="825480"/>
            <a:chOff x="7289640" y="4673520"/>
            <a:chExt cx="1079640" cy="825480"/>
          </a:xfrm>
        </p:grpSpPr>
        <p:sp>
          <p:nvSpPr>
            <p:cNvPr id="407" name=""/>
            <p:cNvSpPr/>
            <p:nvPr/>
          </p:nvSpPr>
          <p:spPr>
            <a:xfrm>
              <a:off x="7658280" y="5143680"/>
              <a:ext cx="711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7289640" y="4673520"/>
              <a:ext cx="4572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33720" y="3581280"/>
            <a:ext cx="5029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ueller Matrices multiply Stokes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write the four Stokes parameters in vector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 can define matrices that multiply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as Jones matrices multiply Jones vec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86000" y="3732120"/>
            <a:ext cx="4757760" cy="6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7467480" y="990720"/>
          <a:ext cx="9730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990720"/>
                    <a:ext cx="973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606240" y="4800600"/>
            <a:ext cx="767412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del the effects of more than one medium on the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, just multiply the input polarization Stokes vector by all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eller mat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 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3504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okes vectors (and Jones vectors for compari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1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The Pockels Effect:  Electro-optic const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8120" y="1066680"/>
          <a:ext cx="271620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066680"/>
                    <a:ext cx="27162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2590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00200" y="2193840"/>
          <a:ext cx="707220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200" y="2193840"/>
                    <a:ext cx="70722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1676520" y="3886200"/>
            <a:ext cx="6016680" cy="2827440"/>
            <a:chOff x="1676520" y="3886200"/>
            <a:chExt cx="6016680" cy="282744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rcRect l="0" t="2624" r="0" b="0"/>
            <a:stretch/>
          </p:blipFill>
          <p:spPr>
            <a:xfrm>
              <a:off x="1676520" y="3886200"/>
              <a:ext cx="601668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52480" y="5943600"/>
              <a:ext cx="152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3886200"/>
              <a:ext cx="57150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3962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Mueller Matrices (and Jones Matrices for compari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952880" y="295200"/>
            <a:ext cx="331020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8320" y="206280"/>
            <a:ext cx="4129200" cy="6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he Q-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320" y="1047600"/>
            <a:ext cx="7780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igh-power lasers, we desire to prevent the laser from lasing until we’ve finished dumping all the energy into the laser medium.  Then we let it lase.  A Pockels’ cell is the way we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ckels’ cell switches (in a few nanoseconds) from a quarter-wave plate to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9800" y="291636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02040" y="290196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8480" y="3322800"/>
            <a:ext cx="2948040" cy="195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0160" y="43480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ckels’ cell as wave plate w/ axes 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6040" y="33066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4000" y="407052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71840" y="3743280"/>
            <a:ext cx="356760" cy="622080"/>
            <a:chOff x="2571840" y="3743280"/>
            <a:chExt cx="356760" cy="622080"/>
          </a:xfrm>
        </p:grpSpPr>
        <p:sp>
          <p:nvSpPr>
            <p:cNvPr id="115" name=""/>
            <p:cNvSpPr/>
            <p:nvPr/>
          </p:nvSpPr>
          <p:spPr>
            <a:xfrm flipH="1">
              <a:off x="2571840" y="405432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200" y="3744360"/>
              <a:ext cx="140400" cy="618480"/>
            </a:xfrm>
            <a:prstGeom prst="diamond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71840" y="374328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65360" y="3855600"/>
            <a:ext cx="507960" cy="514440"/>
            <a:chOff x="1665360" y="3855600"/>
            <a:chExt cx="507960" cy="514440"/>
          </a:xfrm>
        </p:grpSpPr>
        <p:sp>
          <p:nvSpPr>
            <p:cNvPr id="119" name=""/>
            <p:cNvSpPr/>
            <p:nvPr/>
          </p:nvSpPr>
          <p:spPr>
            <a:xfrm flipV="1">
              <a:off x="1665360" y="3855240"/>
              <a:ext cx="507960" cy="514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68600" y="3857040"/>
              <a:ext cx="48888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5400000">
            <a:off x="3297960" y="3908160"/>
            <a:ext cx="709560" cy="290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91400" y="3306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91200" y="3306600"/>
            <a:ext cx="294804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4960" y="3897360"/>
            <a:ext cx="204480" cy="406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3880" y="4319640"/>
            <a:ext cx="19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ckels’ cell as an isotropic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21240" y="33195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81600" y="3852720"/>
            <a:ext cx="507960" cy="514440"/>
            <a:chOff x="5781600" y="3852720"/>
            <a:chExt cx="507960" cy="514440"/>
          </a:xfrm>
        </p:grpSpPr>
        <p:sp>
          <p:nvSpPr>
            <p:cNvPr id="128" name=""/>
            <p:cNvSpPr/>
            <p:nvPr/>
          </p:nvSpPr>
          <p:spPr>
            <a:xfrm>
              <a:off x="5781600" y="3852720"/>
              <a:ext cx="507960" cy="514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3863880"/>
              <a:ext cx="48888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304760" y="3327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5400000">
            <a:off x="7411320" y="3885840"/>
            <a:ext cx="709560" cy="290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3960" y="5432400"/>
            <a:ext cx="432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becomes circular on the first pass and then horizontal on the next and is then rejected by the polari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4720" y="4438800"/>
            <a:ext cx="0" cy="2905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1720" y="5432400"/>
            <a:ext cx="33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is unaffected by the Pockels’ cell and hence is passed by the polari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040" y="3983040"/>
            <a:ext cx="324360" cy="138240"/>
            <a:chOff x="5270040" y="3983040"/>
            <a:chExt cx="324360" cy="138240"/>
          </a:xfrm>
        </p:grpSpPr>
        <p:sp>
          <p:nvSpPr>
            <p:cNvPr id="136" name=""/>
            <p:cNvSpPr/>
            <p:nvPr/>
          </p:nvSpPr>
          <p:spPr>
            <a:xfrm>
              <a:off x="5303880" y="3983040"/>
              <a:ext cx="2905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70040" y="4121280"/>
              <a:ext cx="2905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57120" y="3998880"/>
            <a:ext cx="324360" cy="138240"/>
            <a:chOff x="3057120" y="3998880"/>
            <a:chExt cx="324360" cy="138240"/>
          </a:xfrm>
        </p:grpSpPr>
        <p:sp>
          <p:nvSpPr>
            <p:cNvPr id="139" name=""/>
            <p:cNvSpPr/>
            <p:nvPr/>
          </p:nvSpPr>
          <p:spPr>
            <a:xfrm>
              <a:off x="3090960" y="3998880"/>
              <a:ext cx="2905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57120" y="4137120"/>
              <a:ext cx="2905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170840" y="3976560"/>
            <a:ext cx="323280" cy="138240"/>
            <a:chOff x="7170840" y="3976560"/>
            <a:chExt cx="323280" cy="138240"/>
          </a:xfrm>
        </p:grpSpPr>
        <p:sp>
          <p:nvSpPr>
            <p:cNvPr id="142" name=""/>
            <p:cNvSpPr/>
            <p:nvPr/>
          </p:nvSpPr>
          <p:spPr>
            <a:xfrm>
              <a:off x="7203960" y="3976560"/>
              <a:ext cx="2901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170840" y="4114800"/>
              <a:ext cx="2901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2520" y="457200"/>
            <a:ext cx="3809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-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87160" y="1382400"/>
            <a:ext cx="302724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switching invol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eventing the laser from lasing until the flash lamp is finished flashing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bruptly allowing the laser to 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299120" y="1496880"/>
            <a:ext cx="3948120" cy="2351160"/>
            <a:chOff x="4299120" y="1496880"/>
            <a:chExt cx="3948120" cy="2351160"/>
          </a:xfrm>
        </p:grpSpPr>
        <p:sp>
          <p:nvSpPr>
            <p:cNvPr id="147" name=""/>
            <p:cNvSpPr/>
            <p:nvPr/>
          </p:nvSpPr>
          <p:spPr>
            <a:xfrm>
              <a:off x="4299120" y="1496880"/>
              <a:ext cx="394812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934960" y="2353320"/>
              <a:ext cx="150660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353560" y="2197080"/>
              <a:ext cx="0" cy="13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62760" y="341640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32480" y="2144880"/>
              <a:ext cx="7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360" y="31734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66160" y="2286000"/>
              <a:ext cx="1066680" cy="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45440" y="2286000"/>
              <a:ext cx="0" cy="106668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58400" y="3340080"/>
              <a:ext cx="1092240" cy="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00920" y="34383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3940560" y="265356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99"/>
                  </a:solidFill>
                  <a:latin typeface="Arial"/>
                </a:rPr>
                <a:t>Cavity 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53560" y="2488680"/>
              <a:ext cx="1637640" cy="927360"/>
              <a:chOff x="5353560" y="2488680"/>
              <a:chExt cx="1637640" cy="92736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5353560" y="2501640"/>
                <a:ext cx="964800" cy="914400"/>
              </a:xfrm>
              <a:prstGeom prst="line">
                <a:avLst/>
              </a:prstGeom>
              <a:ln w="28440">
                <a:solidFill>
                  <a:srgbClr val="ed18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18360" y="2501640"/>
                <a:ext cx="342720" cy="0"/>
              </a:xfrm>
              <a:prstGeom prst="line">
                <a:avLst/>
              </a:prstGeom>
              <a:ln w="28440">
                <a:solidFill>
                  <a:srgbClr val="ed18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661440" y="2488680"/>
                <a:ext cx="329760" cy="901800"/>
              </a:xfrm>
              <a:prstGeom prst="line">
                <a:avLst/>
              </a:prstGeom>
              <a:ln w="28440">
                <a:solidFill>
                  <a:srgbClr val="ed18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6200000">
              <a:off x="7275240" y="2577240"/>
              <a:ext cx="12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d181e"/>
                  </a:solidFill>
                  <a:latin typeface="Arial"/>
                </a:rPr>
                <a:t>Cavity G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39560" y="2197080"/>
              <a:ext cx="0" cy="13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96120" y="1581120"/>
              <a:ext cx="159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put 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91640" y="1785960"/>
              <a:ext cx="4316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87520" y="4986360"/>
            <a:ext cx="7489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 a short “giant” high-power pu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lse length is limited by the round-trip time of the laser and yields pulses 10 - 100 n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The Kerr effect:  the polarization rotation is proportional to the Kerr constant and </a:t>
            </a:r>
            <a:r>
              <a:rPr b="1" i="1" lang="en-US" sz="3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</a:t>
            </a:r>
            <a:r>
              <a:rPr b="1" i="1" lang="en-US" sz="3200" spc="-1" strike="noStrike" baseline="30000">
                <a:solidFill>
                  <a:srgbClr val="ffcc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40516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duced birefring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lectric field streng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“Kerr constant” of th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120" y="5029200"/>
            <a:ext cx="821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Kerr effect in isotropic media, where the Pockels' effect i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"AC Kerr Effect" creates birefringence using intense fields of a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.  Usually very high irradiances from ultrashort laser puls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 create quarter-wave ro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73200" y="1585800"/>
          <a:ext cx="1549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585800"/>
                    <a:ext cx="1549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3124080" y="1523880"/>
            <a:ext cx="5715000" cy="3200400"/>
            <a:chOff x="3124080" y="1523880"/>
            <a:chExt cx="5715000" cy="3200400"/>
          </a:xfrm>
        </p:grpSpPr>
        <p:sp>
          <p:nvSpPr>
            <p:cNvPr id="174" name=""/>
            <p:cNvSpPr/>
            <p:nvPr/>
          </p:nvSpPr>
          <p:spPr>
            <a:xfrm>
              <a:off x="3124080" y="1523880"/>
              <a:ext cx="571500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rcRect l="0" t="5933" r="1340" b="7232"/>
            <a:stretch/>
          </p:blipFill>
          <p:spPr>
            <a:xfrm rot="73800">
              <a:off x="3274920" y="1749240"/>
              <a:ext cx="5488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352680" y="1600200"/>
              <a:ext cx="18288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4495680"/>
              <a:ext cx="1828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2666880"/>
            <a:ext cx="693432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hotoelasticity: “Stress-induced Birefring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plastic triangle between parallel and crossed polar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65120" y="2973240"/>
            <a:ext cx="6483600" cy="2360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04640" y="26431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0440" y="264312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57150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see this in col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913320" y="1543320"/>
            <a:ext cx="3872520" cy="3914280"/>
            <a:chOff x="913320" y="1543320"/>
            <a:chExt cx="3872520" cy="3914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451160" y="2367000"/>
              <a:ext cx="2701800" cy="30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rot="19738200">
              <a:off x="971640" y="2178360"/>
              <a:ext cx="1853640" cy="741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68200">
              <a:off x="2869560" y="1951200"/>
              <a:ext cx="1853640" cy="740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5600" y="21888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ss-Induced Birefringence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16680" y="2408400"/>
            <a:ext cx="2749320" cy="302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81200" y="17128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tificially grown diamond with nitrogen imp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3640" y="5971320"/>
            <a:ext cx="61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d by strain associated with growth bound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2286000"/>
            <a:ext cx="79246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More Photo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's not enough stress in a medium to begin with, you can always add more yoursel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23583" t="0" r="23583" b="0"/>
          <a:stretch/>
        </p:blipFill>
        <p:spPr>
          <a:xfrm>
            <a:off x="990720" y="2743200"/>
            <a:ext cx="7315200" cy="2695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61600" y="234648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plastic between crossed polar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3360" y="5927760"/>
            <a:ext cx="74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is effect to improve the performance of polariz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1:40:00Z</dcterms:created>
  <dc:creator>Rick Trebino</dc:creator>
  <dc:description/>
  <dc:language>en-US</dc:language>
  <cp:lastModifiedBy>Robin Marjoribanks</cp:lastModifiedBy>
  <dcterms:modified xsi:type="dcterms:W3CDTF">2008-10-28T18:08:17Z</dcterms:modified>
  <cp:revision>151</cp:revision>
  <dc:subject/>
  <dc:title>12. Optical Activity &amp; Jones Matrices</dc:title>
</cp:coreProperties>
</file>