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ct" ContentType="image/x-pict"/>
  <Override PartName="/ppt/media/image13.pct" ContentType="image/x-pict"/>
  <Override PartName="/ppt/media/image8.pct" ContentType="image/x-pict"/>
  <Override PartName="/ppt/media/image17.png" ContentType="image/png"/>
  <Override PartName="/ppt/media/image14.pct" ContentType="image/x-pict"/>
  <Override PartName="/ppt/media/image16.png" ContentType="image/png"/>
  <Override PartName="/ppt/media/image15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2359-072B-4CE6-89CE-DDBDCC6A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209-3189-4B24-B90B-B431F30C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DFB4-C5BC-4748-9C7F-ACB2E0CE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8AE-E005-4FEE-92CA-181261C5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5BAC-402F-4735-BE87-4EBFB592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39B3-4A08-40B6-A835-2752D749C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CFE7-87E7-4BC3-BEA5-2815EA40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E5F0-FBBE-4969-BAAF-2486E644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EE7E-EDD6-422B-BA94-8F0C1112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8036-6990-4479-B2CA-2672B13B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874E3-45A9-48B1-90E0-24EE86F5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DC3-A556-4412-80D5-02DF767E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1423-B21C-45C5-90F5-D549CF34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801A-3C88-4270-841D-A962CC1C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164C-00EE-49BD-BFBC-3866C64E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5CFFD-5180-4006-83DA-E40B533B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8841-8664-4693-8FA1-4C699939E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D716-A924-4779-AC52-C2DAD130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4037-EFA6-4920-B122-47C5C187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1125-CF23-45D7-AC0C-F4F34CFB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62B1-A86B-4966-BECB-E5925C66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3A3-6461-4E84-AFBE-D06D0542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5543-F4EB-43FB-A50A-7AEB747E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9C9-565E-4D76-808C-D6D96681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1C4F-C55A-4E40-B046-1FA25CA8A01C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1DB1-FB00-46B8-B2B9-CBED0FA87F15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Midterm marking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739152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your marker Luke McKinney now has the set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he’ll mark Q2 and Q4, then give them to me to mark Q1 and Q3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e hope to have everything marked and recorded in two week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how was it?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tal internal reflec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4" name="Lab/Office 60:Teaching stuff:PHY485/1860F (2005):PHY485/1860F 2004 Lectures:Lecture 11:BTV Movie 007.mo" descr=""/>
          <p:cNvPicPr/>
          <p:nvPr/>
        </p:nvPicPr>
        <p:blipFill>
          <a:blip r:embed="rId1"/>
          <a:stretch/>
        </p:blipFill>
        <p:spPr>
          <a:xfrm>
            <a:off x="0" y="760320"/>
            <a:ext cx="8129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Total internal reflec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6" name="Lab/Office 60:Teaching stuff:PHY485/1860F (2005):PHY485/1860F 2004 Lectures:Lecture 11:BTV Movie 003.mo" descr=""/>
          <p:cNvPicPr/>
          <p:nvPr/>
        </p:nvPicPr>
        <p:blipFill>
          <a:blip r:embed="rId1"/>
          <a:stretch/>
        </p:blipFill>
        <p:spPr>
          <a:xfrm>
            <a:off x="0" y="760320"/>
            <a:ext cx="8129520" cy="609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Spherical aberra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5520" y="1676520"/>
            <a:ext cx="377208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5520" y="4203720"/>
            <a:ext cx="3822840" cy="2577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1200" y="1447920"/>
            <a:ext cx="229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cusing with aberration-free lens</a:t>
            </a:r>
            <a:endParaRPr b="0" lang="en-US" sz="11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4080" y="3962520"/>
            <a:ext cx="334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cusing with a lens exhibiting spherical aberration</a:t>
            </a:r>
            <a:endParaRPr b="0" lang="en-US" sz="11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267080" y="4170240"/>
            <a:ext cx="3456000" cy="2611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341600" y="3930480"/>
            <a:ext cx="26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vefront showing spherical aberration</a:t>
            </a:r>
            <a:endParaRPr b="0" lang="en-US" sz="11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Astigmatism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5083200" cy="3461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9760" y="1447920"/>
            <a:ext cx="2899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tigmatism represented by sectional views</a:t>
            </a:r>
            <a:endParaRPr b="0" lang="en-US" sz="11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181480" y="4191120"/>
            <a:ext cx="3071880" cy="23097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789880" y="3886200"/>
            <a:ext cx="1669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 astigmatic wavefront</a:t>
            </a:r>
            <a:endParaRPr b="0" lang="en-US" sz="11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oma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29200" y="4251240"/>
            <a:ext cx="3463920" cy="2606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865840" y="3930480"/>
            <a:ext cx="1591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wavefront with coma</a:t>
            </a:r>
            <a:endParaRPr b="0" lang="en-US" sz="1100" spc="-1" strike="noStrike">
              <a:solidFill>
                <a:srgbClr val="2d2525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447920"/>
            <a:ext cx="51436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Pincushion and barrel distor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5465520" cy="2454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57200" y="1600200"/>
            <a:ext cx="214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incushion and barrel distortion</a:t>
            </a:r>
            <a:endParaRPr b="0" lang="en-US" sz="11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hromatic aberration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662360" cy="3124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27520" y="1600200"/>
            <a:ext cx="2251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ngitudinal chromatic aberration</a:t>
            </a:r>
            <a:endParaRPr b="0" lang="en-US" sz="11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abry Pero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 rot="5400000">
            <a:off x="1657440" y="932040"/>
            <a:ext cx="4552920" cy="665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abry Pero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rot="5400000">
            <a:off x="1715760" y="874440"/>
            <a:ext cx="4442040" cy="66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Recap – course approach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739152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multiple resourc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extbook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lecture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online materials: demos, application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office hour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other text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tudy/work group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all are needed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each has particular advantage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Lecture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ill concentrate on what lectures do bes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on’t just lead you through the textbook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ill provide interaction and feedback that books canno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ill provide demonstrations and animations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will depend on you having read </a:t>
            </a:r>
            <a:r>
              <a:rPr b="1" i="1" lang="en-US" sz="3200" spc="-1" strike="noStrike">
                <a:solidFill>
                  <a:srgbClr val="2d2525"/>
                </a:solidFill>
                <a:latin typeface="Times New Roman"/>
              </a:rPr>
              <a:t>also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Next reading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Hecht:  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Ch 10 – geometrical optics:  lenses, mirrors, aberration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Ch 10 – ray-matrix technique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Ch 3 – interference, partial coherence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Group presentations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groups of 3-4, usually PowerPoint (copies to class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topic of your choice, but must clear it with me (see suggested topics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20–30 minutes (depends on number of groups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Date:  Saturday 29 November 9-4 pm (changed)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ubstitutes for one problem-set mark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marked on learning value to class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resnel r</a:t>
            </a:r>
            <a:r>
              <a:rPr b="0" lang="en-US" sz="5400" spc="-1" strike="noStrike" baseline="-25000">
                <a:solidFill>
                  <a:srgbClr val="061c62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&amp; r</a:t>
            </a:r>
            <a:r>
              <a:rPr b="0" lang="en-US" sz="5400" spc="-1" strike="noStrike" baseline="-25000">
                <a:solidFill>
                  <a:srgbClr val="061c62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E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M)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6311880" cy="4483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057400" y="24382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=1.5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resnel r</a:t>
            </a:r>
            <a:r>
              <a:rPr b="0" lang="en-US" sz="5400" spc="-1" strike="noStrike" baseline="-25000">
                <a:solidFill>
                  <a:srgbClr val="061c62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&amp; r</a:t>
            </a:r>
            <a:r>
              <a:rPr b="0" lang="en-US" sz="5400" spc="-1" strike="noStrike" baseline="-25000">
                <a:solidFill>
                  <a:srgbClr val="061c62"/>
                </a:solidFill>
                <a:latin typeface="Times New Roman"/>
              </a:rPr>
              <a:t>p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E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M)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6311880" cy="4483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828800" y="2362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=0.67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84560" y="2478240"/>
            <a:ext cx="3352680" cy="4038480"/>
          </a:xfrm>
          <a:prstGeom prst="rect">
            <a:avLst/>
          </a:prstGeom>
          <a:gradFill rotWithShape="0">
            <a:gsLst>
              <a:gs pos="0">
                <a:srgbClr val="63623e">
                  <a:alpha val="27058"/>
                </a:srgbClr>
              </a:gs>
              <a:gs pos="50000">
                <a:srgbClr val="d8d688">
                  <a:alpha val="28235"/>
                </a:srgbClr>
              </a:gs>
              <a:gs pos="100000">
                <a:srgbClr val="63623e">
                  <a:alpha val="27058"/>
                </a:srgbClr>
              </a:gs>
            </a:gsLst>
            <a:lin ang="5400000"/>
          </a:gra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otal internal refle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resnel |r</a:t>
            </a:r>
            <a:r>
              <a:rPr b="0" lang="en-US" sz="5400" spc="-1" strike="noStrike" baseline="-25000">
                <a:solidFill>
                  <a:srgbClr val="061c62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|</a:t>
            </a:r>
            <a:r>
              <a:rPr b="0" lang="en-US" sz="4400" spc="-1" strike="noStrike" baseline="30000">
                <a:solidFill>
                  <a:srgbClr val="061c62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&amp; |r</a:t>
            </a:r>
            <a:r>
              <a:rPr b="0" lang="en-US" sz="5400" spc="-1" strike="noStrike" baseline="-25000">
                <a:solidFill>
                  <a:srgbClr val="061c62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|</a:t>
            </a:r>
            <a:r>
              <a:rPr b="0" lang="en-US" sz="4400" spc="-1" strike="noStrike" baseline="30000">
                <a:solidFill>
                  <a:srgbClr val="061c62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E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M)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6311880" cy="448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209680" y="25146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=1.5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Fresnel |r</a:t>
            </a:r>
            <a:r>
              <a:rPr b="0" lang="en-US" sz="5400" spc="-1" strike="noStrike" baseline="-25000">
                <a:solidFill>
                  <a:srgbClr val="061c62"/>
                </a:solidFill>
                <a:latin typeface="Times New Roman"/>
              </a:rPr>
              <a:t>s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|</a:t>
            </a:r>
            <a:r>
              <a:rPr b="0" lang="en-US" sz="4400" spc="-1" strike="noStrike" baseline="30000">
                <a:solidFill>
                  <a:srgbClr val="061c62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&amp; |r</a:t>
            </a:r>
            <a:r>
              <a:rPr b="0" lang="en-US" sz="5400" spc="-1" strike="noStrike" baseline="-25000">
                <a:solidFill>
                  <a:srgbClr val="061c62"/>
                </a:solidFill>
                <a:latin typeface="Times New Roman"/>
              </a:rPr>
              <a:t>p 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|</a:t>
            </a:r>
            <a:r>
              <a:rPr b="0" lang="en-US" sz="4400" spc="-1" strike="noStrike" baseline="30000">
                <a:solidFill>
                  <a:srgbClr val="061c62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(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E</a:t>
            </a: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 &amp;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TM)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6311880" cy="4483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3372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n=0.67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49600" y="2362320"/>
            <a:ext cx="3352680" cy="4038480"/>
          </a:xfrm>
          <a:prstGeom prst="rect">
            <a:avLst/>
          </a:prstGeom>
          <a:gradFill rotWithShape="0">
            <a:gsLst>
              <a:gs pos="0">
                <a:srgbClr val="63623e">
                  <a:alpha val="27058"/>
                </a:srgbClr>
              </a:gs>
              <a:gs pos="50000">
                <a:srgbClr val="d8d688">
                  <a:alpha val="28235"/>
                </a:srgbClr>
              </a:gs>
              <a:gs pos="100000">
                <a:srgbClr val="63623e">
                  <a:alpha val="27058"/>
                </a:srgbClr>
              </a:gs>
            </a:gsLst>
            <a:lin ang="5400000"/>
          </a:gradFill>
          <a:ln w="9360">
            <a:solidFill>
              <a:srgbClr val="2d25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94040" y="36180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2525"/>
                </a:solidFill>
                <a:latin typeface="Times New Roman"/>
              </a:rPr>
              <a:t>total internal reflection</a:t>
            </a:r>
            <a:endParaRPr b="0" lang="en-US" sz="24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02:40:32Z</dcterms:created>
  <dc:creator>dobra chelovich</dc:creator>
  <dc:description/>
  <cp:keywords/>
  <dc:language>en-US</dc:language>
  <cp:lastModifiedBy>Robin Marjoribanks</cp:lastModifiedBy>
  <dcterms:modified xsi:type="dcterms:W3CDTF">2008-11-04T16:02:05Z</dcterms:modified>
  <cp:revision>52</cp:revision>
  <dc:subject/>
  <dc:title>Oscillations and Waves PHY255F</dc:title>
</cp:coreProperties>
</file>