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ct" ContentType="image/x-pict"/>
  <Override PartName="/ppt/media/image9.pct" ContentType="image/x-pict"/>
  <Override PartName="/ppt/media/image10.pct" ContentType="image/x-pict"/>
  <Override PartName="/ppt/media/image11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F40C-76F7-4AF6-A620-227282034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D42B-E49B-4E6D-BCB9-8E9A160FB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614F-C16E-4A54-978D-A7BA4D28B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1B7B-5102-4D79-AC77-02AE03DF5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64155-2E4D-4905-8906-D9F3D0E38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0B2D7-BDA6-4F90-90C5-D23043E8E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CA5A9-2A61-466A-9EFE-FE9AB99F4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661D2-9C20-41F3-9BC5-6BDA16181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B1E68-8706-4F0E-BE12-662FDAA0B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10FF4-2385-43C4-B5C8-3177A0FF6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2675E-C99A-42DE-B0D8-750EF61C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810D-286C-4F63-9B3D-B24D3D990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EE5A9-9ED8-4BE5-A7D3-85BAB2036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3E73E-0D8C-4392-BB26-A130A34A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91ADE-01C5-4186-8A87-0DD758317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9EEBF-9E7B-46B2-9FB3-C2B6DE508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54A5A-4C75-43B1-BECC-1E8069C61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3AB9-017B-41B3-BB98-91B59ED57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973D-5C59-4948-9CD4-5E1093D32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B1C6-3422-41DB-B8D7-BEA7B9BEA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886A-9CAD-4731-B4FD-C714CB192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480F-97E0-4188-91DA-6B4ABA7C0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099E-B98C-450C-8CE3-106E8FBC9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B88F-95C8-4A4B-A869-26A19D8D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1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8471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5142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0958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43B19-84B9-4A86-844B-94015FC32D7E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45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1920" y="990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01956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2BC48-A190-4306-A055-F20F1515FD1B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7391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Thing for the day-II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73915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33"/>
                </a:solidFill>
                <a:latin typeface="Times New Roman"/>
              </a:rPr>
              <a:t>coherent a. &amp; sb.</a:t>
            </a:r>
            <a:endParaRPr b="0" i="1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1" i="1" lang="en-US" sz="1400" spc="-1" strike="noStrike">
                <a:solidFill>
                  <a:srgbClr val="2d2525"/>
                </a:solidFill>
                <a:latin typeface="Times-Bold"/>
              </a:rPr>
              <a:t>d. </a:t>
            </a:r>
            <a:r>
              <a:rPr b="0" i="1" lang="en-US" sz="1400" spc="-1" strike="noStrike">
                <a:solidFill>
                  <a:srgbClr val="2d2525"/>
                </a:solidFill>
                <a:latin typeface="Times New Roman"/>
              </a:rPr>
              <a:t> Various spec. senses in Physics (see quots.).</a:t>
            </a:r>
            <a:endParaRPr b="0" i="1" lang="en-US" sz="14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2d2525"/>
                </a:solidFill>
                <a:latin typeface="Times New Roman"/>
              </a:rPr>
              <a:t>	</a:t>
            </a:r>
            <a:r>
              <a:rPr b="0" i="1" lang="en-US" sz="1400" spc="-1" strike="noStrike">
                <a:solidFill>
                  <a:srgbClr val="2d2525"/>
                </a:solidFill>
                <a:latin typeface="Times New Roman"/>
              </a:rPr>
              <a:t>•  </a:t>
            </a:r>
            <a:r>
              <a:rPr b="1" i="1" lang="en-US" sz="1400" spc="-1" strike="noStrike">
                <a:solidFill>
                  <a:srgbClr val="2d2525"/>
                </a:solidFill>
                <a:latin typeface="Times-Bold"/>
              </a:rPr>
              <a:t>1902</a:t>
            </a:r>
            <a:r>
              <a:rPr b="0" i="1" lang="en-US" sz="1400" spc="-1" strike="noStrike">
                <a:solidFill>
                  <a:srgbClr val="2d2525"/>
                </a:solidFill>
                <a:latin typeface="Times New Roman"/>
              </a:rPr>
              <a:t> Mann &amp; Millikan tr; </a:t>
            </a:r>
            <a:r>
              <a:rPr b="0" i="1" lang="en-US" sz="1400" spc="-1" strike="noStrike">
                <a:solidFill>
                  <a:srgbClr val="2d2525"/>
                </a:solidFill>
                <a:latin typeface="Times-Italic"/>
              </a:rPr>
              <a:t>Drude's Theory of Optics</a:t>
            </a: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 134 If two sources are to produce interference,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9e0000"/>
                </a:solidFill>
                <a:latin typeface="Times New Roman"/>
              </a:rPr>
              <a:t>their phases must always be either exactly the same or else have a constant difference</a:t>
            </a: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. Such sources are called coherent.</a:t>
            </a:r>
            <a:endParaRPr b="0" i="1" lang="en-US" sz="14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•  </a:t>
            </a:r>
            <a:r>
              <a:rPr b="1" lang="en-US" sz="1400" spc="-1" strike="noStrike">
                <a:solidFill>
                  <a:srgbClr val="2d2525"/>
                </a:solidFill>
                <a:latin typeface="Times-Bold"/>
              </a:rPr>
              <a:t>1939</a:t>
            </a: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 I. Tamm in </a:t>
            </a:r>
            <a:r>
              <a:rPr b="0" i="1" lang="en-US" sz="1400" spc="-1" strike="noStrike">
                <a:solidFill>
                  <a:srgbClr val="2d2525"/>
                </a:solidFill>
                <a:latin typeface="Times-Italic"/>
              </a:rPr>
              <a:t>Jrnl. Physics USSR</a:t>
            </a: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 I. 454 The experimental investigation of the Cerenkov radiation is made possible..by the fact that in the visible region the </a:t>
            </a:r>
            <a:r>
              <a:rPr b="0" lang="en-US" sz="1400" spc="-1" strike="noStrike">
                <a:solidFill>
                  <a:srgbClr val="9e0000"/>
                </a:solidFill>
                <a:latin typeface="Times New Roman"/>
              </a:rPr>
              <a:t>intensity of the coherent radiation is much greater than that of the Bremsstrahlung</a:t>
            </a: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.</a:t>
            </a:r>
            <a:endParaRPr b="0" i="1" lang="en-US" sz="14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•  </a:t>
            </a:r>
            <a:r>
              <a:rPr b="1" lang="en-US" sz="1400" spc="-1" strike="noStrike">
                <a:solidFill>
                  <a:srgbClr val="2d2525"/>
                </a:solidFill>
                <a:latin typeface="Times-Bold"/>
              </a:rPr>
              <a:t>1957</a:t>
            </a: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2d2525"/>
                </a:solidFill>
                <a:latin typeface="Times-Italic"/>
              </a:rPr>
              <a:t>Gloss. Terms Nucl. Sci.</a:t>
            </a: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 (Nat. Res. Council, U.S.) 151/2 Scattering of particles or photons in which there are </a:t>
            </a:r>
            <a:r>
              <a:rPr b="0" lang="en-US" sz="1400" spc="-1" strike="noStrike">
                <a:solidFill>
                  <a:srgbClr val="9e0000"/>
                </a:solidFill>
                <a:latin typeface="Times New Roman"/>
              </a:rPr>
              <a:t>definite phase relationships between the incoming and the scattered waves</a:t>
            </a: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, is termed coherent scattering.</a:t>
            </a:r>
            <a:endParaRPr b="0" i="1" lang="en-US" sz="14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•  </a:t>
            </a:r>
            <a:r>
              <a:rPr b="1" lang="en-US" sz="1400" spc="-1" strike="noStrike">
                <a:solidFill>
                  <a:srgbClr val="2d2525"/>
                </a:solidFill>
                <a:latin typeface="Times-Bold"/>
              </a:rPr>
              <a:t>1960</a:t>
            </a: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 Cooke &amp; Markus </a:t>
            </a:r>
            <a:r>
              <a:rPr b="0" i="1" lang="en-US" sz="1400" spc="-1" strike="noStrike">
                <a:solidFill>
                  <a:srgbClr val="2d2525"/>
                </a:solidFill>
                <a:latin typeface="Times-Italic"/>
              </a:rPr>
              <a:t>Electronics &amp; Nucleonics Dict;</a:t>
            </a: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, </a:t>
            </a:r>
            <a:r>
              <a:rPr b="0" i="1" lang="en-US" sz="1400" spc="-1" strike="noStrike">
                <a:solidFill>
                  <a:srgbClr val="2d2525"/>
                </a:solidFill>
                <a:latin typeface="Times-Italic"/>
              </a:rPr>
              <a:t>Coherent radiation</a:t>
            </a: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, radiation in which there are </a:t>
            </a:r>
            <a:r>
              <a:rPr b="0" lang="en-US" sz="1400" spc="-1" strike="noStrike">
                <a:solidFill>
                  <a:srgbClr val="9e0000"/>
                </a:solidFill>
                <a:latin typeface="Times New Roman"/>
              </a:rPr>
              <a:t>definite phase relationships between different points in a cross-section of the beam</a:t>
            </a: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... Interference bands are observed only between coherent beams.</a:t>
            </a:r>
            <a:endParaRPr b="0" i="1" lang="en-US" sz="14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•  </a:t>
            </a:r>
            <a:r>
              <a:rPr b="1" lang="en-US" sz="1400" spc="-1" strike="noStrike">
                <a:solidFill>
                  <a:srgbClr val="2d2525"/>
                </a:solidFill>
                <a:latin typeface="Times-Bold"/>
              </a:rPr>
              <a:t>1961</a:t>
            </a: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2d2525"/>
                </a:solidFill>
                <a:latin typeface="Times-Italic"/>
              </a:rPr>
              <a:t>Ann. Reg. 1960</a:t>
            </a: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 xi. 396 This light was different from that in the flash since </a:t>
            </a:r>
            <a:r>
              <a:rPr b="0" lang="en-US" sz="1400" spc="-1" strike="noStrike">
                <a:solidFill>
                  <a:srgbClr val="9e0000"/>
                </a:solidFill>
                <a:latin typeface="Times New Roman"/>
              </a:rPr>
              <a:t>the tripping action of the first light to be produced ensured that all subsequent quanta were produced with light waves in synchronism with it</a:t>
            </a: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. In other words, the light produced from the laser was `coherent'.</a:t>
            </a:r>
            <a:endParaRPr b="0" i="1" lang="en-US" sz="1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oherence – Young’s 2 sli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5715000" cy="16509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066680" y="3352680"/>
            <a:ext cx="5715000" cy="16509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066680" y="5105520"/>
            <a:ext cx="571500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oherence – Young’s 2 sli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6604200" cy="22208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09480" y="2655720"/>
            <a:ext cx="6604200" cy="22212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09480" y="4637160"/>
            <a:ext cx="6604200" cy="2220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579280" y="9144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Geneva"/>
              </a:rPr>
              <a:t>V=0.76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579280" y="28954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Geneva"/>
              </a:rPr>
              <a:t>V=0.56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579280" y="48610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Geneva"/>
              </a:rPr>
              <a:t>V=0.40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oherence – Flashers demo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731520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Treating oscillation as E-field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28600" y="1282680"/>
            <a:ext cx="7315200" cy="55753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 flipV="1">
            <a:off x="2133720" y="1402920"/>
            <a:ext cx="0" cy="4800600"/>
          </a:xfrm>
          <a:prstGeom prst="line">
            <a:avLst/>
          </a:prstGeom>
          <a:ln w="19080">
            <a:solidFill>
              <a:srgbClr val="2d252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1676520"/>
            <a:ext cx="3429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08f2"/>
                </a:solidFill>
                <a:latin typeface="Times New Roman"/>
              </a:rPr>
              <a:t>Fringe visibility V, or</a:t>
            </a:r>
            <a:br>
              <a:rPr sz="2400"/>
            </a:br>
            <a:r>
              <a:rPr b="0" lang="en-US" sz="2400" spc="-1" strike="noStrike">
                <a:solidFill>
                  <a:srgbClr val="0608f2"/>
                </a:solidFill>
                <a:latin typeface="Times New Roman"/>
              </a:rPr>
              <a:t>degree of coherence |</a:t>
            </a:r>
            <a:r>
              <a:rPr b="0" lang="en-US" sz="2400" spc="-1" strike="noStrike">
                <a:solidFill>
                  <a:srgbClr val="0608f2"/>
                </a:solidFill>
                <a:latin typeface="Symbol"/>
                <a:ea typeface="Symbol"/>
              </a:rPr>
              <a:t></a:t>
            </a:r>
            <a:r>
              <a:rPr b="0" lang="en-US" sz="2400" spc="-1" strike="noStrike">
                <a:solidFill>
                  <a:srgbClr val="0608f2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200040" y="2057400"/>
            <a:ext cx="762120" cy="1295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-30528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oherence - randomizing phase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108" name="LabOffice 160 orange:Teaching stuff:PHY485/1485F (2007):PHY485/1860F 2007 Lectures:Lecture 18:flashers2004CD.mov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oherence - randomizing phase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110" name="LabOffice 160 orange:Teaching stuff:PHY485/1485F (2007):PHY485/1860F 2007 Lectures:Lecture 18:Finegan2-0.2'.mov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7200720" cy="46846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00200" y="2658960"/>
            <a:ext cx="73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(t)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40240" y="5562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68600" y="2666880"/>
            <a:ext cx="11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Symbol"/>
                <a:ea typeface="Symbol"/>
              </a:rPr>
              <a:t>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(t,</a:t>
            </a:r>
            <a:r>
              <a:rPr b="0" lang="en-US" sz="2400" spc="-1" strike="noStrike">
                <a:solidFill>
                  <a:srgbClr val="2d2525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oherence - randomizing phase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115" name="LabOffice 160 orange:Teaching stuff:PHY485/1485F (2007):PHY485/1860F 2007 Lectures:Lecture 18:Finegan2-0.4'.mov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7200720" cy="46846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00200" y="2658960"/>
            <a:ext cx="73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(t)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40240" y="5562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68600" y="2666880"/>
            <a:ext cx="11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Symbol"/>
                <a:ea typeface="Symbol"/>
              </a:rPr>
              <a:t>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(t,</a:t>
            </a:r>
            <a:r>
              <a:rPr b="0" lang="en-US" sz="2400" spc="-1" strike="noStrike">
                <a:solidFill>
                  <a:srgbClr val="2d2525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oherence - randomizing phase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120" name="LabOffice 160 orange:Teaching stuff:PHY485/1485F (2007):PHY485/1860F 2007 Lectures:Lecture 18:Finegan2-0.8'.mov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7200720" cy="46846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700200" y="2658960"/>
            <a:ext cx="73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(t)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40240" y="5562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68600" y="2666880"/>
            <a:ext cx="11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Symbol"/>
                <a:ea typeface="Symbol"/>
              </a:rPr>
              <a:t>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(t,</a:t>
            </a:r>
            <a:r>
              <a:rPr b="0" lang="en-US" sz="2400" spc="-1" strike="noStrike">
                <a:solidFill>
                  <a:srgbClr val="2d2525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0T02:40:32Z</dcterms:created>
  <dc:creator>dobra chelovich</dc:creator>
  <dc:description/>
  <cp:keywords/>
  <dc:language>en-US</dc:language>
  <cp:lastModifiedBy>dobra chelovich</cp:lastModifiedBy>
  <dcterms:modified xsi:type="dcterms:W3CDTF">2008-11-20T19:44:24Z</dcterms:modified>
  <cp:revision>51</cp:revision>
  <dc:subject/>
  <dc:title>Oscillations and Waves PHY255F</dc:title>
</cp:coreProperties>
</file>