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7.jpeg" ContentType="image/jpeg"/>
  <Override PartName="/ppt/media/image11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ct" ContentType="image/x-pict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8C2-D3E0-40E4-AD38-2029E99F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008-D99F-4915-ADA1-7F69F7E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959-0222-48ED-9247-EA72A666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E30-39E1-4DE0-97C2-DC31DCAD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270E-5293-4178-A283-E65EBB2B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28A-2E08-4BCA-811B-D46C801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AC12-AAC9-494F-81A9-301999C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274C-29DA-45EB-9A0B-157EDAA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89C5-9335-4306-B4AB-2C3F9102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93F-0E34-4129-A740-CB1E1CE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AECE-5E93-4736-BF6B-C2A703A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DAB-506F-4083-BC48-8934B50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5918-18DB-4BB4-948E-308A1DA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AD3-48BB-42F9-B0F1-421C906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BC58-38E4-45F4-94B0-3D35CDF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A22E-3379-4708-AC44-F3B8B376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02ED-6081-450E-A1EE-10BDBE3F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DB4-C505-4E45-9D67-DB931F51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FD7-D119-40F2-BF55-7019E5E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F26-0866-4597-856A-AF916139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6D8-68B2-4E9C-8B21-73A929C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78D-FD84-4794-950D-AB44E5F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5CD-14C3-46CB-9A20-E4A3FDB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BEC-649A-4E87-8C63-483BBA6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6347-D167-46B7-BEFA-4C38E8B664F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53F-59E8-4C2D-98D9-258B1EECC07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inal Exa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id sheet is supplied, you don’t bring on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questions come from past exams, problem sets, textbook, other text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3 hour exa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ost emphasis is on 2nd half, but one question does come from 1st half; naturally, you’re reponsible for the whole course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-field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8" name="Lab/Office 60:Teaching stuff:PHY485/1860F (2005):PHY485/1860F 2004 Lectures:Lecture 18:E-field TEM20 mov''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Lab/Office 60:Teaching stuff:PHY485/1860F (2005):PHY485/1860F 2004 Lectures:Lecture 18:Intensity TEM20 mov''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-field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2" name="Lab/Office 60:Teaching stuff:PHY485/1860F (2005):PHY485/1860F 2004 Lectures:Lecture 18:E-field TEM21 mov''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2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4" name="Lab/Office 60:Teaching stuff:PHY485/1860F (2005):PHY485/1860F 2004 Lectures:Lecture 18:Intensity TEM21 mov''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42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from 3rd/4th year labs HeNe laser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7387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42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from 3rd/4th year labs HeNe laser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mageJ Software (freeware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731960"/>
            <a:ext cx="76233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ageJ Java apple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r WIntel, Macintosh, Linux, Unix, Solaris, etc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reewa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ttp://rsb.info.nih.gov/ij/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aussian beam–area inside FW1/e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7550280" cy="461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44120" y="29718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ayleigh rang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3809880"/>
            <a:ext cx="990720" cy="0"/>
          </a:xfrm>
          <a:prstGeom prst="line">
            <a:avLst/>
          </a:prstGeom>
          <a:ln w="38160">
            <a:solidFill>
              <a:srgbClr val="2d2525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aussian beam-surface of the FW1/e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755028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abry-Perot provides feedbac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088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01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from 3rd/4th year labs HeNe laser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021040"/>
            <a:ext cx="57387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01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from 3rd/4th year labs HeNe laser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573876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01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from 3rd/4th year labs HeNe laser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5468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-field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4" name="TwitTwoo HD:PHY485/1860F (2003):Lecture 16:TEMmn modes animated:E-field TEM10 mov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nsity distribution – TEM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6" name="Lab/Office 60:Teaching stuff:PHY485/1860F (2005):PHY485/1860F 2004 Lectures:Lecture 18:Intensity TEM10 mov2''" descr=""/>
          <p:cNvPicPr/>
          <p:nvPr/>
        </p:nvPicPr>
        <p:blipFill>
          <a:blip r:embed="rId1"/>
          <a:stretch/>
        </p:blipFill>
        <p:spPr>
          <a:xfrm>
            <a:off x="0" y="1749600"/>
            <a:ext cx="77151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dobra chelovich</cp:lastModifiedBy>
  <dcterms:modified xsi:type="dcterms:W3CDTF">2008-12-04T20:03:29Z</dcterms:modified>
  <cp:revision>61</cp:revision>
  <dc:subject/>
  <dc:title>Oscillations and Waves PHY255F</dc:title>
</cp:coreProperties>
</file>