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ct" ContentType="image/x-pict"/>
  <Override PartName="/ppt/media/image7.jpeg" ContentType="image/jpeg"/>
  <Override PartName="/ppt/media/image4.pct" ContentType="image/x-pict"/>
  <Override PartName="/ppt/media/image5.pct" ContentType="image/x-pict"/>
  <Override PartName="/ppt/media/image6.pct" ContentType="image/x-pi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12B49-5865-4530-97CF-59D90728CF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provided by Optics I student, Joel Gearhart, 200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ar spectrum image from: http://wps.prenhall.com/wps/media/objects/610/625137/Chaisson/CH.00.002/HTML/CH.00.002.s5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 image from: http://sohowww.nascom.nasa.gov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6C6A-6CAA-418A-AEF8-518997E22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7D3F-603A-4031-A1C3-039F51235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5799-358F-48BE-A7A5-B3BD2F9C3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E9B0-FBD9-4D7B-9160-1DB5398B0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0C96A-0357-4D4B-B137-C443057F9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7ACDB-326E-4869-8C7A-B715A91F0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14B72-6920-4E1A-97D6-7275D41AD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B3DE3-2769-4A09-9999-DA8007C93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68DCB-F649-403C-8D19-59081D896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91D9B-BAF1-4C5C-81C0-ECA553855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F10BC-E2D3-4856-B079-75A166BEC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B9AA-1AD8-443B-96C5-C8577E544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02AE9-5AA1-4500-97DD-DC7EF7038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A10FB-F6EC-4C04-B6FF-33EE19EBE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080AC-FD46-4CCE-948D-9D033DC07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56F93-CBFB-43B2-8EC2-B82E2C2D7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D823A-6350-46C2-868C-F75ED5C81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A256-53DD-4F33-8063-89070851E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0A49-C68A-4F37-8987-95AF86729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0556-2AE9-4B57-A3D7-119AA6779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07D0-8652-4E2F-B446-2A131EE61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127C-83E1-4B22-994C-86DFA2A44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A4F1-C664-49C5-83FF-365A5A7BC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77F2-CEE5-458C-879A-B00C2A147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25819-14B4-40EE-A018-A2973A0D46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E82D9-8E0E-4D6A-8254-4629ADDB2E2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ct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pct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5443560" y="878040"/>
            <a:ext cx="2351160" cy="1466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77360" y="193320"/>
            <a:ext cx="4071960" cy="34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ccff"/>
                </a:solidFill>
                <a:latin typeface="Arial"/>
              </a:rPr>
              <a:t>The Forced Oscillator:  </a:t>
            </a:r>
            <a:br>
              <a:rPr sz="2600"/>
            </a:br>
            <a:r>
              <a:rPr b="1" lang="en-US" sz="2600" spc="-1" strike="noStrike">
                <a:solidFill>
                  <a:srgbClr val="ffccff"/>
                </a:solidFill>
                <a:latin typeface="Arial"/>
              </a:rPr>
              <a:t>The relative phase</a:t>
            </a:r>
            <a:br>
              <a:rPr sz="2600"/>
            </a:br>
            <a:r>
              <a:rPr b="1" lang="en-US" sz="2600" spc="-1" strike="noStrike">
                <a:solidFill>
                  <a:srgbClr val="ffccff"/>
                </a:solidFill>
                <a:latin typeface="Arial"/>
              </a:rPr>
              <a:t>of the oscillator </a:t>
            </a:r>
            <a:br>
              <a:rPr sz="2600"/>
            </a:br>
            <a:r>
              <a:rPr b="1" lang="en-US" sz="2600" spc="-1" strike="noStrike">
                <a:solidFill>
                  <a:srgbClr val="ffccff"/>
                </a:solidFill>
                <a:latin typeface="Arial"/>
              </a:rPr>
              <a:t>motion with </a:t>
            </a:r>
            <a:br>
              <a:rPr sz="2600"/>
            </a:br>
            <a:r>
              <a:rPr b="1" lang="en-US" sz="2600" spc="-1" strike="noStrike">
                <a:solidFill>
                  <a:srgbClr val="ffccff"/>
                </a:solidFill>
                <a:latin typeface="Arial"/>
              </a:rPr>
              <a:t>respect to the </a:t>
            </a:r>
            <a:br>
              <a:rPr sz="2600"/>
            </a:br>
            <a:r>
              <a:rPr b="1" lang="en-US" sz="2600" spc="-1" strike="noStrike">
                <a:solidFill>
                  <a:srgbClr val="ffccff"/>
                </a:solidFill>
                <a:latin typeface="Arial"/>
              </a:rPr>
              <a:t>input force </a:t>
            </a:r>
            <a:br>
              <a:rPr sz="2600"/>
            </a:br>
            <a:r>
              <a:rPr b="1" lang="en-US" sz="2600" spc="-1" strike="noStrike">
                <a:solidFill>
                  <a:srgbClr val="ffccff"/>
                </a:solidFill>
                <a:latin typeface="Arial"/>
              </a:rPr>
              <a:t>depends on the frequenci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22560" y="1133280"/>
            <a:ext cx="164016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low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eson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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&lt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969240" y="1523880"/>
            <a:ext cx="182520" cy="182520"/>
          </a:xfrm>
          <a:prstGeom prst="ellipse">
            <a:avLst/>
          </a:prstGeom>
          <a:gradFill rotWithShape="0">
            <a:gsLst>
              <a:gs pos="0">
                <a:srgbClr val="ff00ff"/>
              </a:gs>
              <a:gs pos="100000">
                <a:srgbClr val="75007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897520" y="1581120"/>
            <a:ext cx="228600" cy="42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524560" y="515880"/>
            <a:ext cx="89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507000" y="515880"/>
            <a:ext cx="123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scill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438880" y="2859120"/>
            <a:ext cx="2351160" cy="1466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998880" y="3068640"/>
            <a:ext cx="1538280" cy="10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resonance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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969240" y="3517920"/>
            <a:ext cx="182520" cy="182520"/>
          </a:xfrm>
          <a:prstGeom prst="ellipse">
            <a:avLst/>
          </a:prstGeom>
          <a:gradFill rotWithShape="0">
            <a:gsLst>
              <a:gs pos="0">
                <a:srgbClr val="ff00ff"/>
              </a:gs>
              <a:gs pos="100000">
                <a:srgbClr val="75007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899320" y="3575160"/>
            <a:ext cx="242640" cy="42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37080" y="4848120"/>
            <a:ext cx="2351160" cy="1467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844800" y="5073480"/>
            <a:ext cx="175608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ov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eson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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22440" y="3825720"/>
            <a:ext cx="3276360" cy="30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 the oscillator’s resonant frequency be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and the forcing frequency be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ould think of the forcing function as a light electric field and the oscillator as a nucleus of an atom in a molecu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69240" y="5486400"/>
            <a:ext cx="182520" cy="182520"/>
          </a:xfrm>
          <a:prstGeom prst="ellipse">
            <a:avLst/>
          </a:prstGeom>
          <a:gradFill rotWithShape="0">
            <a:gsLst>
              <a:gs pos="0">
                <a:srgbClr val="ff00ff"/>
              </a:gs>
              <a:gs pos="100000">
                <a:srgbClr val="75007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894280" y="5556240"/>
            <a:ext cx="250920" cy="42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810560" y="1181160"/>
            <a:ext cx="1087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ak vibrat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phas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810560" y="3048120"/>
            <a:ext cx="10872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ong vibration.9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ut of phas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810560" y="5043600"/>
            <a:ext cx="10872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ak vibrat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8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ut of phas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4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12 -0.00624 C -0.00312 -0.05109 -0.00312 -0.09387 -0.00295 -0.09387 C -0.00278 -0.09387 -0.00278 -0.05109 -0.0026 -0.00624 C -0.0026 0.0437 -0.0026 0.09388 -0.00225 0.09388 C -0.00208 0.09388 -0.00208 0.0437 -0.00208 -0.00624 C -0.00191 -0.05109 -0.00191 -0.09387 -0.00173 -0.09387 C -0.00156 -0.09387 -0.00156 -0.05109 -0.00139 -0.00624 C -0.00139 0.0437 -0.00139 0.09388 -0.00121 0.09388 C -0.00104 0.09388 -0.00087 -0.00624 -0.00087 -0.00578 C -0.00087 -0.05109 -0.00069 -0.09387 -0.00052 -0.09387 C -0.00034 -0.09387 -0.00034 -0.05109 -0.00034 -0.00624 C -0.00017 0.0437 -0.00017 0.09388 -2.22222E-006 0.09388 C 0.00018 0.09388 0.00018 0.0437 0.00035 -0.00624 C 0.00035 -0.05109 0.00035 -0.09387 0.00052 -0.09387 C 0.0007 -0.09387 0.00087 -0.05109 0.00087 -0.00624 C 0.00087 0.0437 0.00104 0.09388 0.00122 0.09388 C 0.00139 0.09388 0.00139 0.0437 0.00156 -0.00624 E">
                                      <p:cBhvr>
                                        <p:cTn id="6" dur="5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4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4.68208E-006 C 1.94444E-006 -0.00833 1.94444000000001E-006 -0.01619 0.00017 -0.01619 C 0.00035 -0.01619 0.00035 -0.00833 0.00052 4.68208E-006 C 0.00052 0.00948 0.00052 0.01942 0.00087 0.01942 C 0.00104 0.01942 0.00104 0.00948 0.00104 4.68208E-006 C 0.00121 -0.00833 0.00121 -0.01619 0.00139 -0.01619 C 0.00156 -0.01619 0.00156 -0.00833 0.00173 4.68208E-006 C 0.00173 0.00948 0.00173 0.01942 0.00191 0.01942 C 0.00208 0.01942 0.00226 4.68208E-006 0.00226 0.00023 C 0.00226 -0.00833 0.00243 -0.01619 0.0026 -0.01619 C 0.00278 -0.01619 0.00278 -0.00833 0.00278 4.68208E-006 C 0.00295 0.00948 0.00295 0.01942 0.00312 0.01942 C 0.0033 0.01942 0.0033 0.00948 0.00347 4.68208E-006 C 0.00347 -0.00833 0.00347 -0.01619 0.00364 -0.01619 C 0.00382 -0.01619 0.00399 -0.00833 0.00399 4.68208E-006 C 0.00399 0.00948 0.00416 0.01942 0.00434 0.01942 C 0.00451 0.01942 0.00451 0.00948 0.00469 4.68208E-006 E">
                                      <p:cBhvr>
                                        <p:cTn id="8" dur="5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path" presetID="4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68 -0.00832 C -0.00468 -0.05526 -0.00468 -0.09988 -0.00451 -0.09988 C -0.00434 -0.09988 -0.00434 -0.05526 -0.00416 -0.00832 C -0.00416 0.0437 -0.00416 0.09619 -0.00382 0.09619 C -0.00364 0.09619 -0.00364 0.0437 -0.00364 -0.00832 C -0.00347 -0.05526 -0.00347 -0.09988 -0.0033 -0.09988 C -0.00312 -0.09988 -0.00312 -0.05526 -0.00295 -0.00832 C -0.00295 0.0437 -0.00295 0.09619 -0.00277 0.09619 C -0.0026 0.09619 -0.00243 -0.00832 -0.00243 -0.00809 C -0.00243 -0.05526 -0.00225 -0.09988 -0.00208 -0.09988 C -0.00191 -0.09988 -0.00191 -0.05526 -0.00191 -0.00832 C -0.00173 0.0437 -0.00173 0.09619 -0.00156 0.09619 C -0.00139 0.09619 -0.00139 0.0437 -0.00121 -0.00832 C -0.00121 -0.05526 -0.00121 -0.09988 -0.00104 -0.09988 C -0.00087 -0.09988 -0.00069 -0.05526 -0.00069 -0.00832 C -0.00069 0.0437 -0.00052 0.09619 -0.00034 0.09619 C -0.00017 0.09619 -0.00017 0.0437 -2.77778E-006 -0.00832 E">
                                      <p:cBhvr>
                                        <p:cTn id="12" dur="5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40" repeatCount="indefinite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1.38889E-006 -0.00832 C 1.38889E-006 -0.05734 1.38889E-006 -0.10358 0.00017 -0.10358 C 0.00035 -0.10358 0.00035 -0.05734 0.00052 -0.00832 C 0.00052 0.04624 0.00052 0.10104 0.00087 0.10104 C 0.00104 0.10104 0.00104 0.04624 0.00104 -0.00832 C 0.00121 -0.05734 0.00121 -0.10358 0.00139 -0.10358 C 0.00156 -0.10358 0.00156 -0.05734 0.00173 -0.00832 C 0.00173 0.04624 0.00173 0.10104 0.00191 0.10104 C 0.00208 0.10104 0.00226 -0.00832 0.00226 -0.00786 C 0.00226 -0.05734 0.00243 -0.10358 0.0026 -0.10358 C 0.00278 -0.10358 0.00278 -0.05734 0.00278 -0.00832 C 0.00295 0.04624 0.00295 0.10104 0.00312 0.10104 C 0.0033 0.10104 0.0033 0.04624 0.00347 -0.00832 C 0.00347 -0.05734 0.00347 -0.10358 0.00364 -0.10358 C 0.00382 -0.10358 0.00399 -0.05734 0.00399 -0.00832 C 0.00399 0.04624 0.00417 0.10104 0.00434 0.10104 C 0.00451 0.10104 0.00451 0.04624 0.00469 -0.00832 E">
                                      <p:cBhvr>
                                        <p:cTn id="14" dur="5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4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0.00833 C 2.5E-006 -0.05365 2.50000000000001E-006 -0.09665 0.00017 -0.09665 C 0.00034 -0.09665 0.00034 -0.05365 0.00069 -0.00833 C 0.00069 0.04231 0.00069 0.09317 0.00104 0.09317 C 0.00139 0.09317 0.00139 0.04231 0.00139 -0.00833 C 0.00156 -0.05365 0.00156 -0.09665 0.00173 -0.09665 C 0.00208 -0.09665 0.00208 -0.05365 0.00225 -0.00833 C 0.00225 0.04231 0.00225 0.09317 0.00243 0.09317 C 0.00278 0.09317 0.00295 -0.00833 0.00295 -0.00763 C 0.00295 -0.05365 0.00312 -0.09665 0.00347 -0.09665 C 0.00364 -0.09665 0.00364 -0.05365 0.00364 -0.00833 C 0.00382 0.04231 0.00382 0.09317 0.00416 0.09317 C 0.00434 0.09317 0.00434 0.04231 0.00451 -0.00833 C 0.00451 -0.05365 0.00451 -0.09665 0.00486 -0.09665 C 0.00503 -0.09665 0.00521 -0.05365 0.00521 -0.00833 C 0.00521 0.04231 0.00555 0.09317 0.00573 0.09317 C 0.0059 0.09317 0.0059 0.04231 0.00625 -0.00833 E">
                                      <p:cBhvr>
                                        <p:cTn id="18" dur="5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" nodeType="withEffect" fill="hold" presetClass="path" presetID="40" repeatCount="indefinite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4.72222E-006 -8.09249E-007 C 4.72222E-006 -0.0104 4.72221999999999E-006 -0.02035 -0.00018 -0.02035 C -0.00035 -0.02035 -0.00035 -0.0104 -0.00053 -8.09249E-007 C -0.00053 0.01179 -0.00053 0.02382 -0.00087 0.02382 C -0.00105 0.02382 -0.00105 0.01179 -0.00105 -8.09249E-007 C -0.00122 -0.0104 -0.00122 -0.02035 -0.00139 -0.02035 C -0.00157 -0.02035 -0.00157 -0.0104 -0.00174 -8.09249E-007 C -0.00174 0.01179 -0.00174 0.02382 -0.00191 0.02382 C -0.00209 0.02382 -0.00226 -8.09249000000007E-007 -0.00226 0.00023 C -0.00226 -0.0104 -0.00244 -0.02035 -0.00261 -0.02035 C -0.00278 -0.02035 -0.00278 -0.0104 -0.00278 -8.09249E-007 C -0.00296 0.01179 -0.00296 0.02382 -0.00313 0.02382 C -0.0033 0.02382 -0.0033 0.01179 -0.00348 -8.09249E-007 C -0.00348 -0.0104 -0.00348 -0.02035 -0.00365 -0.02035 C -0.00382 -0.02035 -0.004 -0.0104 -0.004 -8.09249E-007 C -0.004 0.01179 -0.00417 0.02382 -0.00434 0.02382 C -0.00452 0.02382 -0.00452 0.01179 -0.00469 -8.09249E-007 E">
                                      <p:cBhvr>
                                        <p:cTn id="20" dur="5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4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99"/>
                </a:solidFill>
                <a:latin typeface="Arial"/>
              </a:rPr>
              <a:t>Re-emitted light from an excited atom</a:t>
            </a:r>
            <a:br>
              <a:rPr sz="3200"/>
            </a:br>
            <a:r>
              <a:rPr b="1" lang="en-US" sz="3200" spc="-1" strike="noStrike">
                <a:solidFill>
                  <a:srgbClr val="99ff99"/>
                </a:solidFill>
                <a:latin typeface="Arial"/>
              </a:rPr>
              <a:t>interferes with original light b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32880" y="1630080"/>
            <a:ext cx="3380040" cy="29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-emitted light may interfere constructively, destructively, or, more generally, somewhat out of phase with the original light w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model this process by considering the total electric field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922320" y="4888080"/>
            <a:ext cx="3739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,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 E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origin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,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 E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e-emitt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,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4691160" y="1751040"/>
            <a:ext cx="3600360" cy="2620440"/>
            <a:chOff x="4691160" y="1751040"/>
            <a:chExt cx="3600360" cy="2620440"/>
          </a:xfrm>
        </p:grpSpPr>
        <p:sp>
          <p:nvSpPr>
            <p:cNvPr id="222" name=""/>
            <p:cNvSpPr/>
            <p:nvPr/>
          </p:nvSpPr>
          <p:spPr>
            <a:xfrm>
              <a:off x="4691160" y="1788840"/>
              <a:ext cx="3600360" cy="258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3" name=""/>
            <p:cNvGrpSpPr/>
            <p:nvPr/>
          </p:nvGrpSpPr>
          <p:grpSpPr>
            <a:xfrm>
              <a:off x="5036040" y="1937160"/>
              <a:ext cx="1405800" cy="895320"/>
              <a:chOff x="5036040" y="1937160"/>
              <a:chExt cx="1405800" cy="89532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498640" y="1939320"/>
                <a:ext cx="475920" cy="888480"/>
                <a:chOff x="5498640" y="1939320"/>
                <a:chExt cx="475920" cy="888480"/>
              </a:xfrm>
            </p:grpSpPr>
            <p:sp>
              <p:nvSpPr>
                <p:cNvPr id="225" name=""/>
                <p:cNvSpPr/>
                <p:nvPr/>
              </p:nvSpPr>
              <p:spPr>
                <a:xfrm flipH="1" rot="10802400">
                  <a:off x="5498280" y="1939320"/>
                  <a:ext cx="245160" cy="657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522" y="7482"/>
                      </a:moveTo>
                      <a:arcTo wR="10800" hR="10800" stAng="-9726378" swAng="862236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522" y="7482"/>
                      </a:moveTo>
                      <a:arcTo wR="10800" hR="10800" stAng="-9726378" swAng="8622362"/>
                    </a:path>
                  </a:pathLst>
                </a:custGeom>
                <a:noFill/>
                <a:ln w="3816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 flipV="1" rot="10802400">
                  <a:off x="5729040" y="2171160"/>
                  <a:ext cx="245520" cy="656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806" y="6705"/>
                      </a:moveTo>
                      <a:arcTo wR="10800" hR="10800" stAng="-9463200" swAng="819484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806" y="6705"/>
                      </a:moveTo>
                      <a:arcTo wR="10800" hR="10800" stAng="-9463200" swAng="8194845"/>
                    </a:path>
                  </a:pathLst>
                </a:custGeom>
                <a:noFill/>
                <a:ln w="3816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 flipH="1" rot="10802400">
                <a:off x="5958000" y="1951560"/>
                <a:ext cx="247680" cy="65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522" y="7482"/>
                    </a:moveTo>
                    <a:arcTo wR="10800" hR="10800" stAng="-9726378" swAng="862236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522" y="7482"/>
                    </a:moveTo>
                    <a:arcTo wR="10800" hR="10800" stAng="-9726378" swAng="8622362"/>
                  </a:path>
                </a:pathLst>
              </a:custGeom>
              <a:noFill/>
              <a:ln w="381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flipH="1" flipV="1" rot="10801800">
                <a:off x="6196320" y="2172960"/>
                <a:ext cx="245520" cy="65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04" y="7872"/>
                    </a:moveTo>
                    <a:arcTo wR="10800" hR="10800" stAng="-9856217" swAng="858786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04" y="7872"/>
                    </a:moveTo>
                    <a:arcTo wR="10800" hR="10800" stAng="-9856217" swAng="8587862"/>
                  </a:path>
                </a:pathLst>
              </a:custGeom>
              <a:noFill/>
              <a:ln w="381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9" name=""/>
              <p:cNvGrpSpPr/>
              <p:nvPr/>
            </p:nvGrpSpPr>
            <p:grpSpPr>
              <a:xfrm>
                <a:off x="5036040" y="1937160"/>
                <a:ext cx="477360" cy="888480"/>
                <a:chOff x="5036040" y="1937160"/>
                <a:chExt cx="477360" cy="888480"/>
              </a:xfrm>
            </p:grpSpPr>
            <p:sp>
              <p:nvSpPr>
                <p:cNvPr id="230" name=""/>
                <p:cNvSpPr/>
                <p:nvPr/>
              </p:nvSpPr>
              <p:spPr>
                <a:xfrm flipH="1" rot="10802400">
                  <a:off x="5036040" y="1937160"/>
                  <a:ext cx="246240" cy="657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522" y="7482"/>
                      </a:moveTo>
                      <a:arcTo wR="10800" hR="10800" stAng="-9726378" swAng="862236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522" y="7482"/>
                      </a:moveTo>
                      <a:arcTo wR="10800" hR="10800" stAng="-9726378" swAng="8622362"/>
                    </a:path>
                  </a:pathLst>
                </a:custGeom>
                <a:noFill/>
                <a:ln w="3816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 flipH="1" flipV="1" rot="10802400">
                  <a:off x="5267160" y="2169000"/>
                  <a:ext cx="246240" cy="656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806" y="6705"/>
                      </a:moveTo>
                      <a:arcTo wR="10800" hR="10800" stAng="-9463200" swAng="819484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806" y="6705"/>
                      </a:moveTo>
                      <a:arcTo wR="10800" hR="10800" stAng="-9463200" swAng="8194845"/>
                    </a:path>
                  </a:pathLst>
                </a:custGeom>
                <a:noFill/>
                <a:ln w="3816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2" name=""/>
            <p:cNvGrpSpPr/>
            <p:nvPr/>
          </p:nvGrpSpPr>
          <p:grpSpPr>
            <a:xfrm>
              <a:off x="5031360" y="3548520"/>
              <a:ext cx="1405800" cy="464760"/>
              <a:chOff x="5031360" y="3548520"/>
              <a:chExt cx="1405800" cy="464760"/>
            </a:xfrm>
          </p:grpSpPr>
          <p:grpSp>
            <p:nvGrpSpPr>
              <p:cNvPr id="233" name=""/>
              <p:cNvGrpSpPr/>
              <p:nvPr/>
            </p:nvGrpSpPr>
            <p:grpSpPr>
              <a:xfrm>
                <a:off x="5493960" y="3549600"/>
                <a:ext cx="475920" cy="461880"/>
                <a:chOff x="5493960" y="3549600"/>
                <a:chExt cx="475920" cy="461880"/>
              </a:xfrm>
            </p:grpSpPr>
            <p:sp>
              <p:nvSpPr>
                <p:cNvPr id="234" name=""/>
                <p:cNvSpPr/>
                <p:nvPr/>
              </p:nvSpPr>
              <p:spPr>
                <a:xfrm flipH="1" rot="10802400">
                  <a:off x="5493600" y="3549600"/>
                  <a:ext cx="245160" cy="341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522" y="7482"/>
                      </a:moveTo>
                      <a:arcTo wR="10800" hR="10800" stAng="-9726378" swAng="862236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522" y="7482"/>
                      </a:moveTo>
                      <a:arcTo wR="10800" hR="10800" stAng="-9726378" swAng="8622362"/>
                    </a:path>
                  </a:pathLst>
                </a:custGeom>
                <a:noFill/>
                <a:ln w="3816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 flipH="1" flipV="1" rot="10802400">
                  <a:off x="5724360" y="3670200"/>
                  <a:ext cx="245520" cy="340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806" y="6705"/>
                      </a:moveTo>
                      <a:arcTo wR="10800" hR="10800" stAng="-9463200" swAng="819484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806" y="6705"/>
                      </a:moveTo>
                      <a:arcTo wR="10800" hR="10800" stAng="-9463200" swAng="8194845"/>
                    </a:path>
                  </a:pathLst>
                </a:custGeom>
                <a:noFill/>
                <a:ln w="3816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6" name=""/>
              <p:cNvSpPr/>
              <p:nvPr/>
            </p:nvSpPr>
            <p:spPr>
              <a:xfrm flipH="1" rot="10802400">
                <a:off x="5952600" y="3556440"/>
                <a:ext cx="247680" cy="342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522" y="7482"/>
                    </a:moveTo>
                    <a:arcTo wR="10800" hR="10800" stAng="-9726378" swAng="862236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522" y="7482"/>
                    </a:moveTo>
                    <a:arcTo wR="10800" hR="10800" stAng="-9726378" swAng="8622362"/>
                  </a:path>
                </a:pathLst>
              </a:custGeom>
              <a:noFill/>
              <a:ln w="381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flipH="1" flipV="1" rot="10801800">
                <a:off x="6191640" y="3671280"/>
                <a:ext cx="245520" cy="342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04" y="7872"/>
                    </a:moveTo>
                    <a:arcTo wR="10800" hR="10800" stAng="-9856217" swAng="858786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04" y="7872"/>
                    </a:moveTo>
                    <a:arcTo wR="10800" hR="10800" stAng="-9856217" swAng="8587862"/>
                  </a:path>
                </a:pathLst>
              </a:custGeom>
              <a:noFill/>
              <a:ln w="381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8" name=""/>
              <p:cNvGrpSpPr/>
              <p:nvPr/>
            </p:nvGrpSpPr>
            <p:grpSpPr>
              <a:xfrm>
                <a:off x="5031360" y="3548520"/>
                <a:ext cx="477360" cy="461880"/>
                <a:chOff x="5031360" y="3548520"/>
                <a:chExt cx="477360" cy="461880"/>
              </a:xfrm>
            </p:grpSpPr>
            <p:sp>
              <p:nvSpPr>
                <p:cNvPr id="239" name=""/>
                <p:cNvSpPr/>
                <p:nvPr/>
              </p:nvSpPr>
              <p:spPr>
                <a:xfrm flipH="1" rot="10802400">
                  <a:off x="5031360" y="3548520"/>
                  <a:ext cx="246240" cy="341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522" y="7482"/>
                      </a:moveTo>
                      <a:arcTo wR="10800" hR="10800" stAng="-9726378" swAng="862236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522" y="7482"/>
                      </a:moveTo>
                      <a:arcTo wR="10800" hR="10800" stAng="-9726378" swAng="8622362"/>
                    </a:path>
                  </a:pathLst>
                </a:custGeom>
                <a:noFill/>
                <a:ln w="3816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flipH="1" flipV="1" rot="10802400">
                  <a:off x="5262480" y="3669120"/>
                  <a:ext cx="246240" cy="340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806" y="6705"/>
                      </a:moveTo>
                      <a:arcTo wR="10800" hR="10800" stAng="-9463200" swAng="819484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806" y="6705"/>
                      </a:moveTo>
                      <a:arcTo wR="10800" hR="10800" stAng="-9463200" swAng="8194845"/>
                    </a:path>
                  </a:pathLst>
                </a:custGeom>
                <a:noFill/>
                <a:ln w="3816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1" name=""/>
            <p:cNvGrpSpPr/>
            <p:nvPr/>
          </p:nvGrpSpPr>
          <p:grpSpPr>
            <a:xfrm>
              <a:off x="4810680" y="1990440"/>
              <a:ext cx="1405800" cy="2225160"/>
              <a:chOff x="4810680" y="1990440"/>
              <a:chExt cx="1405800" cy="222516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10680" y="2895480"/>
                <a:ext cx="1405800" cy="355320"/>
                <a:chOff x="4810680" y="2895480"/>
                <a:chExt cx="1405800" cy="35532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5273280" y="2896200"/>
                  <a:ext cx="475920" cy="353160"/>
                  <a:chOff x="5273280" y="2896200"/>
                  <a:chExt cx="475920" cy="35316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 flipH="1" rot="10802400">
                    <a:off x="5272920" y="2896200"/>
                    <a:ext cx="245160" cy="2610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522" y="7482"/>
                        </a:moveTo>
                        <a:arcTo wR="10800" hR="10800" stAng="-9726378" swAng="8622362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522" y="7482"/>
                        </a:moveTo>
                        <a:arcTo wR="10800" hR="10800" stAng="-9726378" swAng="8622362"/>
                      </a:path>
                    </a:pathLst>
                  </a:custGeom>
                  <a:noFill/>
                  <a:ln w="38160">
                    <a:solidFill>
                      <a:srgbClr val="33cc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 flipH="1" flipV="1" rot="10802400">
                    <a:off x="5503680" y="2988000"/>
                    <a:ext cx="245520" cy="2610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806" y="6705"/>
                        </a:moveTo>
                        <a:arcTo wR="10800" hR="10800" stAng="-9463200" swAng="8194845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806" y="6705"/>
                        </a:moveTo>
                        <a:arcTo wR="10800" hR="10800" stAng="-9463200" swAng="8194845"/>
                      </a:path>
                    </a:pathLst>
                  </a:custGeom>
                  <a:noFill/>
                  <a:ln w="38160">
                    <a:solidFill>
                      <a:srgbClr val="33cc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6" name=""/>
                <p:cNvSpPr/>
                <p:nvPr/>
              </p:nvSpPr>
              <p:spPr>
                <a:xfrm flipH="1" rot="10802400">
                  <a:off x="5731920" y="2901240"/>
                  <a:ext cx="247680" cy="2610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522" y="7482"/>
                      </a:moveTo>
                      <a:arcTo wR="10800" hR="10800" stAng="-9726378" swAng="862236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522" y="7482"/>
                      </a:moveTo>
                      <a:arcTo wR="10800" hR="10800" stAng="-9726378" swAng="8622362"/>
                    </a:path>
                  </a:pathLst>
                </a:custGeom>
                <a:noFill/>
                <a:ln w="3816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 flipH="1" flipV="1" rot="10801800">
                  <a:off x="5970960" y="2989440"/>
                  <a:ext cx="245520" cy="261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404" y="7872"/>
                      </a:moveTo>
                      <a:arcTo wR="10800" hR="10800" stAng="-9856217" swAng="858786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404" y="7872"/>
                      </a:moveTo>
                      <a:arcTo wR="10800" hR="10800" stAng="-9856217" swAng="8587862"/>
                    </a:path>
                  </a:pathLst>
                </a:custGeom>
                <a:noFill/>
                <a:ln w="3816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48" name=""/>
                <p:cNvGrpSpPr/>
                <p:nvPr/>
              </p:nvGrpSpPr>
              <p:grpSpPr>
                <a:xfrm>
                  <a:off x="4810680" y="2895480"/>
                  <a:ext cx="477360" cy="353160"/>
                  <a:chOff x="4810680" y="2895480"/>
                  <a:chExt cx="477360" cy="353160"/>
                </a:xfrm>
              </p:grpSpPr>
              <p:sp>
                <p:nvSpPr>
                  <p:cNvPr id="249" name=""/>
                  <p:cNvSpPr/>
                  <p:nvPr/>
                </p:nvSpPr>
                <p:spPr>
                  <a:xfrm flipH="1" rot="10802400">
                    <a:off x="4810680" y="2895480"/>
                    <a:ext cx="246240" cy="2610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522" y="7482"/>
                        </a:moveTo>
                        <a:arcTo wR="10800" hR="10800" stAng="-9726378" swAng="8622362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522" y="7482"/>
                        </a:moveTo>
                        <a:arcTo wR="10800" hR="10800" stAng="-9726378" swAng="8622362"/>
                      </a:path>
                    </a:pathLst>
                  </a:custGeom>
                  <a:noFill/>
                  <a:ln w="38160">
                    <a:solidFill>
                      <a:srgbClr val="33cc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flipV="1" rot="10802400">
                    <a:off x="5041800" y="2987280"/>
                    <a:ext cx="246240" cy="2610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806" y="6705"/>
                        </a:moveTo>
                        <a:arcTo wR="10800" hR="10800" stAng="-9463200" swAng="8194845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806" y="6705"/>
                        </a:moveTo>
                        <a:arcTo wR="10800" hR="10800" stAng="-9463200" swAng="8194845"/>
                      </a:path>
                    </a:pathLst>
                  </a:custGeom>
                  <a:noFill/>
                  <a:ln w="38160">
                    <a:solidFill>
                      <a:srgbClr val="33cc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51" name=""/>
              <p:cNvSpPr/>
              <p:nvPr/>
            </p:nvSpPr>
            <p:spPr>
              <a:xfrm>
                <a:off x="5442480" y="2582280"/>
                <a:ext cx="330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5394240" y="1990440"/>
                <a:ext cx="461880" cy="2225160"/>
                <a:chOff x="5394240" y="1990440"/>
                <a:chExt cx="461880" cy="222516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5394240" y="1991880"/>
                  <a:ext cx="0" cy="2223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5856120" y="1990440"/>
                  <a:ext cx="0" cy="2224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5" name=""/>
              <p:cNvSpPr/>
              <p:nvPr/>
            </p:nvSpPr>
            <p:spPr>
              <a:xfrm>
                <a:off x="5441040" y="3204720"/>
                <a:ext cx="330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6" name=""/>
            <p:cNvSpPr/>
            <p:nvPr/>
          </p:nvSpPr>
          <p:spPr>
            <a:xfrm>
              <a:off x="4699080" y="1936440"/>
              <a:ext cx="344160" cy="2377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221160" y="1990440"/>
              <a:ext cx="395640" cy="2377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226560" y="2169720"/>
              <a:ext cx="1608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ncident ligh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227640" y="2874600"/>
              <a:ext cx="1578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mitted ligh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197760" y="3593880"/>
              <a:ext cx="206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ransmitted ligh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053120" y="1989000"/>
              <a:ext cx="482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524360" y="1751040"/>
              <a:ext cx="279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4854600" y="1116000"/>
            <a:ext cx="2887560" cy="1467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63040" y="539280"/>
            <a:ext cx="3078360" cy="25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The radiated light wave leads the electron cloud motion by constant 90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Arial"/>
              </a:rPr>
              <a:t>° in phase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379680" y="1304640"/>
            <a:ext cx="1640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low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so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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&lt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931000" y="1461960"/>
            <a:ext cx="763560" cy="763560"/>
          </a:xfrm>
          <a:prstGeom prst="ellipse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294160" y="1812960"/>
            <a:ext cx="216000" cy="42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22760" y="522360"/>
            <a:ext cx="1436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lectric field at at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865840" y="522360"/>
            <a:ext cx="108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lectron clou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854600" y="2982960"/>
            <a:ext cx="2887560" cy="1466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483000" y="3211560"/>
            <a:ext cx="1538280" cy="10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resonance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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931000" y="3328920"/>
            <a:ext cx="763560" cy="763560"/>
          </a:xfrm>
          <a:prstGeom prst="ellipse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86240" y="3693960"/>
            <a:ext cx="231840" cy="42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854600" y="4917960"/>
            <a:ext cx="2887560" cy="1467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354480" y="5157720"/>
            <a:ext cx="175572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ov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so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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09480" y="3409920"/>
            <a:ext cx="27687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phase shift add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n top o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 phase shift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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the electron cloud motion with respect to the input drive ligh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977080" y="5265720"/>
            <a:ext cx="763560" cy="763560"/>
          </a:xfrm>
          <a:prstGeom prst="ellipse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97400" y="5614920"/>
            <a:ext cx="209520" cy="42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7170840" y="1814400"/>
            <a:ext cx="214200" cy="428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723000" y="522360"/>
            <a:ext cx="1174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mitted fie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7174080" y="5616720"/>
            <a:ext cx="207720" cy="428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178760" y="3693960"/>
            <a:ext cx="198360" cy="428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759800" y="1282680"/>
            <a:ext cx="10872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ak emission.9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ut of phas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759800" y="3178080"/>
            <a:ext cx="10872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ong emiss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8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ut of phas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759800" y="5102280"/>
            <a:ext cx="10872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ak emiss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9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ut of phas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path" presetID="4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4.33526E-006 C -2.22222E-006 -0.04578 -2.22222E-006 -0.08924 -2.22222E-006 -0.08901 C 0.00018 -0.08924 0.00018 -0.04578 0.00035 -4.33526E-006 C 0.00035 0.05087 0.00035 0.10243 0.0007 0.10243 C 0.00087 0.10243 0.00087 0.05087 0.00087 -4.33526E-006 C 0.00104 -0.04578 0.00104 -0.08924 0.00122 -0.08924 C 0.00139 -0.08924 0.00139 -0.04578 0.00156 -4.33526E-006 C 0.00156 0.05087 0.00156 0.10243 0.00156 0.10243 C 0.00191 0.10243 0.00209 -4.33526000000002E-006 0.00209 0.00024 C 0.00209 -0.04578 0.00226 -0.08924 0.00243 -0.08924 C 0.00261 -0.08924 0.00261 -0.04578 0.00261 -4.33526E-006 C 0.00278 0.05087 0.00278 0.10243 0.00295 0.10243 C 0.00313 0.10243 0.00313 0.05087 0.0033 -4.33526E-006 C 0.0033 -0.04578 0.0033 -0.08924 0.00347 -0.08924 C 0.00365 -0.08924 0.00382 -0.04578 0.00382 -4.33526E-006 C 0.00382 0.05087 0.004 0.10243 0.00417 0.10243 C 0.00434 0.10243 0.00434 0.05087 0.00469 -4.33526E-006 E">
                                      <p:cBhvr>
                                        <p:cTn id="64" dur="5000" fill="hold"/>
                                        <p:tgtEl>
                                          <p:spTgt spid="2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" nodeType="withEffect" fill="hold" presetClass="path" presetID="40" repeatCount="indefinite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-2.77778E-006 6.93642E-007 C -2.77778E-006 -0.01318 -2.77778E-006 -0.02613 -0.00034 -0.02613 C -0.00052 -0.02613 -0.00052 -0.01318 -0.00052 6.93642E-007 C -0.00052 0.01595 -0.00052 0.03306 -0.00104 0.03306 C -0.00104 0.03306 -0.00104 0.01595 -0.00104 6.93642E-007 C -0.00139 -0.01318 -0.00139 -0.02613 -0.00156 -0.02613 C -0.00156 -0.02613 -0.00156 -0.01318 -0.00191 6.93642E-007 C -0.00191 0.01595 -0.00191 0.03306 -0.00208 0.03306 C -0.00208 0.03306 -0.00243 6.93641999999998E-007 -0.00243 0.00023 C -0.00243 -0.01318 -0.0026 -0.02613 -0.0026 -0.02613 C -0.00295 -0.02613 -0.00295 -0.01318 -0.00295 6.93642E-007 C -0.00312 0.01595 -0.00312 0.03306 -0.00312 0.03306 C -0.00347 0.03306 -0.00347 0.01595 -0.00364 6.93642E-007 C -0.00364 -0.01318 -0.00364 -0.02613 -0.00364 -0.02613 C -0.00399 -0.02613 -0.00416 -0.01318 -0.00416 6.93642E-007 C -0.00416 0.01595 -0.00416 0.03306 -0.00451 0.03306 C -0.00468 0.03306 -0.00468 0.01595 -0.00468 6.93642E-007 E">
                                      <p:cBhvr>
                                        <p:cTn id="66" dur="5000" fill="hold"/>
                                        <p:tgtEl>
                                          <p:spTgt spid="2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" nodeType="withEffect" fill="hold" presetClass="path" presetID="40" repeatCount="indefinite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-0.00469 -3.58382E-006 C -0.00469 -0.01133 -0.00469 -0.02196 -0.00469 -0.02173 C -0.00434 -0.02196 -0.00434 -0.01133 -0.00434 -3.58382E-006 C -0.00417 0.01318 -0.00417 0.02636 -0.00382 0.02636 C -0.00382 0.02659 -0.00382 0.01318 -0.00364 -3.58382E-006 C -0.00364 -0.01133 -0.00364 -0.02196 -0.00347 -0.02196 C -0.00312 -0.02196 -0.00312 -0.01133 -0.00312 -3.58382E-006 C -0.00295 0.01318 -0.00295 0.02636 -0.00295 0.02659 C -0.0026 0.02636 -0.00243 -3.58382000000001E-006 -0.00243 0.00023 C -0.00243 -0.01133 -0.00243 -0.02196 -0.00226 -0.02196 C -0.00191 -0.02196 -0.00191 -0.01133 -0.00191 -3.58382E-006 C -0.00191 0.01318 -0.00191 0.02636 -0.00156 0.02636 C -0.00139 0.02636 -0.00139 0.01318 -0.00139 -3.58382E-006 C -0.00121 -0.01133 -0.00121 -0.02196 -0.00104 -0.02196 C -0.00087 -0.02196 -0.00087 -0.01133 -0.00087 -3.58382E-006 C -0.00069 0.01318 -0.00069 0.02636 -0.00052 0.02636 C -0.00017 0.02636 -0.00017 0.01318 -8.33333E-007 -3.58382E-006 E">
                                      <p:cBhvr>
                                        <p:cTn id="68" dur="5000" fill="hold"/>
                                        <p:tgtEl>
                                          <p:spTgt spid="2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path" presetID="4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69 -0.00208 C -0.00469 -0.04255 -0.00469 -0.0807 -0.00451 -0.0807 C -0.00434 -0.0807 -0.00434 -0.04255 -0.00417 -0.00208 C -0.00417 0.04277 -0.00417 0.08809 -0.00382 0.08809 C -0.00365 0.08809 -0.00365 0.04277 -0.00365 -0.00208 C -0.00347 -0.04255 -0.00347 -0.0807 -0.0033 -0.0807 C -0.00312 -0.0807 -0.00312 -0.04255 -0.00295 -0.00208 C -0.00295 0.04277 -0.00295 0.08809 -0.00278 0.08809 C -0.0026 0.08809 -0.00243 -0.00208 -0.00243 -0.00162 C -0.00243 -0.04255 -0.00226 -0.0807 -0.00208 -0.0807 C -0.00191 -0.0807 -0.00191 -0.04255 -0.00191 -0.00208 C -0.00174 0.04277 -0.00174 0.08809 -0.00156 0.08809 C -0.00139 0.08809 -0.00139 0.04277 -0.00121 -0.00208 C -0.00121 -0.04255 -0.00121 -0.0807 -0.00104 -0.0807 C -0.00087 -0.0807 -0.00069 -0.04255 -0.00069 -0.00208 C -0.00069 0.04277 -0.00052 0.08809 -0.00035 0.08809 C -0.00017 0.08809 -0.00017 0.04277 -2.77778E-007 -0.00208 E">
                                      <p:cBhvr>
                                        <p:cTn id="72" dur="5000" fill="hold"/>
                                        <p:tgtEl>
                                          <p:spTgt spid="2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3" nodeType="withEffect" fill="hold" presetClass="path" presetID="40" repeatCount="indefinite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1.38889E-006 -0.00416 C 1.38889E-006 -0.04832 1.38889E-006 -0.09064 1.38889E-006 -0.0904 C 0.00035 -0.09064 0.00035 -0.04832 0.00069 -0.00416 C 0.00069 0.04509 0.00069 0.0948 0.00104 0.0948 C 0.00139 0.0948 0.00139 0.04509 0.00139 -0.00416 C 0.00139 -0.04832 0.00139 -0.09064 0.00173 -0.09064 C 0.00208 -0.09064 0.00208 -0.04832 0.00208 -0.00416 C 0.00208 0.04509 0.00208 0.0948 0.00243 0.0948 C 0.00278 0.0948 0.00278 -0.00416 0.00278 -0.00347 C 0.00278 -0.04832 0.00312 -0.09064 0.00347 -0.09064 C 0.00347 -0.0904 0.00347 -0.04832 0.00347 -0.00416 C 0.00382 0.04509 0.00382 0.0948 0.00417 0.0948 C 0.00417 0.09503 0.00417 0.04509 0.00451 -0.00416 C 0.00451 -0.04832 0.00451 -0.09064 0.00486 -0.09064 C 0.00486 -0.0904 0.00521 -0.04832 0.00521 -0.00416 C 0.00521 0.04509 0.00555 0.0948 0.00555 0.09503 C 0.0059 0.0948 0.0059 0.04509 0.00625 -0.00416 E">
                                      <p:cBhvr>
                                        <p:cTn id="74" dur="5000" fill="hold"/>
                                        <p:tgtEl>
                                          <p:spTgt spid="2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" nodeType="withEffect" fill="hold" presetClass="path" presetID="40" repeatCount="indefinite">
                                  <p:stCondLst>
                                    <p:cond delay="900"/>
                                  </p:stCondLst>
                                  <p:childTnLst>
                                    <p:animMotion origin="layout" path="M -3.33333E-006 -0.00416 C -3.33333E-006 -0.04809 -3.33333000000001E-006 -0.08994 0.00018 -0.08994 C 0.00035 -0.08994 0.00035 -0.04809 0.00052 -0.00416 C 0.00052 0.04532 0.00052 0.09526 0.00087 0.09526 C 0.00105 0.09526 0.00105 0.04532 0.00105 -0.00416 C 0.00122 -0.04809 0.00122 -0.08994 0.00139 -0.08994 C 0.00157 -0.08994 0.00157 -0.04809 0.00174 -0.00416 C 0.00174 0.04532 0.00174 0.09526 0.00191 0.09526 C 0.00209 0.09526 0.00226 -0.00416 0.00226 -0.00324 C 0.00226 -0.04809 0.00243 -0.08994 0.00261 -0.08994 C 0.00278 -0.08994 0.00278 -0.04809 0.00278 -0.00416 C 0.00295 0.04532 0.00295 0.09526 0.00313 0.09526 C 0.0033 0.09526 0.0033 0.04532 0.00348 -0.00416 C 0.00348 -0.04809 0.00348 -0.08994 0.00365 -0.08994 C 0.00382 -0.08994 0.004 -0.04809 0.004 -0.00416 C 0.004 0.04532 0.00417 0.09526 0.00434 0.09526 C 0.00452 0.09526 0.00452 0.04532 0.00469 -0.00416 E">
                                      <p:cBhvr>
                                        <p:cTn id="76" dur="5000" fill="hold"/>
                                        <p:tgtEl>
                                          <p:spTgt spid="2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path" presetID="4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69 -0.00208 C 0.00469 -0.04694 0.00469 -0.08971 0.00451 -0.08971 C 0.00434 -0.08971 0.00434 -0.04694 0.00417 -0.00208 C 0.00417 0.04786 0.00417 0.09803 0.00382 0.09803 C 0.00364 0.09803 0.00364 0.04786 0.00364 -0.00208 C 0.00347 -0.04694 0.00347 -0.08971 0.0033 -0.08971 C 0.00312 -0.08971 0.00312 -0.04694 0.00295 -0.00208 C 0.00295 0.04786 0.00295 0.09803 0.00278 0.09803 C 0.0026 0.09803 0.00243 -0.00208 0.00243 -0.00162 C 0.00243 -0.04694 0.00226 -0.08971 0.00208 -0.08971 C 0.00191 -0.08971 0.00191 -0.04694 0.00191 -0.00208 C 0.00173 0.04786 0.00173 0.09803 0.00156 0.09803 C 0.00139 0.09803 0.00139 0.04786 0.00121 -0.00208 C 0.00121 -0.04694 0.00121 -0.08971 0.00104 -0.08971 C 0.00087 -0.08971 0.00069 -0.04694 0.00069 -0.00208 C 0.00069 0.04786 0.00052 0.09803 0.00035 0.09803 C 0.00017 0.09803 0.00017 0.04786 1.38889E-006 -0.00208 E">
                                      <p:cBhvr>
                                        <p:cTn id="80" dur="5000" fill="hold"/>
                                        <p:tgtEl>
                                          <p:spTgt spid="2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1" nodeType="withEffect" fill="hold" presetClass="path" presetID="4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68 2.25434E-006 C -0.00468 -0.01457 -0.00468 -0.02798 -0.00468 -0.02775 C -0.00451 -0.02798 -0.00451 -0.01457 -0.00416 2.25434E-006 C -0.00416 0.01618 -0.00416 0.03283 -0.00399 0.03283 C -0.00364 0.03283 -0.00364 0.01618 -0.00364 2.25434E-006 C -0.00364 -0.01457 -0.00364 -0.02798 -0.00347 -0.02798 C -0.00312 -0.02798 -0.00312 -0.01457 -0.00312 2.25434E-006 C -0.00312 0.01618 -0.00312 0.03283 -0.00295 0.03283 C -0.0026 0.03283 -0.0026 2.25434000000001E-006 -0.0026 0.00023 C -0.0026 -0.01457 -0.00243 -0.02798 -0.00208 -0.02798 C -0.00208 -0.02775 -0.00208 -0.01457 -0.00208 2.25434E-006 C -0.00191 0.01618 -0.00191 0.03283 -0.00156 0.03283 C -0.00156 0.03306 -0.00156 0.01618 -0.00139 2.25434E-006 C -0.00139 -0.01457 -0.00139 -0.02798 -0.00104 -0.02798 C -0.00104 -0.02775 -0.00087 -0.01457 -0.00087 2.25434E-006 C -0.00087 0.01618 -0.00052 0.03283 -0.00052 0.03306 C -0.00034 0.03283 -0.00034 0.01618 -2.5E-006 2.25434E-006 E">
                                      <p:cBhvr>
                                        <p:cTn id="82" dur="5000" fill="hold"/>
                                        <p:tgtEl>
                                          <p:spTgt spid="2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3" nodeType="withEffect" fill="hold" presetClass="path" presetID="40" repeatCount="indefinite">
                                  <p:stCondLst>
                                    <p:cond delay="900"/>
                                  </p:stCondLst>
                                  <p:childTnLst>
                                    <p:animMotion origin="layout" path="M -0.00469 4.62428E-007 C -0.00469 -0.01734 -0.00469 -0.03306 -0.00451 -0.03306 C -0.00434 -0.03306 -0.00434 -0.01734 -0.00417 4.62428E-007 C -0.00417 0.01873 -0.00417 0.03815 -0.00382 0.03815 C -0.00364 0.03815 -0.00364 0.01873 -0.00364 4.62428E-007 C -0.00347 -0.01734 -0.00347 -0.03306 -0.0033 -0.03306 C -0.00312 -0.03306 -0.00312 -0.01734 -0.00295 4.62428E-007 C -0.00295 0.01873 -0.00295 0.03815 -0.00278 0.03815 C -0.0026 0.03815 -0.00243 4.62428000000008E-007 -0.00243 0.00023 C -0.00243 -0.01734 -0.00226 -0.03306 -0.00208 -0.03306 C -0.00191 -0.03306 -0.00191 -0.01734 -0.00191 4.62428E-007 C -0.00174 0.01873 -0.00174 0.03815 -0.00156 0.03815 C -0.00139 0.03815 -0.00139 0.01873 -0.00121 4.62428E-007 C -0.00121 -0.01734 -0.00121 -0.03306 -0.00104 -0.03306 C -0.00087 -0.03306 -0.00069 -0.01734 -0.00069 4.62428E-007 C -0.00069 0.01873 -0.00052 0.03815 -0.00035 0.03815 C -0.00017 0.03815 -0.00017 0.01873 -8.33333E-007 4.62428E-007 E">
                                      <p:cBhvr>
                                        <p:cTn id="84" dur="5000" fill="hold"/>
                                        <p:tgtEl>
                                          <p:spTgt spid="2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533520" y="1171440"/>
            <a:ext cx="8153280" cy="6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ident and radiated waves add together differently if they don’t have the same phase:  we add as phasors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E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title"/>
          </p:nvPr>
        </p:nvSpPr>
        <p:spPr>
          <a:xfrm>
            <a:off x="411120" y="0"/>
            <a:ext cx="861048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9900"/>
                </a:solidFill>
                <a:latin typeface="Arial"/>
              </a:rPr>
              <a:t>The net phase shift </a:t>
            </a:r>
            <a:r>
              <a:rPr b="1" lang="en-US" sz="3200" spc="-1" strike="noStrike">
                <a:solidFill>
                  <a:srgbClr val="669900"/>
                </a:solidFill>
                <a:latin typeface="Symbol"/>
                <a:ea typeface="Symbol"/>
              </a:rPr>
              <a:t></a:t>
            </a:r>
            <a:r>
              <a:rPr b="1" lang="en-US" sz="3200" spc="-1" strike="noStrike">
                <a:solidFill>
                  <a:srgbClr val="669900"/>
                </a:solidFill>
                <a:latin typeface="Arial"/>
              </a:rPr>
              <a:t> determines everyt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969160" y="5810400"/>
            <a:ext cx="225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ase i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lay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bit by each a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374840" y="5811840"/>
            <a:ext cx="8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4520" y="5811840"/>
            <a:ext cx="139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sor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2017800"/>
            <a:ext cx="7934400" cy="372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3764520" y="3813840"/>
            <a:ext cx="1405800" cy="355320"/>
            <a:chOff x="3764520" y="3813840"/>
            <a:chExt cx="1405800" cy="355320"/>
          </a:xfrm>
        </p:grpSpPr>
        <p:grpSp>
          <p:nvGrpSpPr>
            <p:cNvPr id="293" name=""/>
            <p:cNvGrpSpPr/>
            <p:nvPr/>
          </p:nvGrpSpPr>
          <p:grpSpPr>
            <a:xfrm>
              <a:off x="4227120" y="3814560"/>
              <a:ext cx="475920" cy="353160"/>
              <a:chOff x="4227120" y="3814560"/>
              <a:chExt cx="475920" cy="353160"/>
            </a:xfrm>
          </p:grpSpPr>
          <p:sp>
            <p:nvSpPr>
              <p:cNvPr id="294" name=""/>
              <p:cNvSpPr/>
              <p:nvPr/>
            </p:nvSpPr>
            <p:spPr>
              <a:xfrm flipH="1" rot="10802400">
                <a:off x="4226760" y="3814560"/>
                <a:ext cx="245160" cy="261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522" y="7482"/>
                    </a:moveTo>
                    <a:arcTo wR="10800" hR="10800" stAng="-9726378" swAng="862236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522" y="7482"/>
                    </a:moveTo>
                    <a:arcTo wR="10800" hR="10800" stAng="-9726378" swAng="8622362"/>
                  </a:path>
                </a:pathLst>
              </a:custGeom>
              <a:noFill/>
              <a:ln w="381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flipH="1" flipV="1" rot="10802400">
                <a:off x="4457520" y="3906360"/>
                <a:ext cx="245520" cy="261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06" y="6705"/>
                    </a:moveTo>
                    <a:arcTo wR="10800" hR="10800" stAng="-9463200" swAng="819484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06" y="6705"/>
                    </a:moveTo>
                    <a:arcTo wR="10800" hR="10800" stAng="-9463200" swAng="8194845"/>
                  </a:path>
                </a:pathLst>
              </a:custGeom>
              <a:noFill/>
              <a:ln w="381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6" name=""/>
            <p:cNvSpPr/>
            <p:nvPr/>
          </p:nvSpPr>
          <p:spPr>
            <a:xfrm flipH="1" rot="10802400">
              <a:off x="4685760" y="3819600"/>
              <a:ext cx="247680" cy="261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22" y="7482"/>
                  </a:moveTo>
                  <a:arcTo wR="10800" hR="10800" stAng="-9726378" swAng="8622362"/>
                  <a:lnTo>
                    <a:pt x="10800" y="10800"/>
                  </a:lnTo>
                  <a:close/>
                </a:path>
                <a:path fill="none" w="21600" h="21600">
                  <a:moveTo>
                    <a:pt x="522" y="7482"/>
                  </a:moveTo>
                  <a:arcTo wR="10800" hR="10800" stAng="-9726378" swAng="8622362"/>
                </a:path>
              </a:pathLst>
            </a:custGeom>
            <a:noFill/>
            <a:ln w="381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 flipH="1" flipV="1" rot="10801800">
              <a:off x="4924800" y="3906360"/>
              <a:ext cx="245520" cy="26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04" y="7872"/>
                  </a:moveTo>
                  <a:arcTo wR="10800" hR="10800" stAng="-9856217" swAng="8587862"/>
                  <a:lnTo>
                    <a:pt x="10800" y="10800"/>
                  </a:lnTo>
                  <a:close/>
                </a:path>
                <a:path fill="none" w="21600" h="21600">
                  <a:moveTo>
                    <a:pt x="404" y="7872"/>
                  </a:moveTo>
                  <a:arcTo wR="10800" hR="10800" stAng="-9856217" swAng="8587862"/>
                </a:path>
              </a:pathLst>
            </a:custGeom>
            <a:noFill/>
            <a:ln w="381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8" name=""/>
            <p:cNvGrpSpPr/>
            <p:nvPr/>
          </p:nvGrpSpPr>
          <p:grpSpPr>
            <a:xfrm>
              <a:off x="3764520" y="3813840"/>
              <a:ext cx="477360" cy="353160"/>
              <a:chOff x="3764520" y="3813840"/>
              <a:chExt cx="477360" cy="353160"/>
            </a:xfrm>
          </p:grpSpPr>
          <p:sp>
            <p:nvSpPr>
              <p:cNvPr id="299" name=""/>
              <p:cNvSpPr/>
              <p:nvPr/>
            </p:nvSpPr>
            <p:spPr>
              <a:xfrm flipH="1" rot="10802400">
                <a:off x="3764520" y="3813840"/>
                <a:ext cx="246240" cy="261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522" y="7482"/>
                    </a:moveTo>
                    <a:arcTo wR="10800" hR="10800" stAng="-9726378" swAng="862236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522" y="7482"/>
                    </a:moveTo>
                    <a:arcTo wR="10800" hR="10800" stAng="-9726378" swAng="8622362"/>
                  </a:path>
                </a:pathLst>
              </a:custGeom>
              <a:noFill/>
              <a:ln w="381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flipH="1" flipV="1" rot="10802400">
                <a:off x="3995640" y="3905640"/>
                <a:ext cx="246240" cy="261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06" y="6705"/>
                    </a:moveTo>
                    <a:arcTo wR="10800" hR="10800" stAng="-9463200" swAng="819484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06" y="6705"/>
                    </a:moveTo>
                    <a:arcTo wR="10800" hR="10800" stAng="-9463200" swAng="8194845"/>
                  </a:path>
                </a:pathLst>
              </a:custGeom>
              <a:noFill/>
              <a:ln w="381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1" name=""/>
          <p:cNvGrpSpPr/>
          <p:nvPr/>
        </p:nvGrpSpPr>
        <p:grpSpPr>
          <a:xfrm>
            <a:off x="3989880" y="2855880"/>
            <a:ext cx="1406160" cy="894960"/>
            <a:chOff x="3989880" y="2855880"/>
            <a:chExt cx="1406160" cy="894960"/>
          </a:xfrm>
        </p:grpSpPr>
        <p:grpSp>
          <p:nvGrpSpPr>
            <p:cNvPr id="302" name=""/>
            <p:cNvGrpSpPr/>
            <p:nvPr/>
          </p:nvGrpSpPr>
          <p:grpSpPr>
            <a:xfrm>
              <a:off x="4452480" y="2858040"/>
              <a:ext cx="475920" cy="888480"/>
              <a:chOff x="4452480" y="2858040"/>
              <a:chExt cx="475920" cy="888480"/>
            </a:xfrm>
          </p:grpSpPr>
          <p:sp>
            <p:nvSpPr>
              <p:cNvPr id="303" name=""/>
              <p:cNvSpPr/>
              <p:nvPr/>
            </p:nvSpPr>
            <p:spPr>
              <a:xfrm flipH="1" rot="10802400">
                <a:off x="4452120" y="2858040"/>
                <a:ext cx="245160" cy="657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522" y="7482"/>
                    </a:moveTo>
                    <a:arcTo wR="10800" hR="10800" stAng="-9726378" swAng="862236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522" y="7482"/>
                    </a:moveTo>
                    <a:arcTo wR="10800" hR="10800" stAng="-9726378" swAng="8622362"/>
                  </a:path>
                </a:pathLst>
              </a:custGeom>
              <a:noFill/>
              <a:ln w="381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 flipV="1" rot="10802400">
                <a:off x="4682880" y="3089160"/>
                <a:ext cx="245520" cy="657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06" y="6705"/>
                    </a:moveTo>
                    <a:arcTo wR="10800" hR="10800" stAng="-9463200" swAng="819484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06" y="6705"/>
                    </a:moveTo>
                    <a:arcTo wR="10800" hR="10800" stAng="-9463200" swAng="8194845"/>
                  </a:path>
                </a:pathLst>
              </a:custGeom>
              <a:noFill/>
              <a:ln w="381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5" name=""/>
            <p:cNvSpPr/>
            <p:nvPr/>
          </p:nvSpPr>
          <p:spPr>
            <a:xfrm flipH="1" rot="10802400">
              <a:off x="4912200" y="2869560"/>
              <a:ext cx="247680" cy="65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22" y="7482"/>
                  </a:moveTo>
                  <a:arcTo wR="10800" hR="10800" stAng="-9726378" swAng="8622362"/>
                  <a:lnTo>
                    <a:pt x="10800" y="10800"/>
                  </a:lnTo>
                  <a:close/>
                </a:path>
                <a:path fill="none" w="21600" h="21600">
                  <a:moveTo>
                    <a:pt x="522" y="7482"/>
                  </a:moveTo>
                  <a:arcTo wR="10800" hR="10800" stAng="-9726378" swAng="8622362"/>
                </a:path>
              </a:pathLst>
            </a:custGeom>
            <a:noFill/>
            <a:ln w="381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 flipV="1" rot="10801800">
              <a:off x="5150520" y="3090600"/>
              <a:ext cx="245520" cy="659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04" y="7872"/>
                  </a:moveTo>
                  <a:arcTo wR="10800" hR="10800" stAng="-9856217" swAng="8587862"/>
                  <a:lnTo>
                    <a:pt x="10800" y="10800"/>
                  </a:lnTo>
                  <a:close/>
                </a:path>
                <a:path fill="none" w="21600" h="21600">
                  <a:moveTo>
                    <a:pt x="404" y="7872"/>
                  </a:moveTo>
                  <a:arcTo wR="10800" hR="10800" stAng="-9856217" swAng="8587862"/>
                </a:path>
              </a:pathLst>
            </a:custGeom>
            <a:noFill/>
            <a:ln w="381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7" name=""/>
            <p:cNvGrpSpPr/>
            <p:nvPr/>
          </p:nvGrpSpPr>
          <p:grpSpPr>
            <a:xfrm>
              <a:off x="3989880" y="2855880"/>
              <a:ext cx="478080" cy="888480"/>
              <a:chOff x="3989880" y="2855880"/>
              <a:chExt cx="478080" cy="888480"/>
            </a:xfrm>
          </p:grpSpPr>
          <p:sp>
            <p:nvSpPr>
              <p:cNvPr id="308" name=""/>
              <p:cNvSpPr/>
              <p:nvPr/>
            </p:nvSpPr>
            <p:spPr>
              <a:xfrm flipH="1" rot="10802400">
                <a:off x="3989520" y="2855880"/>
                <a:ext cx="246600" cy="657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522" y="7482"/>
                    </a:moveTo>
                    <a:arcTo wR="10800" hR="10800" stAng="-9726378" swAng="862236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522" y="7482"/>
                    </a:moveTo>
                    <a:arcTo wR="10800" hR="10800" stAng="-9726378" swAng="8622362"/>
                  </a:path>
                </a:pathLst>
              </a:custGeom>
              <a:noFill/>
              <a:ln w="381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flipH="1" flipV="1" rot="10802400">
                <a:off x="4221000" y="3087000"/>
                <a:ext cx="246600" cy="657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06" y="6705"/>
                    </a:moveTo>
                    <a:arcTo wR="10800" hR="10800" stAng="-9463200" swAng="819484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06" y="6705"/>
                    </a:moveTo>
                    <a:arcTo wR="10800" hR="10800" stAng="-9463200" swAng="8194845"/>
                  </a:path>
                </a:pathLst>
              </a:custGeom>
              <a:noFill/>
              <a:ln w="381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10" name=""/>
          <p:cNvGrpSpPr/>
          <p:nvPr/>
        </p:nvGrpSpPr>
        <p:grpSpPr>
          <a:xfrm>
            <a:off x="3985200" y="4466520"/>
            <a:ext cx="1405800" cy="464760"/>
            <a:chOff x="3985200" y="4466520"/>
            <a:chExt cx="1405800" cy="464760"/>
          </a:xfrm>
        </p:grpSpPr>
        <p:grpSp>
          <p:nvGrpSpPr>
            <p:cNvPr id="311" name=""/>
            <p:cNvGrpSpPr/>
            <p:nvPr/>
          </p:nvGrpSpPr>
          <p:grpSpPr>
            <a:xfrm>
              <a:off x="4447800" y="4467600"/>
              <a:ext cx="475920" cy="461880"/>
              <a:chOff x="4447800" y="4467600"/>
              <a:chExt cx="475920" cy="461880"/>
            </a:xfrm>
          </p:grpSpPr>
          <p:sp>
            <p:nvSpPr>
              <p:cNvPr id="312" name=""/>
              <p:cNvSpPr/>
              <p:nvPr/>
            </p:nvSpPr>
            <p:spPr>
              <a:xfrm flipH="1" rot="10802400">
                <a:off x="4447440" y="4467600"/>
                <a:ext cx="245160" cy="341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522" y="7482"/>
                    </a:moveTo>
                    <a:arcTo wR="10800" hR="10800" stAng="-9726378" swAng="862236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522" y="7482"/>
                    </a:moveTo>
                    <a:arcTo wR="10800" hR="10800" stAng="-9726378" swAng="8622362"/>
                  </a:path>
                </a:pathLst>
              </a:custGeom>
              <a:noFill/>
              <a:ln w="381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flipH="1" flipV="1" rot="10802400">
                <a:off x="4678200" y="4588200"/>
                <a:ext cx="245520" cy="340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06" y="6705"/>
                    </a:moveTo>
                    <a:arcTo wR="10800" hR="10800" stAng="-9463200" swAng="819484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06" y="6705"/>
                    </a:moveTo>
                    <a:arcTo wR="10800" hR="10800" stAng="-9463200" swAng="8194845"/>
                  </a:path>
                </a:pathLst>
              </a:custGeom>
              <a:noFill/>
              <a:ln w="381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4" name=""/>
            <p:cNvSpPr/>
            <p:nvPr/>
          </p:nvSpPr>
          <p:spPr>
            <a:xfrm flipH="1" rot="10802400">
              <a:off x="4906440" y="4474440"/>
              <a:ext cx="247680" cy="34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22" y="7482"/>
                  </a:moveTo>
                  <a:arcTo wR="10800" hR="10800" stAng="-9726378" swAng="8622362"/>
                  <a:lnTo>
                    <a:pt x="10800" y="10800"/>
                  </a:lnTo>
                  <a:close/>
                </a:path>
                <a:path fill="none" w="21600" h="21600">
                  <a:moveTo>
                    <a:pt x="522" y="7482"/>
                  </a:moveTo>
                  <a:arcTo wR="10800" hR="10800" stAng="-9726378" swAng="8622362"/>
                </a:path>
              </a:pathLst>
            </a:custGeom>
            <a:noFill/>
            <a:ln w="381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 flipV="1" rot="10801800">
              <a:off x="5145480" y="4589280"/>
              <a:ext cx="245520" cy="34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04" y="7872"/>
                  </a:moveTo>
                  <a:arcTo wR="10800" hR="10800" stAng="-9856217" swAng="8587862"/>
                  <a:lnTo>
                    <a:pt x="10800" y="10800"/>
                  </a:lnTo>
                  <a:close/>
                </a:path>
                <a:path fill="none" w="21600" h="21600">
                  <a:moveTo>
                    <a:pt x="404" y="7872"/>
                  </a:moveTo>
                  <a:arcTo wR="10800" hR="10800" stAng="-9856217" swAng="8587862"/>
                </a:path>
              </a:pathLst>
            </a:custGeom>
            <a:noFill/>
            <a:ln w="381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6" name=""/>
            <p:cNvGrpSpPr/>
            <p:nvPr/>
          </p:nvGrpSpPr>
          <p:grpSpPr>
            <a:xfrm>
              <a:off x="3985200" y="4466520"/>
              <a:ext cx="477360" cy="461880"/>
              <a:chOff x="3985200" y="4466520"/>
              <a:chExt cx="477360" cy="461880"/>
            </a:xfrm>
          </p:grpSpPr>
          <p:sp>
            <p:nvSpPr>
              <p:cNvPr id="317" name=""/>
              <p:cNvSpPr/>
              <p:nvPr/>
            </p:nvSpPr>
            <p:spPr>
              <a:xfrm flipH="1" rot="10802400">
                <a:off x="3985200" y="4466520"/>
                <a:ext cx="246240" cy="341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522" y="7482"/>
                    </a:moveTo>
                    <a:arcTo wR="10800" hR="10800" stAng="-9726378" swAng="862236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522" y="7482"/>
                    </a:moveTo>
                    <a:arcTo wR="10800" hR="10800" stAng="-9726378" swAng="8622362"/>
                  </a:path>
                </a:pathLst>
              </a:custGeom>
              <a:noFill/>
              <a:ln w="381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flipH="1" flipV="1" rot="10802400">
                <a:off x="4216320" y="4587120"/>
                <a:ext cx="246240" cy="340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06" y="6705"/>
                    </a:moveTo>
                    <a:arcTo wR="10800" hR="10800" stAng="-9463200" swAng="819484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06" y="6705"/>
                    </a:moveTo>
                    <a:arcTo wR="10800" hR="10800" stAng="-9463200" swAng="8194845"/>
                  </a:path>
                </a:pathLst>
              </a:custGeom>
              <a:noFill/>
              <a:ln w="381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9" name=""/>
          <p:cNvSpPr/>
          <p:nvPr/>
        </p:nvSpPr>
        <p:spPr>
          <a:xfrm>
            <a:off x="4396680" y="3500280"/>
            <a:ext cx="33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4348080" y="2908440"/>
            <a:ext cx="461880" cy="2225160"/>
            <a:chOff x="4348080" y="2908440"/>
            <a:chExt cx="461880" cy="2225160"/>
          </a:xfrm>
        </p:grpSpPr>
        <p:sp>
          <p:nvSpPr>
            <p:cNvPr id="321" name=""/>
            <p:cNvSpPr/>
            <p:nvPr/>
          </p:nvSpPr>
          <p:spPr>
            <a:xfrm>
              <a:off x="4348080" y="2909880"/>
              <a:ext cx="0" cy="2223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809960" y="2908440"/>
              <a:ext cx="0" cy="2224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"/>
          <p:cNvSpPr/>
          <p:nvPr/>
        </p:nvSpPr>
        <p:spPr>
          <a:xfrm>
            <a:off x="4394880" y="4122720"/>
            <a:ext cx="33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4025880" y="5248440"/>
            <a:ext cx="957240" cy="398880"/>
            <a:chOff x="4025880" y="5248440"/>
            <a:chExt cx="957240" cy="398880"/>
          </a:xfrm>
        </p:grpSpPr>
        <p:sp>
          <p:nvSpPr>
            <p:cNvPr id="325" name=""/>
            <p:cNvSpPr/>
            <p:nvPr/>
          </p:nvSpPr>
          <p:spPr>
            <a:xfrm>
              <a:off x="4025880" y="5275080"/>
              <a:ext cx="957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214520" y="5248440"/>
              <a:ext cx="660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" name=""/>
          <p:cNvSpPr/>
          <p:nvPr/>
        </p:nvSpPr>
        <p:spPr>
          <a:xfrm>
            <a:off x="3602160" y="2854440"/>
            <a:ext cx="395280" cy="237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509280" y="3138480"/>
            <a:ext cx="5295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0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175360" y="2908440"/>
            <a:ext cx="395280" cy="237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710160" y="2066760"/>
            <a:ext cx="1954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tructive interferen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889200" y="3138480"/>
            <a:ext cx="462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1289520" y="2855880"/>
            <a:ext cx="1406160" cy="894960"/>
            <a:chOff x="1289520" y="2855880"/>
            <a:chExt cx="1406160" cy="894960"/>
          </a:xfrm>
        </p:grpSpPr>
        <p:grpSp>
          <p:nvGrpSpPr>
            <p:cNvPr id="333" name=""/>
            <p:cNvGrpSpPr/>
            <p:nvPr/>
          </p:nvGrpSpPr>
          <p:grpSpPr>
            <a:xfrm>
              <a:off x="1752120" y="2858040"/>
              <a:ext cx="475920" cy="888480"/>
              <a:chOff x="1752120" y="2858040"/>
              <a:chExt cx="475920" cy="888480"/>
            </a:xfrm>
          </p:grpSpPr>
          <p:sp>
            <p:nvSpPr>
              <p:cNvPr id="334" name=""/>
              <p:cNvSpPr/>
              <p:nvPr/>
            </p:nvSpPr>
            <p:spPr>
              <a:xfrm flipH="1" rot="10802400">
                <a:off x="1751760" y="2858040"/>
                <a:ext cx="245160" cy="657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522" y="7482"/>
                    </a:moveTo>
                    <a:arcTo wR="10800" hR="10800" stAng="-9726378" swAng="862236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522" y="7482"/>
                    </a:moveTo>
                    <a:arcTo wR="10800" hR="10800" stAng="-9726378" swAng="8622362"/>
                  </a:path>
                </a:pathLst>
              </a:custGeom>
              <a:noFill/>
              <a:ln w="381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flipH="1" flipV="1" rot="10802400">
                <a:off x="1982520" y="3089160"/>
                <a:ext cx="245520" cy="657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06" y="6705"/>
                    </a:moveTo>
                    <a:arcTo wR="10800" hR="10800" stAng="-9463200" swAng="819484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06" y="6705"/>
                    </a:moveTo>
                    <a:arcTo wR="10800" hR="10800" stAng="-9463200" swAng="8194845"/>
                  </a:path>
                </a:pathLst>
              </a:custGeom>
              <a:noFill/>
              <a:ln w="381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6" name=""/>
            <p:cNvSpPr/>
            <p:nvPr/>
          </p:nvSpPr>
          <p:spPr>
            <a:xfrm flipH="1" rot="10802400">
              <a:off x="2211840" y="2869560"/>
              <a:ext cx="247680" cy="65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22" y="7482"/>
                  </a:moveTo>
                  <a:arcTo wR="10800" hR="10800" stAng="-9726378" swAng="8622362"/>
                  <a:lnTo>
                    <a:pt x="10800" y="10800"/>
                  </a:lnTo>
                  <a:close/>
                </a:path>
                <a:path fill="none" w="21600" h="21600">
                  <a:moveTo>
                    <a:pt x="522" y="7482"/>
                  </a:moveTo>
                  <a:arcTo wR="10800" hR="10800" stAng="-9726378" swAng="8622362"/>
                </a:path>
              </a:pathLst>
            </a:custGeom>
            <a:noFill/>
            <a:ln w="381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 flipH="1" flipV="1" rot="10801800">
              <a:off x="2450160" y="3090600"/>
              <a:ext cx="245520" cy="659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04" y="7872"/>
                  </a:moveTo>
                  <a:arcTo wR="10800" hR="10800" stAng="-9856217" swAng="8587862"/>
                  <a:lnTo>
                    <a:pt x="10800" y="10800"/>
                  </a:lnTo>
                  <a:close/>
                </a:path>
                <a:path fill="none" w="21600" h="21600">
                  <a:moveTo>
                    <a:pt x="404" y="7872"/>
                  </a:moveTo>
                  <a:arcTo wR="10800" hR="10800" stAng="-9856217" swAng="8587862"/>
                </a:path>
              </a:pathLst>
            </a:custGeom>
            <a:noFill/>
            <a:ln w="381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8" name=""/>
            <p:cNvGrpSpPr/>
            <p:nvPr/>
          </p:nvGrpSpPr>
          <p:grpSpPr>
            <a:xfrm>
              <a:off x="1289520" y="2855880"/>
              <a:ext cx="478080" cy="888480"/>
              <a:chOff x="1289520" y="2855880"/>
              <a:chExt cx="478080" cy="888480"/>
            </a:xfrm>
          </p:grpSpPr>
          <p:sp>
            <p:nvSpPr>
              <p:cNvPr id="339" name=""/>
              <p:cNvSpPr/>
              <p:nvPr/>
            </p:nvSpPr>
            <p:spPr>
              <a:xfrm flipH="1" rot="10802400">
                <a:off x="1289160" y="2855880"/>
                <a:ext cx="246600" cy="657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522" y="7482"/>
                    </a:moveTo>
                    <a:arcTo wR="10800" hR="10800" stAng="-9726378" swAng="862236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522" y="7482"/>
                    </a:moveTo>
                    <a:arcTo wR="10800" hR="10800" stAng="-9726378" swAng="8622362"/>
                  </a:path>
                </a:pathLst>
              </a:custGeom>
              <a:noFill/>
              <a:ln w="381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flipH="1" flipV="1" rot="10802400">
                <a:off x="1520640" y="3087000"/>
                <a:ext cx="246600" cy="657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06" y="6705"/>
                    </a:moveTo>
                    <a:arcTo wR="10800" hR="10800" stAng="-9463200" swAng="819484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06" y="6705"/>
                    </a:moveTo>
                    <a:arcTo wR="10800" hR="10800" stAng="-9463200" swAng="8194845"/>
                  </a:path>
                </a:pathLst>
              </a:custGeom>
              <a:noFill/>
              <a:ln w="381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41" name=""/>
          <p:cNvGrpSpPr/>
          <p:nvPr/>
        </p:nvGrpSpPr>
        <p:grpSpPr>
          <a:xfrm>
            <a:off x="1302480" y="3813840"/>
            <a:ext cx="1405800" cy="355320"/>
            <a:chOff x="1302480" y="3813840"/>
            <a:chExt cx="1405800" cy="355320"/>
          </a:xfrm>
        </p:grpSpPr>
        <p:grpSp>
          <p:nvGrpSpPr>
            <p:cNvPr id="342" name=""/>
            <p:cNvGrpSpPr/>
            <p:nvPr/>
          </p:nvGrpSpPr>
          <p:grpSpPr>
            <a:xfrm>
              <a:off x="1765080" y="3814560"/>
              <a:ext cx="475920" cy="353160"/>
              <a:chOff x="1765080" y="3814560"/>
              <a:chExt cx="475920" cy="353160"/>
            </a:xfrm>
          </p:grpSpPr>
          <p:sp>
            <p:nvSpPr>
              <p:cNvPr id="343" name=""/>
              <p:cNvSpPr/>
              <p:nvPr/>
            </p:nvSpPr>
            <p:spPr>
              <a:xfrm flipH="1" rot="10802400">
                <a:off x="1764720" y="3814560"/>
                <a:ext cx="245160" cy="261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522" y="7482"/>
                    </a:moveTo>
                    <a:arcTo wR="10800" hR="10800" stAng="-9726378" swAng="862236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522" y="7482"/>
                    </a:moveTo>
                    <a:arcTo wR="10800" hR="10800" stAng="-9726378" swAng="8622362"/>
                  </a:path>
                </a:pathLst>
              </a:custGeom>
              <a:noFill/>
              <a:ln w="381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flipH="1" flipV="1" rot="10802400">
                <a:off x="1995480" y="3906360"/>
                <a:ext cx="245520" cy="261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06" y="6705"/>
                    </a:moveTo>
                    <a:arcTo wR="10800" hR="10800" stAng="-9463200" swAng="819484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06" y="6705"/>
                    </a:moveTo>
                    <a:arcTo wR="10800" hR="10800" stAng="-9463200" swAng="8194845"/>
                  </a:path>
                </a:pathLst>
              </a:custGeom>
              <a:noFill/>
              <a:ln w="381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5" name=""/>
            <p:cNvSpPr/>
            <p:nvPr/>
          </p:nvSpPr>
          <p:spPr>
            <a:xfrm flipH="1" rot="10802400">
              <a:off x="2223720" y="3819600"/>
              <a:ext cx="247680" cy="261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22" y="7482"/>
                  </a:moveTo>
                  <a:arcTo wR="10800" hR="10800" stAng="-9726378" swAng="8622362"/>
                  <a:lnTo>
                    <a:pt x="10800" y="10800"/>
                  </a:lnTo>
                  <a:close/>
                </a:path>
                <a:path fill="none" w="21600" h="21600">
                  <a:moveTo>
                    <a:pt x="522" y="7482"/>
                  </a:moveTo>
                  <a:arcTo wR="10800" hR="10800" stAng="-9726378" swAng="8622362"/>
                </a:path>
              </a:pathLst>
            </a:custGeom>
            <a:noFill/>
            <a:ln w="381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 flipH="1" flipV="1" rot="10801800">
              <a:off x="2462760" y="3906360"/>
              <a:ext cx="245520" cy="26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04" y="7872"/>
                  </a:moveTo>
                  <a:arcTo wR="10800" hR="10800" stAng="-9856217" swAng="8587862"/>
                  <a:lnTo>
                    <a:pt x="10800" y="10800"/>
                  </a:lnTo>
                  <a:close/>
                </a:path>
                <a:path fill="none" w="21600" h="21600">
                  <a:moveTo>
                    <a:pt x="404" y="7872"/>
                  </a:moveTo>
                  <a:arcTo wR="10800" hR="10800" stAng="-9856217" swAng="8587862"/>
                </a:path>
              </a:pathLst>
            </a:custGeom>
            <a:noFill/>
            <a:ln w="381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7" name=""/>
            <p:cNvGrpSpPr/>
            <p:nvPr/>
          </p:nvGrpSpPr>
          <p:grpSpPr>
            <a:xfrm>
              <a:off x="1302480" y="3813840"/>
              <a:ext cx="477360" cy="353160"/>
              <a:chOff x="1302480" y="3813840"/>
              <a:chExt cx="477360" cy="353160"/>
            </a:xfrm>
          </p:grpSpPr>
          <p:sp>
            <p:nvSpPr>
              <p:cNvPr id="348" name=""/>
              <p:cNvSpPr/>
              <p:nvPr/>
            </p:nvSpPr>
            <p:spPr>
              <a:xfrm flipH="1" rot="10802400">
                <a:off x="1302480" y="3813840"/>
                <a:ext cx="246240" cy="261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522" y="7482"/>
                    </a:moveTo>
                    <a:arcTo wR="10800" hR="10800" stAng="-9726378" swAng="862236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522" y="7482"/>
                    </a:moveTo>
                    <a:arcTo wR="10800" hR="10800" stAng="-9726378" swAng="8622362"/>
                  </a:path>
                </a:pathLst>
              </a:custGeom>
              <a:noFill/>
              <a:ln w="381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flipH="1" flipV="1" rot="10802400">
                <a:off x="1533600" y="3905640"/>
                <a:ext cx="246240" cy="261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06" y="6705"/>
                    </a:moveTo>
                    <a:arcTo wR="10800" hR="10800" stAng="-9463200" swAng="819484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06" y="6705"/>
                    </a:moveTo>
                    <a:arcTo wR="10800" hR="10800" stAng="-9463200" swAng="8194845"/>
                  </a:path>
                </a:pathLst>
              </a:custGeom>
              <a:noFill/>
              <a:ln w="381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0" name=""/>
          <p:cNvGrpSpPr/>
          <p:nvPr/>
        </p:nvGrpSpPr>
        <p:grpSpPr>
          <a:xfrm>
            <a:off x="1298880" y="4062960"/>
            <a:ext cx="1406520" cy="1407600"/>
            <a:chOff x="1298880" y="4062960"/>
            <a:chExt cx="1406520" cy="1407600"/>
          </a:xfrm>
        </p:grpSpPr>
        <p:grpSp>
          <p:nvGrpSpPr>
            <p:cNvPr id="351" name=""/>
            <p:cNvGrpSpPr/>
            <p:nvPr/>
          </p:nvGrpSpPr>
          <p:grpSpPr>
            <a:xfrm>
              <a:off x="1761480" y="4066560"/>
              <a:ext cx="476640" cy="1396080"/>
              <a:chOff x="1761480" y="4066560"/>
              <a:chExt cx="476640" cy="1396080"/>
            </a:xfrm>
          </p:grpSpPr>
          <p:sp>
            <p:nvSpPr>
              <p:cNvPr id="352" name=""/>
              <p:cNvSpPr/>
              <p:nvPr/>
            </p:nvSpPr>
            <p:spPr>
              <a:xfrm flipH="1" rot="10802400">
                <a:off x="1761120" y="4066560"/>
                <a:ext cx="245160" cy="1033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522" y="7482"/>
                    </a:moveTo>
                    <a:arcTo wR="10800" hR="10800" stAng="-9726378" swAng="862236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522" y="7482"/>
                    </a:moveTo>
                    <a:arcTo wR="10800" hR="10800" stAng="-9726378" swAng="8622362"/>
                  </a:path>
                </a:pathLst>
              </a:custGeom>
              <a:noFill/>
              <a:ln w="381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flipH="1" flipV="1" rot="10802400">
                <a:off x="1992600" y="4430160"/>
                <a:ext cx="245520" cy="1032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06" y="6705"/>
                    </a:moveTo>
                    <a:arcTo wR="10800" hR="10800" stAng="-9463200" swAng="819484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06" y="6705"/>
                    </a:moveTo>
                    <a:arcTo wR="10800" hR="10800" stAng="-9463200" swAng="8194845"/>
                  </a:path>
                </a:pathLst>
              </a:custGeom>
              <a:noFill/>
              <a:ln w="381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4" name=""/>
            <p:cNvSpPr/>
            <p:nvPr/>
          </p:nvSpPr>
          <p:spPr>
            <a:xfrm flipH="1" rot="10802400">
              <a:off x="2220840" y="4085640"/>
              <a:ext cx="247680" cy="103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22" y="7482"/>
                  </a:moveTo>
                  <a:arcTo wR="10800" hR="10800" stAng="-9726378" swAng="8622362"/>
                  <a:lnTo>
                    <a:pt x="10800" y="10800"/>
                  </a:lnTo>
                  <a:close/>
                </a:path>
                <a:path fill="none" w="21600" h="21600">
                  <a:moveTo>
                    <a:pt x="522" y="7482"/>
                  </a:moveTo>
                  <a:arcTo wR="10800" hR="10800" stAng="-9726378" swAng="8622362"/>
                </a:path>
              </a:pathLst>
            </a:custGeom>
            <a:noFill/>
            <a:ln w="381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 flipV="1" rot="10801800">
              <a:off x="2459880" y="4433760"/>
              <a:ext cx="245520" cy="103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04" y="7872"/>
                  </a:moveTo>
                  <a:arcTo wR="10800" hR="10800" stAng="-9856217" swAng="8587862"/>
                  <a:lnTo>
                    <a:pt x="10800" y="10800"/>
                  </a:lnTo>
                  <a:close/>
                </a:path>
                <a:path fill="none" w="21600" h="21600">
                  <a:moveTo>
                    <a:pt x="404" y="7872"/>
                  </a:moveTo>
                  <a:arcTo wR="10800" hR="10800" stAng="-9856217" swAng="8587862"/>
                </a:path>
              </a:pathLst>
            </a:custGeom>
            <a:noFill/>
            <a:ln w="381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6" name=""/>
            <p:cNvGrpSpPr/>
            <p:nvPr/>
          </p:nvGrpSpPr>
          <p:grpSpPr>
            <a:xfrm>
              <a:off x="1298880" y="4062960"/>
              <a:ext cx="478080" cy="1396080"/>
              <a:chOff x="1298880" y="4062960"/>
              <a:chExt cx="478080" cy="1396080"/>
            </a:xfrm>
          </p:grpSpPr>
          <p:sp>
            <p:nvSpPr>
              <p:cNvPr id="357" name=""/>
              <p:cNvSpPr/>
              <p:nvPr/>
            </p:nvSpPr>
            <p:spPr>
              <a:xfrm flipH="1" rot="10802400">
                <a:off x="1298880" y="4062960"/>
                <a:ext cx="246240" cy="1033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522" y="7482"/>
                    </a:moveTo>
                    <a:arcTo wR="10800" hR="10800" stAng="-9726378" swAng="862236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522" y="7482"/>
                    </a:moveTo>
                    <a:arcTo wR="10800" hR="10800" stAng="-9726378" swAng="8622362"/>
                  </a:path>
                </a:pathLst>
              </a:custGeom>
              <a:noFill/>
              <a:ln w="381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 flipH="1" flipV="1" rot="10802400">
                <a:off x="1530720" y="4426560"/>
                <a:ext cx="246240" cy="1032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06" y="6705"/>
                    </a:moveTo>
                    <a:arcTo wR="10800" hR="10800" stAng="-9463200" swAng="819484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06" y="6705"/>
                    </a:moveTo>
                    <a:arcTo wR="10800" hR="10800" stAng="-9463200" swAng="8194845"/>
                  </a:path>
                </a:pathLst>
              </a:custGeom>
              <a:noFill/>
              <a:ln w="381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9" name=""/>
          <p:cNvGrpSpPr/>
          <p:nvPr/>
        </p:nvGrpSpPr>
        <p:grpSpPr>
          <a:xfrm>
            <a:off x="1647720" y="2908440"/>
            <a:ext cx="462240" cy="2225160"/>
            <a:chOff x="1647720" y="2908440"/>
            <a:chExt cx="462240" cy="2225160"/>
          </a:xfrm>
        </p:grpSpPr>
        <p:sp>
          <p:nvSpPr>
            <p:cNvPr id="360" name=""/>
            <p:cNvSpPr/>
            <p:nvPr/>
          </p:nvSpPr>
          <p:spPr>
            <a:xfrm>
              <a:off x="1647720" y="2909880"/>
              <a:ext cx="0" cy="2223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109960" y="2908440"/>
              <a:ext cx="0" cy="2224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1726200" y="3527280"/>
            <a:ext cx="33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726200" y="4064040"/>
            <a:ext cx="33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1347840" y="5248440"/>
            <a:ext cx="957240" cy="398880"/>
            <a:chOff x="1347840" y="5248440"/>
            <a:chExt cx="957240" cy="398880"/>
          </a:xfrm>
        </p:grpSpPr>
        <p:sp>
          <p:nvSpPr>
            <p:cNvPr id="365" name=""/>
            <p:cNvSpPr/>
            <p:nvPr/>
          </p:nvSpPr>
          <p:spPr>
            <a:xfrm>
              <a:off x="1347840" y="5275080"/>
              <a:ext cx="957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536480" y="5248440"/>
              <a:ext cx="660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7" name=""/>
          <p:cNvSpPr/>
          <p:nvPr/>
        </p:nvSpPr>
        <p:spPr>
          <a:xfrm>
            <a:off x="2463840" y="2870280"/>
            <a:ext cx="395280" cy="237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1038240" y="2066760"/>
            <a:ext cx="198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tructive interferen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814080" y="2854080"/>
            <a:ext cx="1405800" cy="894960"/>
            <a:chOff x="6814080" y="2854080"/>
            <a:chExt cx="1405800" cy="894960"/>
          </a:xfrm>
        </p:grpSpPr>
        <p:grpSp>
          <p:nvGrpSpPr>
            <p:cNvPr id="370" name=""/>
            <p:cNvGrpSpPr/>
            <p:nvPr/>
          </p:nvGrpSpPr>
          <p:grpSpPr>
            <a:xfrm>
              <a:off x="7276680" y="2856240"/>
              <a:ext cx="475920" cy="888480"/>
              <a:chOff x="7276680" y="2856240"/>
              <a:chExt cx="475920" cy="888480"/>
            </a:xfrm>
          </p:grpSpPr>
          <p:sp>
            <p:nvSpPr>
              <p:cNvPr id="371" name=""/>
              <p:cNvSpPr/>
              <p:nvPr/>
            </p:nvSpPr>
            <p:spPr>
              <a:xfrm flipH="1" rot="10802400">
                <a:off x="7276320" y="2856240"/>
                <a:ext cx="245160" cy="657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522" y="7482"/>
                    </a:moveTo>
                    <a:arcTo wR="10800" hR="10800" stAng="-9726378" swAng="862236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522" y="7482"/>
                    </a:moveTo>
                    <a:arcTo wR="10800" hR="10800" stAng="-9726378" swAng="8622362"/>
                  </a:path>
                </a:pathLst>
              </a:custGeom>
              <a:noFill/>
              <a:ln w="381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 rot="10802400">
                <a:off x="7507080" y="3087360"/>
                <a:ext cx="245520" cy="657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06" y="6705"/>
                    </a:moveTo>
                    <a:arcTo wR="10800" hR="10800" stAng="-9463200" swAng="819484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06" y="6705"/>
                    </a:moveTo>
                    <a:arcTo wR="10800" hR="10800" stAng="-9463200" swAng="8194845"/>
                  </a:path>
                </a:pathLst>
              </a:custGeom>
              <a:noFill/>
              <a:ln w="381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3" name=""/>
            <p:cNvSpPr/>
            <p:nvPr/>
          </p:nvSpPr>
          <p:spPr>
            <a:xfrm flipH="1" rot="10802400">
              <a:off x="7736040" y="2867760"/>
              <a:ext cx="247680" cy="65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22" y="7482"/>
                  </a:moveTo>
                  <a:arcTo wR="10800" hR="10800" stAng="-9726378" swAng="8622362"/>
                  <a:lnTo>
                    <a:pt x="10800" y="10800"/>
                  </a:lnTo>
                  <a:close/>
                </a:path>
                <a:path fill="none" w="21600" h="21600">
                  <a:moveTo>
                    <a:pt x="522" y="7482"/>
                  </a:moveTo>
                  <a:arcTo wR="10800" hR="10800" stAng="-9726378" swAng="8622362"/>
                </a:path>
              </a:pathLst>
            </a:custGeom>
            <a:noFill/>
            <a:ln w="381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 flipH="1" flipV="1" rot="10801800">
              <a:off x="7974360" y="3088800"/>
              <a:ext cx="245520" cy="659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04" y="7872"/>
                  </a:moveTo>
                  <a:arcTo wR="10800" hR="10800" stAng="-9856217" swAng="8587862"/>
                  <a:lnTo>
                    <a:pt x="10800" y="10800"/>
                  </a:lnTo>
                  <a:close/>
                </a:path>
                <a:path fill="none" w="21600" h="21600">
                  <a:moveTo>
                    <a:pt x="404" y="7872"/>
                  </a:moveTo>
                  <a:arcTo wR="10800" hR="10800" stAng="-9856217" swAng="8587862"/>
                </a:path>
              </a:pathLst>
            </a:custGeom>
            <a:noFill/>
            <a:ln w="381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5" name=""/>
            <p:cNvGrpSpPr/>
            <p:nvPr/>
          </p:nvGrpSpPr>
          <p:grpSpPr>
            <a:xfrm>
              <a:off x="6814080" y="2854080"/>
              <a:ext cx="477360" cy="888480"/>
              <a:chOff x="6814080" y="2854080"/>
              <a:chExt cx="477360" cy="888480"/>
            </a:xfrm>
          </p:grpSpPr>
          <p:sp>
            <p:nvSpPr>
              <p:cNvPr id="376" name=""/>
              <p:cNvSpPr/>
              <p:nvPr/>
            </p:nvSpPr>
            <p:spPr>
              <a:xfrm flipH="1" rot="10802400">
                <a:off x="6814080" y="2854080"/>
                <a:ext cx="246240" cy="657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522" y="7482"/>
                    </a:moveTo>
                    <a:arcTo wR="10800" hR="10800" stAng="-9726378" swAng="862236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522" y="7482"/>
                    </a:moveTo>
                    <a:arcTo wR="10800" hR="10800" stAng="-9726378" swAng="8622362"/>
                  </a:path>
                </a:pathLst>
              </a:custGeom>
              <a:noFill/>
              <a:ln w="381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flipH="1" flipV="1" rot="10802400">
                <a:off x="7045200" y="3085200"/>
                <a:ext cx="246240" cy="657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06" y="6705"/>
                    </a:moveTo>
                    <a:arcTo wR="10800" hR="10800" stAng="-9463200" swAng="819484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06" y="6705"/>
                    </a:moveTo>
                    <a:arcTo wR="10800" hR="10800" stAng="-9463200" swAng="8194845"/>
                  </a:path>
                </a:pathLst>
              </a:custGeom>
              <a:noFill/>
              <a:ln w="381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78" name=""/>
          <p:cNvGrpSpPr/>
          <p:nvPr/>
        </p:nvGrpSpPr>
        <p:grpSpPr>
          <a:xfrm>
            <a:off x="6728400" y="3813840"/>
            <a:ext cx="1405800" cy="355320"/>
            <a:chOff x="6728400" y="3813840"/>
            <a:chExt cx="1405800" cy="355320"/>
          </a:xfrm>
        </p:grpSpPr>
        <p:grpSp>
          <p:nvGrpSpPr>
            <p:cNvPr id="379" name=""/>
            <p:cNvGrpSpPr/>
            <p:nvPr/>
          </p:nvGrpSpPr>
          <p:grpSpPr>
            <a:xfrm>
              <a:off x="7191000" y="3814560"/>
              <a:ext cx="475920" cy="353160"/>
              <a:chOff x="7191000" y="3814560"/>
              <a:chExt cx="475920" cy="353160"/>
            </a:xfrm>
          </p:grpSpPr>
          <p:sp>
            <p:nvSpPr>
              <p:cNvPr id="380" name=""/>
              <p:cNvSpPr/>
              <p:nvPr/>
            </p:nvSpPr>
            <p:spPr>
              <a:xfrm flipH="1" rot="10802400">
                <a:off x="7190640" y="3814560"/>
                <a:ext cx="245160" cy="261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522" y="7482"/>
                    </a:moveTo>
                    <a:arcTo wR="10800" hR="10800" stAng="-9726378" swAng="862236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522" y="7482"/>
                    </a:moveTo>
                    <a:arcTo wR="10800" hR="10800" stAng="-9726378" swAng="8622362"/>
                  </a:path>
                </a:pathLst>
              </a:custGeom>
              <a:noFill/>
              <a:ln w="381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flipH="1" flipV="1" rot="10802400">
                <a:off x="7421400" y="3906360"/>
                <a:ext cx="245520" cy="261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06" y="6705"/>
                    </a:moveTo>
                    <a:arcTo wR="10800" hR="10800" stAng="-9463200" swAng="819484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06" y="6705"/>
                    </a:moveTo>
                    <a:arcTo wR="10800" hR="10800" stAng="-9463200" swAng="8194845"/>
                  </a:path>
                </a:pathLst>
              </a:custGeom>
              <a:noFill/>
              <a:ln w="381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2" name=""/>
            <p:cNvSpPr/>
            <p:nvPr/>
          </p:nvSpPr>
          <p:spPr>
            <a:xfrm flipH="1" rot="10802400">
              <a:off x="7649640" y="3819600"/>
              <a:ext cx="247680" cy="261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22" y="7482"/>
                  </a:moveTo>
                  <a:arcTo wR="10800" hR="10800" stAng="-9726378" swAng="8622362"/>
                  <a:lnTo>
                    <a:pt x="10800" y="10800"/>
                  </a:lnTo>
                  <a:close/>
                </a:path>
                <a:path fill="none" w="21600" h="21600">
                  <a:moveTo>
                    <a:pt x="522" y="7482"/>
                  </a:moveTo>
                  <a:arcTo wR="10800" hR="10800" stAng="-9726378" swAng="8622362"/>
                </a:path>
              </a:pathLst>
            </a:custGeom>
            <a:noFill/>
            <a:ln w="381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 flipH="1" flipV="1" rot="10801800">
              <a:off x="7888680" y="3906360"/>
              <a:ext cx="245520" cy="26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04" y="7872"/>
                  </a:moveTo>
                  <a:arcTo wR="10800" hR="10800" stAng="-9856217" swAng="8587862"/>
                  <a:lnTo>
                    <a:pt x="10800" y="10800"/>
                  </a:lnTo>
                  <a:close/>
                </a:path>
                <a:path fill="none" w="21600" h="21600">
                  <a:moveTo>
                    <a:pt x="404" y="7872"/>
                  </a:moveTo>
                  <a:arcTo wR="10800" hR="10800" stAng="-9856217" swAng="8587862"/>
                </a:path>
              </a:pathLst>
            </a:custGeom>
            <a:noFill/>
            <a:ln w="381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4" name=""/>
            <p:cNvGrpSpPr/>
            <p:nvPr/>
          </p:nvGrpSpPr>
          <p:grpSpPr>
            <a:xfrm>
              <a:off x="6728400" y="3813840"/>
              <a:ext cx="477360" cy="353160"/>
              <a:chOff x="6728400" y="3813840"/>
              <a:chExt cx="477360" cy="353160"/>
            </a:xfrm>
          </p:grpSpPr>
          <p:sp>
            <p:nvSpPr>
              <p:cNvPr id="385" name=""/>
              <p:cNvSpPr/>
              <p:nvPr/>
            </p:nvSpPr>
            <p:spPr>
              <a:xfrm flipH="1" rot="10802400">
                <a:off x="6728400" y="3813840"/>
                <a:ext cx="246240" cy="261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522" y="7482"/>
                    </a:moveTo>
                    <a:arcTo wR="10800" hR="10800" stAng="-9726378" swAng="862236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522" y="7482"/>
                    </a:moveTo>
                    <a:arcTo wR="10800" hR="10800" stAng="-9726378" swAng="8622362"/>
                  </a:path>
                </a:pathLst>
              </a:custGeom>
              <a:noFill/>
              <a:ln w="381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 flipH="1" flipV="1" rot="10802400">
                <a:off x="6959520" y="3905640"/>
                <a:ext cx="246240" cy="261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06" y="6705"/>
                    </a:moveTo>
                    <a:arcTo wR="10800" hR="10800" stAng="-9463200" swAng="819484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06" y="6705"/>
                    </a:moveTo>
                    <a:arcTo wR="10800" hR="10800" stAng="-9463200" swAng="8194845"/>
                  </a:path>
                </a:pathLst>
              </a:custGeom>
              <a:noFill/>
              <a:ln w="381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87" name=""/>
          <p:cNvSpPr/>
          <p:nvPr/>
        </p:nvSpPr>
        <p:spPr>
          <a:xfrm>
            <a:off x="7209720" y="3513240"/>
            <a:ext cx="33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7157880" y="2908440"/>
            <a:ext cx="475920" cy="2225160"/>
            <a:chOff x="7157880" y="2908440"/>
            <a:chExt cx="475920" cy="2225160"/>
          </a:xfrm>
        </p:grpSpPr>
        <p:sp>
          <p:nvSpPr>
            <p:cNvPr id="389" name=""/>
            <p:cNvSpPr/>
            <p:nvPr/>
          </p:nvSpPr>
          <p:spPr>
            <a:xfrm>
              <a:off x="7157880" y="2909880"/>
              <a:ext cx="0" cy="2223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7633800" y="2908440"/>
              <a:ext cx="0" cy="2224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1" name=""/>
          <p:cNvSpPr/>
          <p:nvPr/>
        </p:nvSpPr>
        <p:spPr>
          <a:xfrm>
            <a:off x="7209720" y="4121280"/>
            <a:ext cx="33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875640" y="5248440"/>
            <a:ext cx="957240" cy="398880"/>
            <a:chOff x="6875640" y="5248440"/>
            <a:chExt cx="957240" cy="398880"/>
          </a:xfrm>
        </p:grpSpPr>
        <p:sp>
          <p:nvSpPr>
            <p:cNvPr id="393" name=""/>
            <p:cNvSpPr/>
            <p:nvPr/>
          </p:nvSpPr>
          <p:spPr>
            <a:xfrm>
              <a:off x="6875640" y="5275080"/>
              <a:ext cx="957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064280" y="5248440"/>
              <a:ext cx="660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5" name=""/>
          <p:cNvSpPr/>
          <p:nvPr/>
        </p:nvSpPr>
        <p:spPr>
          <a:xfrm>
            <a:off x="5556240" y="2066760"/>
            <a:ext cx="307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Quadrature phase" ±90° interferen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6755400" y="4251240"/>
            <a:ext cx="1405800" cy="894960"/>
            <a:chOff x="6755400" y="4251240"/>
            <a:chExt cx="1405800" cy="894960"/>
          </a:xfrm>
        </p:grpSpPr>
        <p:grpSp>
          <p:nvGrpSpPr>
            <p:cNvPr id="397" name=""/>
            <p:cNvGrpSpPr/>
            <p:nvPr/>
          </p:nvGrpSpPr>
          <p:grpSpPr>
            <a:xfrm>
              <a:off x="7218000" y="4253400"/>
              <a:ext cx="475920" cy="888480"/>
              <a:chOff x="7218000" y="4253400"/>
              <a:chExt cx="475920" cy="888480"/>
            </a:xfrm>
          </p:grpSpPr>
          <p:sp>
            <p:nvSpPr>
              <p:cNvPr id="398" name=""/>
              <p:cNvSpPr/>
              <p:nvPr/>
            </p:nvSpPr>
            <p:spPr>
              <a:xfrm flipH="1" rot="10802400">
                <a:off x="7217640" y="4253400"/>
                <a:ext cx="245160" cy="657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522" y="7482"/>
                    </a:moveTo>
                    <a:arcTo wR="10800" hR="10800" stAng="-9726378" swAng="862236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522" y="7482"/>
                    </a:moveTo>
                    <a:arcTo wR="10800" hR="10800" stAng="-9726378" swAng="8622362"/>
                  </a:path>
                </a:pathLst>
              </a:custGeom>
              <a:noFill/>
              <a:ln w="381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flipH="1" flipV="1" rot="10802400">
                <a:off x="7448400" y="4484520"/>
                <a:ext cx="245520" cy="657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06" y="6705"/>
                    </a:moveTo>
                    <a:arcTo wR="10800" hR="10800" stAng="-9463200" swAng="819484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06" y="6705"/>
                    </a:moveTo>
                    <a:arcTo wR="10800" hR="10800" stAng="-9463200" swAng="8194845"/>
                  </a:path>
                </a:pathLst>
              </a:custGeom>
              <a:noFill/>
              <a:ln w="381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0" name=""/>
            <p:cNvSpPr/>
            <p:nvPr/>
          </p:nvSpPr>
          <p:spPr>
            <a:xfrm flipH="1" rot="10802400">
              <a:off x="7677360" y="4264920"/>
              <a:ext cx="247680" cy="65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22" y="7482"/>
                  </a:moveTo>
                  <a:arcTo wR="10800" hR="10800" stAng="-9726378" swAng="8622362"/>
                  <a:lnTo>
                    <a:pt x="10800" y="10800"/>
                  </a:lnTo>
                  <a:close/>
                </a:path>
                <a:path fill="none" w="21600" h="21600">
                  <a:moveTo>
                    <a:pt x="522" y="7482"/>
                  </a:moveTo>
                  <a:arcTo wR="10800" hR="10800" stAng="-9726378" swAng="8622362"/>
                </a:path>
              </a:pathLst>
            </a:custGeom>
            <a:noFill/>
            <a:ln w="381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 flipH="1" flipV="1" rot="10801800">
              <a:off x="7915680" y="4485960"/>
              <a:ext cx="245520" cy="659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04" y="7872"/>
                  </a:moveTo>
                  <a:arcTo wR="10800" hR="10800" stAng="-9856217" swAng="8587862"/>
                  <a:lnTo>
                    <a:pt x="10800" y="10800"/>
                  </a:lnTo>
                  <a:close/>
                </a:path>
                <a:path fill="none" w="21600" h="21600">
                  <a:moveTo>
                    <a:pt x="404" y="7872"/>
                  </a:moveTo>
                  <a:arcTo wR="10800" hR="10800" stAng="-9856217" swAng="8587862"/>
                </a:path>
              </a:pathLst>
            </a:custGeom>
            <a:noFill/>
            <a:ln w="381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2" name=""/>
            <p:cNvGrpSpPr/>
            <p:nvPr/>
          </p:nvGrpSpPr>
          <p:grpSpPr>
            <a:xfrm>
              <a:off x="6755400" y="4251240"/>
              <a:ext cx="477360" cy="888480"/>
              <a:chOff x="6755400" y="4251240"/>
              <a:chExt cx="477360" cy="888480"/>
            </a:xfrm>
          </p:grpSpPr>
          <p:sp>
            <p:nvSpPr>
              <p:cNvPr id="403" name=""/>
              <p:cNvSpPr/>
              <p:nvPr/>
            </p:nvSpPr>
            <p:spPr>
              <a:xfrm flipH="1" rot="10802400">
                <a:off x="6755400" y="4251240"/>
                <a:ext cx="246240" cy="657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522" y="7482"/>
                    </a:moveTo>
                    <a:arcTo wR="10800" hR="10800" stAng="-9726378" swAng="862236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522" y="7482"/>
                    </a:moveTo>
                    <a:arcTo wR="10800" hR="10800" stAng="-9726378" swAng="8622362"/>
                  </a:path>
                </a:pathLst>
              </a:custGeom>
              <a:noFill/>
              <a:ln w="381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flipH="1" flipV="1" rot="10802400">
                <a:off x="6986520" y="4482360"/>
                <a:ext cx="246240" cy="657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06" y="6705"/>
                    </a:moveTo>
                    <a:arcTo wR="10800" hR="10800" stAng="-9463200" swAng="819484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06" y="6705"/>
                    </a:moveTo>
                    <a:arcTo wR="10800" hR="10800" stAng="-9463200" swAng="8194845"/>
                  </a:path>
                </a:pathLst>
              </a:custGeom>
              <a:noFill/>
              <a:ln w="381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5" name=""/>
          <p:cNvSpPr/>
          <p:nvPr/>
        </p:nvSpPr>
        <p:spPr>
          <a:xfrm>
            <a:off x="8013600" y="2917800"/>
            <a:ext cx="395280" cy="237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407280" y="2901960"/>
            <a:ext cx="395280" cy="237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143400" y="3138480"/>
            <a:ext cx="698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0.2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-0.2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42880" y="118800"/>
            <a:ext cx="7889760" cy="67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nce passage by each atom slows up the net light wave a little bit, the speed of its wave-crests is no longer the speed of light,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stead it becomes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, depending a little on what the phase shift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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was at each atom, for whether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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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or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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call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 the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ndex of refractio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ach frequency is therefore refracted a little differently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/>
          <p:nvPr/>
        </p:nvSpPr>
        <p:spPr>
          <a:xfrm>
            <a:off x="631800" y="1512720"/>
            <a:ext cx="76406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ispersion of the refractive index allows prisms to separate white light into its components and to measure the wavelength of ligh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Dispersion is the tendency of optical properties to depend on frequenc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" name=""/>
          <p:cNvGrpSpPr/>
          <p:nvPr/>
        </p:nvGrpSpPr>
        <p:grpSpPr>
          <a:xfrm>
            <a:off x="2057400" y="2523960"/>
            <a:ext cx="5021280" cy="3035160"/>
            <a:chOff x="2057400" y="2523960"/>
            <a:chExt cx="5021280" cy="3035160"/>
          </a:xfrm>
        </p:grpSpPr>
        <p:sp>
          <p:nvSpPr>
            <p:cNvPr id="412" name=""/>
            <p:cNvSpPr/>
            <p:nvPr/>
          </p:nvSpPr>
          <p:spPr>
            <a:xfrm>
              <a:off x="2057400" y="2523960"/>
              <a:ext cx="5021280" cy="303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13" name="" descr=""/>
            <p:cNvPicPr/>
            <p:nvPr/>
          </p:nvPicPr>
          <p:blipFill>
            <a:blip r:embed="rId1"/>
            <a:srcRect l="0" t="2462" r="0" b="0"/>
            <a:stretch/>
          </p:blipFill>
          <p:spPr>
            <a:xfrm rot="5400000">
              <a:off x="4104360" y="2590920"/>
              <a:ext cx="2538720" cy="289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4" name=""/>
            <p:cNvSpPr/>
            <p:nvPr/>
          </p:nvSpPr>
          <p:spPr>
            <a:xfrm>
              <a:off x="3614760" y="4790880"/>
              <a:ext cx="1619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spersive ele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155320" y="3792240"/>
              <a:ext cx="124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White ligh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6" name=""/>
            <p:cNvGrpSpPr/>
            <p:nvPr/>
          </p:nvGrpSpPr>
          <p:grpSpPr>
            <a:xfrm>
              <a:off x="2306520" y="3900240"/>
              <a:ext cx="1666800" cy="1325520"/>
              <a:chOff x="2306520" y="3900240"/>
              <a:chExt cx="1666800" cy="1325520"/>
            </a:xfrm>
          </p:grpSpPr>
          <p:sp>
            <p:nvSpPr>
              <p:cNvPr id="417" name=""/>
              <p:cNvSpPr/>
              <p:nvPr/>
            </p:nvSpPr>
            <p:spPr>
              <a:xfrm rot="19645200">
                <a:off x="2317320" y="4302000"/>
                <a:ext cx="1644480" cy="5220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 rot="19645200">
                <a:off x="2824920" y="4409640"/>
                <a:ext cx="632880" cy="276480"/>
              </a:xfrm>
              <a:prstGeom prst="rightArrow">
                <a:avLst>
                  <a:gd name="adj1" fmla="val 50000"/>
                  <a:gd name="adj2" fmla="val 57227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9" name=""/>
            <p:cNvSpPr/>
            <p:nvPr/>
          </p:nvSpPr>
          <p:spPr>
            <a:xfrm>
              <a:off x="4436640" y="2679480"/>
              <a:ext cx="184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spersed bea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 rot="20682600">
              <a:off x="3446280" y="3580920"/>
              <a:ext cx="900000" cy="119052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1" name=""/>
          <p:cNvSpPr/>
          <p:nvPr/>
        </p:nvSpPr>
        <p:spPr>
          <a:xfrm>
            <a:off x="3629520" y="4226040"/>
            <a:ext cx="70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5443560" y="963720"/>
            <a:ext cx="2351160" cy="1466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77360" y="193680"/>
            <a:ext cx="3506760" cy="29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The relative phase of an electron cloud’s motion with respect to input light depends on the frequenc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922560" y="1218960"/>
            <a:ext cx="164016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low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eson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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&lt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585120" y="1305000"/>
            <a:ext cx="763560" cy="763560"/>
          </a:xfrm>
          <a:prstGeom prst="ellipse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97520" y="1666800"/>
            <a:ext cx="247680" cy="42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80120" y="326880"/>
            <a:ext cx="143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ctric field at a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622920" y="326880"/>
            <a:ext cx="108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ctron clo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438880" y="2944800"/>
            <a:ext cx="2351160" cy="1467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998880" y="3154320"/>
            <a:ext cx="1538280" cy="10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resonance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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585120" y="3284640"/>
            <a:ext cx="763560" cy="763560"/>
          </a:xfrm>
          <a:prstGeom prst="ellipse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894280" y="3660840"/>
            <a:ext cx="244440" cy="42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37080" y="4933800"/>
            <a:ext cx="2351160" cy="1467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844800" y="5159520"/>
            <a:ext cx="175608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ov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eson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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09560" y="3500280"/>
            <a:ext cx="2932200" cy="28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 the atom’s resonant frequency be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and the light frequency be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lectron charge is negative, so there’s a 180° phase shift in all cases (compared to the previous slide’s plot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585120" y="5281560"/>
            <a:ext cx="763560" cy="763560"/>
          </a:xfrm>
          <a:prstGeom prst="ellipse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899320" y="5641920"/>
            <a:ext cx="234720" cy="42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810560" y="1166760"/>
            <a:ext cx="10872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ak vibration.18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ut of phas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810560" y="3133800"/>
            <a:ext cx="10872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ong vibrat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9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ut of phas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810560" y="5129280"/>
            <a:ext cx="1087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ak vibrat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phas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4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12 -0.00624 C -0.00312 -0.05109 -0.00312 -0.09387 -0.00295 -0.09387 C -0.00278 -0.09387 -0.00278 -0.05109 -0.0026 -0.00624 C -0.0026 0.0437 -0.0026 0.09388 -0.00225 0.09388 C -0.00208 0.09388 -0.00208 0.0437 -0.00208 -0.00624 C -0.00191 -0.05109 -0.00191 -0.09387 -0.00173 -0.09387 C -0.00156 -0.09387 -0.00156 -0.05109 -0.00139 -0.00624 C -0.00139 0.0437 -0.00139 0.09388 -0.00121 0.09388 C -0.00104 0.09388 -0.00087 -0.00624 -0.00087 -0.00578 C -0.00087 -0.05109 -0.00069 -0.09387 -0.00052 -0.09387 C -0.00034 -0.09387 -0.00034 -0.05109 -0.00034 -0.00624 C -0.00017 0.0437 -0.00017 0.09388 -2.22222E-006 0.09388 C 0.00018 0.09388 0.00018 0.0437 0.00035 -0.00624 C 0.00035 -0.05109 0.00035 -0.09387 0.00052 -0.09387 C 0.0007 -0.09387 0.00087 -0.05109 0.00087 -0.00624 C 0.00087 0.0437 0.00104 0.09388 0.00122 0.09388 C 0.00139 0.09388 0.00139 0.0437 0.00156 -0.00624 E">
                                      <p:cBhvr>
                                        <p:cTn id="26" dur="5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" nodeType="withEffect" fill="hold" presetClass="path" presetID="40" repeatCount="indefinite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1.94444E-006 4.68208E-006 C 1.94444E-006 -0.00833 1.94444000000001E-006 -0.01619 0.00017 -0.01619 C 0.00035 -0.01619 0.00035 -0.00833 0.00052 4.68208E-006 C 0.00052 0.00948 0.00052 0.01942 0.00087 0.01942 C 0.00104 0.01942 0.00104 0.00948 0.00104 4.68208E-006 C 0.00121 -0.00833 0.00121 -0.01619 0.00139 -0.01619 C 0.00156 -0.01619 0.00156 -0.00833 0.00173 4.68208E-006 C 0.00173 0.00948 0.00173 0.01942 0.00191 0.01942 C 0.00208 0.01942 0.00226 4.68208E-006 0.00226 0.00023 C 0.00226 -0.00833 0.00243 -0.01619 0.0026 -0.01619 C 0.00278 -0.01619 0.00278 -0.00833 0.00278 4.68208E-006 C 0.00295 0.00948 0.00295 0.01942 0.00312 0.01942 C 0.0033 0.01942 0.0033 0.00948 0.00347 4.68208E-006 C 0.00347 -0.00833 0.00347 -0.01619 0.00364 -0.01619 C 0.00382 -0.01619 0.00399 -0.00833 0.00399 4.68208E-006 C 0.00399 0.00948 0.00416 0.01942 0.00434 0.01942 C 0.00451 0.01942 0.00451 0.00948 0.00469 4.68208E-006 E">
                                      <p:cBhvr>
                                        <p:cTn id="28" dur="5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path" presetID="4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0.00416 C 4.44444E-006 -0.05318 4.44443999999999E-006 -0.09942 0.00017 -0.09942 C 0.00034 -0.09942 0.00034 -0.05318 0.00052 -0.00416 C 0.00052 0.05041 0.00052 0.10521 0.00086 0.10521 C 0.00104 0.10521 0.00104 0.05041 0.00104 -0.00416 C 0.00121 -0.05318 0.00121 -0.09942 0.00138 -0.09942 C 0.00156 -0.09942 0.00156 -0.05318 0.00173 -0.00416 C 0.00173 0.05041 0.00173 0.10521 0.00191 0.10521 C 0.00208 0.10521 0.00225 -0.00416 0.00225 -0.0037 C 0.00225 -0.05318 0.00243 -0.09942 0.0026 -0.09942 C 0.00277 -0.09942 0.00277 -0.05318 0.00277 -0.00416 C 0.00295 0.05041 0.00295 0.10521 0.00312 0.10521 C 0.00329 0.10521 0.00329 0.05041 0.00347 -0.00416 C 0.00347 -0.05318 0.00347 -0.09942 0.00364 -0.09942 C 0.00382 -0.09942 0.00399 -0.05318 0.00399 -0.00416 C 0.00399 0.05041 0.00416 0.10521 0.00434 0.10521 C 0.00451 0.10521 0.00451 0.05041 0.00468 -0.00416 E">
                                      <p:cBhvr>
                                        <p:cTn id="32" dur="5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" nodeType="withEffect" fill="hold" presetClass="path" presetID="40" repeatCount="indefinite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-0.00468 -0.00832 C -0.00468 -0.05526 -0.00468 -0.09988 -0.00451 -0.09988 C -0.00434 -0.09988 -0.00434 -0.05526 -0.00416 -0.00832 C -0.00416 0.0437 -0.00416 0.09619 -0.00382 0.09619 C -0.00364 0.09619 -0.00364 0.0437 -0.00364 -0.00832 C -0.00347 -0.05526 -0.00347 -0.09988 -0.0033 -0.09988 C -0.00312 -0.09988 -0.00312 -0.05526 -0.00295 -0.00832 C -0.00295 0.0437 -0.00295 0.09619 -0.00277 0.09619 C -0.0026 0.09619 -0.00243 -0.00832 -0.00243 -0.00809 C -0.00243 -0.05526 -0.00225 -0.09988 -0.00208 -0.09988 C -0.00191 -0.09988 -0.00191 -0.05526 -0.00191 -0.00832 C -0.00173 0.0437 -0.00173 0.09619 -0.00156 0.09619 C -0.00139 0.09619 -0.00139 0.0437 -0.00121 -0.00832 C -0.00121 -0.05526 -0.00121 -0.09988 -0.00104 -0.09988 C -0.00087 -0.09988 -0.00069 -0.05526 -0.00069 -0.00832 C -0.00069 0.0437 -0.00052 0.09619 -0.00034 0.09619 C -0.00017 0.09619 -0.00017 0.0437 -2.77778E-006 -0.00832 E">
                                      <p:cBhvr>
                                        <p:cTn id="34" dur="5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path" presetID="4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0.00833 C 2.5E-006 -0.05365 2.50000000000001E-006 -0.09665 0.00017 -0.09665 C 0.00034 -0.09665 0.00034 -0.05365 0.00069 -0.00833 C 0.00069 0.04231 0.00069 0.09317 0.00104 0.09317 C 0.00139 0.09317 0.00139 0.04231 0.00139 -0.00833 C 0.00156 -0.05365 0.00156 -0.09665 0.00173 -0.09665 C 0.00208 -0.09665 0.00208 -0.05365 0.00225 -0.00833 C 0.00225 0.04231 0.00225 0.09317 0.00243 0.09317 C 0.00278 0.09317 0.00295 -0.00833 0.00295 -0.00763 C 0.00295 -0.05365 0.00312 -0.09665 0.00347 -0.09665 C 0.00364 -0.09665 0.00364 -0.05365 0.00364 -0.00833 C 0.00382 0.04231 0.00382 0.09317 0.00416 0.09317 C 0.00434 0.09317 0.00434 0.04231 0.00451 -0.00833 C 0.00451 -0.05365 0.00451 -0.09665 0.00486 -0.09665 C 0.00503 -0.09665 0.00521 -0.05365 0.00521 -0.00833 C 0.00521 0.04231 0.00555 0.09317 0.00573 0.09317 C 0.0059 0.09317 0.0059 0.04231 0.00625 -0.00833 E">
                                      <p:cBhvr>
                                        <p:cTn id="38" dur="5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" nodeType="withEffect" fill="hold" presetClass="path" presetID="4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8.09249E-007 C 4.72222E-006 -0.0104 4.72221999999999E-006 -0.02035 -0.00018 -0.02035 C -0.00035 -0.02035 -0.00035 -0.0104 -0.00053 -8.09249E-007 C -0.00053 0.01179 -0.00053 0.02382 -0.00087 0.02382 C -0.00105 0.02382 -0.00105 0.01179 -0.00105 -8.09249E-007 C -0.00122 -0.0104 -0.00122 -0.02035 -0.00139 -0.02035 C -0.00157 -0.02035 -0.00157 -0.0104 -0.00174 -8.09249E-007 C -0.00174 0.01179 -0.00174 0.02382 -0.00191 0.02382 C -0.00209 0.02382 -0.00226 -8.09249000000007E-007 -0.00226 0.00023 C -0.00226 -0.0104 -0.00244 -0.02035 -0.00261 -0.02035 C -0.00278 -0.02035 -0.00278 -0.0104 -0.00278 -8.09249E-007 C -0.00296 0.01179 -0.00296 0.02382 -0.00313 0.02382 C -0.0033 0.02382 -0.0033 0.01179 -0.00348 -8.09249E-007 C -0.00348 -0.0104 -0.00348 -0.02035 -0.00365 -0.02035 C -0.00382 -0.02035 -0.004 -0.0104 -0.004 -8.09249E-007 C -0.004 0.01179 -0.00417 0.02382 -0.00434 0.02382 C -0.00452 0.02382 -0.00452 0.01179 -0.00469 -8.09249E-007 E">
                                      <p:cBhvr>
                                        <p:cTn id="40" dur="5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42880" y="1118880"/>
            <a:ext cx="7889760" cy="18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, atoms should be able to absorb power at their resonance peak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23880" y="310680"/>
            <a:ext cx="5137200" cy="10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The sun’s emission spectrum in the vi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65280" y="1650960"/>
            <a:ext cx="5629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ark lines below represent absorption of sunlight passing through cooler gases on the surface of the su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689040" y="2997360"/>
            <a:ext cx="7858800" cy="3372840"/>
            <a:chOff x="689040" y="2997360"/>
            <a:chExt cx="7858800" cy="3372840"/>
          </a:xfrm>
        </p:grpSpPr>
        <p:sp>
          <p:nvSpPr>
            <p:cNvPr id="131" name=""/>
            <p:cNvSpPr/>
            <p:nvPr/>
          </p:nvSpPr>
          <p:spPr>
            <a:xfrm>
              <a:off x="689040" y="2997360"/>
              <a:ext cx="7858800" cy="3372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2" name="" descr=""/>
            <p:cNvPicPr/>
            <p:nvPr/>
          </p:nvPicPr>
          <p:blipFill>
            <a:blip r:embed="rId1"/>
            <a:stretch/>
          </p:blipFill>
          <p:spPr>
            <a:xfrm>
              <a:off x="1055880" y="3242880"/>
              <a:ext cx="7142040" cy="2832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6327720" y="453960"/>
            <a:ext cx="1973160" cy="19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42880" y="1118880"/>
            <a:ext cx="7889760" cy="27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Excite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toms naturally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emi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round the same frequency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where they had been able to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bsorb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the most pow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4648320" y="2674800"/>
            <a:ext cx="1112760" cy="1467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105000" y="2674800"/>
            <a:ext cx="1443240" cy="1467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19040" y="190080"/>
            <a:ext cx="826776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cc"/>
                </a:solidFill>
                <a:latin typeface="Arial"/>
              </a:rPr>
              <a:t>Excited atoms radiate light power and decay a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0080" y="1542960"/>
            <a:ext cx="8178840" cy="4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cited atom with resonant frequency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60440" y="4707000"/>
            <a:ext cx="8442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cited atom vibrates at its damped frequency, and re-emits the energy as light of that characteristic frequenc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adiated light i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hea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the displacement by 90° in ph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760920" y="3029040"/>
            <a:ext cx="763560" cy="763560"/>
          </a:xfrm>
          <a:prstGeom prst="ellipse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394240" y="3394080"/>
            <a:ext cx="198360" cy="428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228840" y="2116080"/>
            <a:ext cx="108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lectron clou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572000" y="2116080"/>
            <a:ext cx="1174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mitted fie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3720960" y="2801520"/>
            <a:ext cx="0" cy="1233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3141720" y="3176640"/>
          <a:ext cx="587160" cy="40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41720" y="3176640"/>
                    <a:ext cx="58716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"/>
          <p:cNvSpPr/>
          <p:nvPr/>
        </p:nvSpPr>
        <p:spPr>
          <a:xfrm flipV="1">
            <a:off x="5241960" y="2803680"/>
            <a:ext cx="0" cy="1233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4618080" y="3141720"/>
          <a:ext cx="638280" cy="449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18080" y="3141720"/>
                    <a:ext cx="638280" cy="4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path" presetID="4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-0.00208 C -0.00156 -0.02659 -0.00156 -0.04879 -0.00156 -0.04856 C -0.00139 -0.04879 -0.00139 -0.02659 -0.00104 -0.00208 C -0.00104 0.02451 -0.00104 0.05225 -0.00087 0.05225 C -0.00052 0.05225 -0.00052 0.02451 -0.00052 -0.00208 C -0.00052 -0.02659 -0.00052 -0.04879 -0.00034 -0.04879 C -2.77778E-006 -0.04879 -2.77778E-006 -0.02659 -2.77778E-006 -0.00208 C -2.77778E-006 0.02451 -2.77778E-006 0.05225 0.00018 0.05225 C 0.00052 0.05225 0.00052 -0.00208 0.00052 -0.00185 C 0.00052 -0.02659 0.0007 -0.04879 0.00104 -0.04879 C 0.00104 -0.04856 0.00104 -0.02659 0.00104 -0.00208 C 0.00122 0.02451 0.00122 0.05225 0.00157 0.05225 C 0.00157 0.05248 0.00157 0.02451 0.00174 -0.00208 C 0.00174 -0.02659 0.00174 -0.04879 0.00209 -0.04879 C 0.00209 -0.04856 0.00226 -0.02659 0.00226 -0.00208 C 0.00226 0.02451 0.00261 0.05225 0.00261 0.05248 C 0.00278 0.05225 0.00278 0.02451 0.00313 -0.00208 E">
                                      <p:cBhvr>
                                        <p:cTn id="46" dur="5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" nodeType="withEffect" fill="hold" presetClass="path" presetID="40" repeatCount="indefinite">
                                  <p:stCondLst>
                                    <p:cond delay="900"/>
                                  </p:stCondLst>
                                  <p:childTnLst>
                                    <p:animMotion origin="layout" path="M -0.00156 -0.00208 C -0.00156 -0.03491 -0.00156 -0.06589 -0.00156 -0.06566 C -0.00139 -0.06589 -0.00139 -0.03491 -0.00104 -0.00208 C -0.00104 0.03515 -0.00104 0.07283 -0.00086 0.07283 C -0.00052 0.07283 -0.00052 0.03515 -0.00052 -0.00208 C -0.00052 -0.03491 -0.00052 -0.06589 -0.00034 -0.06589 C -3.33332999999999E-006 -0.06589 -3.33333E-006 -0.03491 -3.33333E-006 -0.00208 C -3.33333E-006 0.03515 -3.33333000000001E-006 0.07283 0.00018 0.07283 C 0.00052 0.07283 0.00052 -0.00208 0.00052 -0.00139 C 0.00052 -0.03491 0.0007 -0.06589 0.00105 -0.06589 C 0.00105 -0.06566 0.00105 -0.03491 0.00105 -0.00208 C 0.00122 0.03515 0.00122 0.07283 0.00157 0.07283 C 0.00157 0.07306 0.00157 0.03515 0.00174 -0.00208 C 0.00174 -0.03491 0.00174 -0.06589 0.00209 -0.06589 C 0.00209 -0.06566 0.00226 -0.03491 0.00226 -0.00208 C 0.00226 0.03515 0.00261 0.07283 0.00261 0.07306 C 0.00278 0.07283 0.00278 0.03515 0.00313 -0.00208 E">
                                      <p:cBhvr>
                                        <p:cTn id="48" dur="5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027080" y="1785960"/>
            <a:ext cx="7272360" cy="436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352440" y="209160"/>
            <a:ext cx="82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Different atoms have different resonance</a:t>
            </a:r>
            <a:br>
              <a:rPr sz="3200"/>
            </a:b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frequencies, </a:t>
            </a:r>
            <a:r>
              <a:rPr b="1" lang="en-US" sz="3200" spc="-1" strike="noStrike">
                <a:solidFill>
                  <a:srgbClr val="ffff99"/>
                </a:solidFill>
                <a:latin typeface="Symbol"/>
                <a:ea typeface="Symbol"/>
              </a:rPr>
              <a:t></a:t>
            </a:r>
            <a:r>
              <a:rPr b="1" lang="en-US" sz="3200" spc="-1" strike="noStrike" baseline="-25000">
                <a:solidFill>
                  <a:srgbClr val="ffff99"/>
                </a:solidFill>
                <a:latin typeface="Arial"/>
              </a:rPr>
              <a:t>0</a:t>
            </a: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, and widths, </a:t>
            </a:r>
            <a:r>
              <a:rPr b="1" lang="en-US" sz="3200" spc="-1" strike="noStrike">
                <a:solidFill>
                  <a:srgbClr val="ffff99"/>
                </a:solidFill>
                <a:latin typeface="Symbol"/>
                <a:ea typeface="Symbol"/>
              </a:rPr>
              <a:t></a:t>
            </a: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1197000" y="1965240"/>
            <a:ext cx="69152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42880" y="1118880"/>
            <a:ext cx="7889760" cy="18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kay, so we’ve determined what the light wave does to the at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42880" y="3722760"/>
            <a:ext cx="7667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w, what does the atom do to the passing light wa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3417840" y="2727360"/>
            <a:ext cx="1112760" cy="1466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874880" y="2727360"/>
            <a:ext cx="1442880" cy="1466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18680" y="138240"/>
            <a:ext cx="8420040" cy="13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cc"/>
                </a:solidFill>
                <a:latin typeface="Arial"/>
              </a:rPr>
              <a:t>Light </a:t>
            </a:r>
            <a:r>
              <a:rPr b="1" lang="en-US" sz="3200" spc="-1" strike="noStrike" u="sng">
                <a:solidFill>
                  <a:srgbClr val="ccffcc"/>
                </a:solidFill>
                <a:uFillTx/>
                <a:latin typeface="Arial"/>
              </a:rPr>
              <a:t>drives</a:t>
            </a:r>
            <a:r>
              <a:rPr b="1" lang="en-US" sz="3200" spc="-1" strike="noStrike">
                <a:solidFill>
                  <a:srgbClr val="ccffcc"/>
                </a:solidFill>
                <a:latin typeface="Arial"/>
              </a:rPr>
              <a:t> oscillating electron currents, which then like an antenna radiate light, which superimposes with the input l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0080" y="1595160"/>
            <a:ext cx="81788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light of frequency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rives an atom with resonant frequency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0440" y="4759200"/>
            <a:ext cx="79185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cited atom vibrates at the frequency of the light that excited it and re-emits the energy as light of that frequenc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rucial issue is the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relative pha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the incident light and this re-emitted light.  For example, if these two waves are ~18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ut of phase, the beam will be attenuated. We call this absorp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25320" y="2727360"/>
            <a:ext cx="1140120" cy="1466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530440" y="3081240"/>
            <a:ext cx="763560" cy="763560"/>
          </a:xfrm>
          <a:prstGeom prst="ellipse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386000" y="3446640"/>
            <a:ext cx="231840" cy="42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164120" y="3446640"/>
            <a:ext cx="198360" cy="428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12640" y="2168640"/>
            <a:ext cx="1436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lectric field at at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998720" y="2168640"/>
            <a:ext cx="108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lectron clou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341520" y="2168640"/>
            <a:ext cx="1175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mitted fie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03240" y="4184640"/>
            <a:ext cx="310680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reson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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2490840" y="2854440"/>
            <a:ext cx="0" cy="1233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1911240" y="3228840"/>
          <a:ext cx="587520" cy="40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11240" y="3228840"/>
                    <a:ext cx="58752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" name=""/>
          <p:cNvSpPr/>
          <p:nvPr/>
        </p:nvSpPr>
        <p:spPr>
          <a:xfrm flipV="1">
            <a:off x="1249200" y="2855880"/>
            <a:ext cx="0" cy="1233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646200" y="3179880"/>
          <a:ext cx="568080" cy="449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6200" y="3179880"/>
                    <a:ext cx="568080" cy="4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"/>
          <p:cNvSpPr/>
          <p:nvPr/>
        </p:nvSpPr>
        <p:spPr>
          <a:xfrm flipV="1">
            <a:off x="4011480" y="2855880"/>
            <a:ext cx="0" cy="1233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3387600" y="3193920"/>
          <a:ext cx="638280" cy="449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387600" y="3193920"/>
                    <a:ext cx="638280" cy="4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8" name=""/>
          <p:cNvGrpSpPr/>
          <p:nvPr/>
        </p:nvGrpSpPr>
        <p:grpSpPr>
          <a:xfrm>
            <a:off x="4967280" y="2452680"/>
            <a:ext cx="3568320" cy="2112840"/>
            <a:chOff x="4967280" y="2452680"/>
            <a:chExt cx="3568320" cy="2112840"/>
          </a:xfrm>
        </p:grpSpPr>
        <p:sp>
          <p:nvSpPr>
            <p:cNvPr id="179" name=""/>
            <p:cNvSpPr/>
            <p:nvPr/>
          </p:nvSpPr>
          <p:spPr>
            <a:xfrm>
              <a:off x="4976640" y="2452680"/>
              <a:ext cx="3558960" cy="2112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0" name=""/>
            <p:cNvGrpSpPr/>
            <p:nvPr/>
          </p:nvGrpSpPr>
          <p:grpSpPr>
            <a:xfrm>
              <a:off x="5232240" y="2574000"/>
              <a:ext cx="1425600" cy="732960"/>
              <a:chOff x="5232240" y="2574000"/>
              <a:chExt cx="1425600" cy="73296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5701320" y="2575800"/>
                <a:ext cx="482760" cy="727560"/>
                <a:chOff x="5701320" y="2575800"/>
                <a:chExt cx="482760" cy="727560"/>
              </a:xfrm>
            </p:grpSpPr>
            <p:sp>
              <p:nvSpPr>
                <p:cNvPr id="182" name=""/>
                <p:cNvSpPr/>
                <p:nvPr/>
              </p:nvSpPr>
              <p:spPr>
                <a:xfrm flipH="1" rot="10802400">
                  <a:off x="5700960" y="2575800"/>
                  <a:ext cx="248760" cy="538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522" y="7482"/>
                      </a:moveTo>
                      <a:arcTo wR="10800" hR="10800" stAng="-9726378" swAng="862236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522" y="7482"/>
                      </a:moveTo>
                      <a:arcTo wR="10800" hR="10800" stAng="-9726378" swAng="8622362"/>
                    </a:path>
                  </a:pathLst>
                </a:custGeom>
                <a:noFill/>
                <a:ln w="3816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 flipH="1" flipV="1" rot="10802400">
                  <a:off x="5934960" y="2765520"/>
                  <a:ext cx="249120" cy="5374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806" y="6705"/>
                      </a:moveTo>
                      <a:arcTo wR="10800" hR="10800" stAng="-9463200" swAng="819484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806" y="6705"/>
                      </a:moveTo>
                      <a:arcTo wR="10800" hR="10800" stAng="-9463200" swAng="8194845"/>
                    </a:path>
                  </a:pathLst>
                </a:custGeom>
                <a:noFill/>
                <a:ln w="3816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4" name=""/>
              <p:cNvSpPr/>
              <p:nvPr/>
            </p:nvSpPr>
            <p:spPr>
              <a:xfrm flipH="1" rot="10802400">
                <a:off x="6167880" y="2585880"/>
                <a:ext cx="251280" cy="538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522" y="7482"/>
                    </a:moveTo>
                    <a:arcTo wR="10800" hR="10800" stAng="-9726378" swAng="862236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522" y="7482"/>
                    </a:moveTo>
                    <a:arcTo wR="10800" hR="10800" stAng="-9726378" swAng="8622362"/>
                  </a:path>
                </a:pathLst>
              </a:custGeom>
              <a:noFill/>
              <a:ln w="381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flipH="1" flipV="1" rot="10801800">
                <a:off x="6408720" y="2766960"/>
                <a:ext cx="249120" cy="539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04" y="7872"/>
                    </a:moveTo>
                    <a:arcTo wR="10800" hR="10800" stAng="-9856217" swAng="858786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04" y="7872"/>
                    </a:moveTo>
                    <a:arcTo wR="10800" hR="10800" stAng="-9856217" swAng="8587862"/>
                  </a:path>
                </a:pathLst>
              </a:custGeom>
              <a:noFill/>
              <a:ln w="381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6" name=""/>
              <p:cNvGrpSpPr/>
              <p:nvPr/>
            </p:nvGrpSpPr>
            <p:grpSpPr>
              <a:xfrm>
                <a:off x="5232240" y="2574000"/>
                <a:ext cx="484920" cy="727560"/>
                <a:chOff x="5232240" y="2574000"/>
                <a:chExt cx="484920" cy="727560"/>
              </a:xfrm>
            </p:grpSpPr>
            <p:sp>
              <p:nvSpPr>
                <p:cNvPr id="187" name=""/>
                <p:cNvSpPr/>
                <p:nvPr/>
              </p:nvSpPr>
              <p:spPr>
                <a:xfrm flipH="1" rot="10802400">
                  <a:off x="5232240" y="2574000"/>
                  <a:ext cx="249840" cy="538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522" y="7482"/>
                      </a:moveTo>
                      <a:arcTo wR="10800" hR="10800" stAng="-9726378" swAng="862236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522" y="7482"/>
                      </a:moveTo>
                      <a:arcTo wR="10800" hR="10800" stAng="-9726378" swAng="8622362"/>
                    </a:path>
                  </a:pathLst>
                </a:custGeom>
                <a:noFill/>
                <a:ln w="3816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 flipH="1" flipV="1" rot="10802400">
                  <a:off x="5466600" y="2763720"/>
                  <a:ext cx="250200" cy="5374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806" y="6705"/>
                      </a:moveTo>
                      <a:arcTo wR="10800" hR="10800" stAng="-9463200" swAng="819484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806" y="6705"/>
                      </a:moveTo>
                      <a:arcTo wR="10800" hR="10800" stAng="-9463200" swAng="8194845"/>
                    </a:path>
                  </a:pathLst>
                </a:custGeom>
                <a:noFill/>
                <a:ln w="3816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9" name=""/>
            <p:cNvGrpSpPr/>
            <p:nvPr/>
          </p:nvGrpSpPr>
          <p:grpSpPr>
            <a:xfrm>
              <a:off x="5226840" y="3891600"/>
              <a:ext cx="1425960" cy="380880"/>
              <a:chOff x="5226840" y="3891600"/>
              <a:chExt cx="1425960" cy="380880"/>
            </a:xfrm>
          </p:grpSpPr>
          <p:grpSp>
            <p:nvGrpSpPr>
              <p:cNvPr id="190" name=""/>
              <p:cNvGrpSpPr/>
              <p:nvPr/>
            </p:nvGrpSpPr>
            <p:grpSpPr>
              <a:xfrm>
                <a:off x="5696280" y="3892320"/>
                <a:ext cx="482760" cy="378360"/>
                <a:chOff x="5696280" y="3892320"/>
                <a:chExt cx="482760" cy="378360"/>
              </a:xfrm>
            </p:grpSpPr>
            <p:sp>
              <p:nvSpPr>
                <p:cNvPr id="191" name=""/>
                <p:cNvSpPr/>
                <p:nvPr/>
              </p:nvSpPr>
              <p:spPr>
                <a:xfrm flipH="1" rot="10802400">
                  <a:off x="5695920" y="3892320"/>
                  <a:ext cx="248760" cy="2797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522" y="7482"/>
                      </a:moveTo>
                      <a:arcTo wR="10800" hR="10800" stAng="-9726378" swAng="862236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522" y="7482"/>
                      </a:moveTo>
                      <a:arcTo wR="10800" hR="10800" stAng="-9726378" swAng="8622362"/>
                    </a:path>
                  </a:pathLst>
                </a:custGeom>
                <a:noFill/>
                <a:ln w="3816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 flipH="1" flipV="1" rot="10802400">
                  <a:off x="5929920" y="3990600"/>
                  <a:ext cx="249120" cy="2797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806" y="6705"/>
                      </a:moveTo>
                      <a:arcTo wR="10800" hR="10800" stAng="-9463200" swAng="819484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806" y="6705"/>
                      </a:moveTo>
                      <a:arcTo wR="10800" hR="10800" stAng="-9463200" swAng="8194845"/>
                    </a:path>
                  </a:pathLst>
                </a:custGeom>
                <a:noFill/>
                <a:ln w="3816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3" name=""/>
              <p:cNvSpPr/>
              <p:nvPr/>
            </p:nvSpPr>
            <p:spPr>
              <a:xfrm flipH="1" rot="10802400">
                <a:off x="6162120" y="3897720"/>
                <a:ext cx="251280" cy="27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522" y="7482"/>
                    </a:moveTo>
                    <a:arcTo wR="10800" hR="10800" stAng="-9726378" swAng="862236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522" y="7482"/>
                    </a:moveTo>
                    <a:arcTo wR="10800" hR="10800" stAng="-9726378" swAng="8622362"/>
                  </a:path>
                </a:pathLst>
              </a:custGeom>
              <a:noFill/>
              <a:ln w="381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flipH="1" flipV="1" rot="10801800">
                <a:off x="6403680" y="3992400"/>
                <a:ext cx="249120" cy="280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04" y="7872"/>
                    </a:moveTo>
                    <a:arcTo wR="10800" hR="10800" stAng="-9856217" swAng="858786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04" y="7872"/>
                    </a:moveTo>
                    <a:arcTo wR="10800" hR="10800" stAng="-9856217" swAng="8587862"/>
                  </a:path>
                </a:pathLst>
              </a:custGeom>
              <a:noFill/>
              <a:ln w="381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5" name=""/>
              <p:cNvGrpSpPr/>
              <p:nvPr/>
            </p:nvGrpSpPr>
            <p:grpSpPr>
              <a:xfrm>
                <a:off x="5226840" y="3891600"/>
                <a:ext cx="484920" cy="378360"/>
                <a:chOff x="5226840" y="3891600"/>
                <a:chExt cx="484920" cy="378360"/>
              </a:xfrm>
            </p:grpSpPr>
            <p:sp>
              <p:nvSpPr>
                <p:cNvPr id="196" name=""/>
                <p:cNvSpPr/>
                <p:nvPr/>
              </p:nvSpPr>
              <p:spPr>
                <a:xfrm flipH="1" rot="10802400">
                  <a:off x="5226840" y="3891600"/>
                  <a:ext cx="249840" cy="2797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522" y="7482"/>
                      </a:moveTo>
                      <a:arcTo wR="10800" hR="10800" stAng="-9726378" swAng="862236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522" y="7482"/>
                      </a:moveTo>
                      <a:arcTo wR="10800" hR="10800" stAng="-9726378" swAng="8622362"/>
                    </a:path>
                  </a:pathLst>
                </a:custGeom>
                <a:noFill/>
                <a:ln w="3816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 flipH="1" flipV="1" rot="10802400">
                  <a:off x="5461200" y="3989880"/>
                  <a:ext cx="250200" cy="2797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806" y="6705"/>
                      </a:moveTo>
                      <a:arcTo wR="10800" hR="10800" stAng="-9463200" swAng="819484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806" y="6705"/>
                      </a:moveTo>
                      <a:arcTo wR="10800" hR="10800" stAng="-9463200" swAng="8194845"/>
                    </a:path>
                  </a:pathLst>
                </a:custGeom>
                <a:noFill/>
                <a:ln w="3816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8" name=""/>
            <p:cNvGrpSpPr/>
            <p:nvPr/>
          </p:nvGrpSpPr>
          <p:grpSpPr>
            <a:xfrm>
              <a:off x="5002920" y="2617560"/>
              <a:ext cx="1425600" cy="1820160"/>
              <a:chOff x="5002920" y="2617560"/>
              <a:chExt cx="1425600" cy="1820160"/>
            </a:xfrm>
          </p:grpSpPr>
          <p:grpSp>
            <p:nvGrpSpPr>
              <p:cNvPr id="199" name=""/>
              <p:cNvGrpSpPr/>
              <p:nvPr/>
            </p:nvGrpSpPr>
            <p:grpSpPr>
              <a:xfrm>
                <a:off x="5002920" y="3357720"/>
                <a:ext cx="1425600" cy="290880"/>
                <a:chOff x="5002920" y="3357720"/>
                <a:chExt cx="1425600" cy="290880"/>
              </a:xfrm>
            </p:grpSpPr>
            <p:grpSp>
              <p:nvGrpSpPr>
                <p:cNvPr id="200" name=""/>
                <p:cNvGrpSpPr/>
                <p:nvPr/>
              </p:nvGrpSpPr>
              <p:grpSpPr>
                <a:xfrm>
                  <a:off x="5472000" y="3358440"/>
                  <a:ext cx="482760" cy="289080"/>
                  <a:chOff x="5472000" y="3358440"/>
                  <a:chExt cx="482760" cy="289080"/>
                </a:xfrm>
              </p:grpSpPr>
              <p:sp>
                <p:nvSpPr>
                  <p:cNvPr id="201" name=""/>
                  <p:cNvSpPr/>
                  <p:nvPr/>
                </p:nvSpPr>
                <p:spPr>
                  <a:xfrm flipH="1" rot="10802400">
                    <a:off x="5471640" y="3358440"/>
                    <a:ext cx="248760" cy="2134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522" y="7482"/>
                        </a:moveTo>
                        <a:arcTo wR="10800" hR="10800" stAng="-9726378" swAng="8622362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522" y="7482"/>
                        </a:moveTo>
                        <a:arcTo wR="10800" hR="10800" stAng="-9726378" swAng="8622362"/>
                      </a:path>
                    </a:pathLst>
                  </a:custGeom>
                  <a:noFill/>
                  <a:ln w="38160">
                    <a:solidFill>
                      <a:srgbClr val="33cc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 flipH="1" flipV="1" rot="10802400">
                    <a:off x="5705640" y="3433680"/>
                    <a:ext cx="249120" cy="2134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806" y="6705"/>
                        </a:moveTo>
                        <a:arcTo wR="10800" hR="10800" stAng="-9463200" swAng="8194845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806" y="6705"/>
                        </a:moveTo>
                        <a:arcTo wR="10800" hR="10800" stAng="-9463200" swAng="8194845"/>
                      </a:path>
                    </a:pathLst>
                  </a:custGeom>
                  <a:noFill/>
                  <a:ln w="38160">
                    <a:solidFill>
                      <a:srgbClr val="33cc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 flipH="1" rot="10802400">
                  <a:off x="5938560" y="3362400"/>
                  <a:ext cx="251280" cy="2134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522" y="7482"/>
                      </a:moveTo>
                      <a:arcTo wR="10800" hR="10800" stAng="-9726378" swAng="862236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522" y="7482"/>
                      </a:moveTo>
                      <a:arcTo wR="10800" hR="10800" stAng="-9726378" swAng="8622362"/>
                    </a:path>
                  </a:pathLst>
                </a:custGeom>
                <a:noFill/>
                <a:ln w="3816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 flipH="1" flipV="1" rot="10801800">
                  <a:off x="6179400" y="3434040"/>
                  <a:ext cx="249120" cy="214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404" y="7872"/>
                      </a:moveTo>
                      <a:arcTo wR="10800" hR="10800" stAng="-9856217" swAng="858786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404" y="7872"/>
                      </a:moveTo>
                      <a:arcTo wR="10800" hR="10800" stAng="-9856217" swAng="8587862"/>
                    </a:path>
                  </a:pathLst>
                </a:custGeom>
                <a:noFill/>
                <a:ln w="3816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05" name=""/>
                <p:cNvGrpSpPr/>
                <p:nvPr/>
              </p:nvGrpSpPr>
              <p:grpSpPr>
                <a:xfrm>
                  <a:off x="5002920" y="3357720"/>
                  <a:ext cx="484920" cy="289080"/>
                  <a:chOff x="5002920" y="3357720"/>
                  <a:chExt cx="484920" cy="289080"/>
                </a:xfrm>
              </p:grpSpPr>
              <p:sp>
                <p:nvSpPr>
                  <p:cNvPr id="206" name=""/>
                  <p:cNvSpPr/>
                  <p:nvPr/>
                </p:nvSpPr>
                <p:spPr>
                  <a:xfrm flipH="1" rot="10802400">
                    <a:off x="5002920" y="3357720"/>
                    <a:ext cx="249840" cy="2134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522" y="7482"/>
                        </a:moveTo>
                        <a:arcTo wR="10800" hR="10800" stAng="-9726378" swAng="8622362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522" y="7482"/>
                        </a:moveTo>
                        <a:arcTo wR="10800" hR="10800" stAng="-9726378" swAng="8622362"/>
                      </a:path>
                    </a:pathLst>
                  </a:custGeom>
                  <a:noFill/>
                  <a:ln w="38160">
                    <a:solidFill>
                      <a:srgbClr val="33cc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" name=""/>
                  <p:cNvSpPr/>
                  <p:nvPr/>
                </p:nvSpPr>
                <p:spPr>
                  <a:xfrm flipH="1" flipV="1" rot="10802400">
                    <a:off x="5237280" y="3432960"/>
                    <a:ext cx="250200" cy="2134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806" y="6705"/>
                        </a:moveTo>
                        <a:arcTo wR="10800" hR="10800" stAng="-9463200" swAng="8194845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806" y="6705"/>
                        </a:moveTo>
                        <a:arcTo wR="10800" hR="10800" stAng="-9463200" swAng="8194845"/>
                      </a:path>
                    </a:pathLst>
                  </a:custGeom>
                  <a:noFill/>
                  <a:ln w="38160">
                    <a:solidFill>
                      <a:srgbClr val="33cc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08" name=""/>
              <p:cNvSpPr/>
              <p:nvPr/>
            </p:nvSpPr>
            <p:spPr>
              <a:xfrm>
                <a:off x="5644080" y="3101760"/>
                <a:ext cx="330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9" name=""/>
              <p:cNvGrpSpPr/>
              <p:nvPr/>
            </p:nvGrpSpPr>
            <p:grpSpPr>
              <a:xfrm>
                <a:off x="5595120" y="2617560"/>
                <a:ext cx="468360" cy="1820160"/>
                <a:chOff x="5595120" y="2617560"/>
                <a:chExt cx="468360" cy="1820160"/>
              </a:xfrm>
            </p:grpSpPr>
            <p:sp>
              <p:nvSpPr>
                <p:cNvPr id="210" name=""/>
                <p:cNvSpPr/>
                <p:nvPr/>
              </p:nvSpPr>
              <p:spPr>
                <a:xfrm>
                  <a:off x="5595120" y="2618640"/>
                  <a:ext cx="0" cy="1819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6063480" y="2617560"/>
                  <a:ext cx="0" cy="1819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2" name=""/>
              <p:cNvSpPr/>
              <p:nvPr/>
            </p:nvSpPr>
            <p:spPr>
              <a:xfrm>
                <a:off x="5642280" y="3610800"/>
                <a:ext cx="330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3" name=""/>
            <p:cNvSpPr/>
            <p:nvPr/>
          </p:nvSpPr>
          <p:spPr>
            <a:xfrm>
              <a:off x="4967280" y="2573280"/>
              <a:ext cx="272160" cy="194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435000" y="2617560"/>
              <a:ext cx="401040" cy="194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440040" y="2764440"/>
              <a:ext cx="1608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ncident ligh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441480" y="3342240"/>
              <a:ext cx="1578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mitted ligh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411240" y="3929040"/>
              <a:ext cx="206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ransmitted ligh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path" presetID="4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-0.00208 C -0.00156 -0.02659 -0.00156 -0.04879 -0.00156 -0.04856 C -0.00139 -0.04879 -0.00139 -0.02659 -0.00104 -0.00208 C -0.00104 0.02451 -0.00104 0.05225 -0.00087 0.05225 C -0.00052 0.05225 -0.00052 0.02451 -0.00052 -0.00208 C -0.00052 -0.02659 -0.00052 -0.04879 -0.00034 -0.04879 C -2.77778E-006 -0.04879 -2.77778E-006 -0.02659 -2.77778E-006 -0.00208 C -2.77778E-006 0.02451 -2.77778E-006 0.05225 0.00018 0.05225 C 0.00052 0.05225 0.00052 -0.00208 0.00052 -0.00185 C 0.00052 -0.02659 0.0007 -0.04879 0.00104 -0.04879 C 0.00104 -0.04856 0.00104 -0.02659 0.00104 -0.00208 C 0.00122 0.02451 0.00122 0.05225 0.00157 0.05225 C 0.00157 0.05248 0.00157 0.02451 0.00174 -0.00208 C 0.00174 -0.02659 0.00174 -0.04879 0.00209 -0.04879 C 0.00209 -0.04856 0.00226 -0.02659 0.00226 -0.00208 C 0.00226 0.02451 0.00261 0.05225 0.00261 0.05248 C 0.00278 0.05225 0.00278 0.02451 0.00313 -0.00208 E">
                                      <p:cBhvr>
                                        <p:cTn id="54" dur="5000" fill="hold"/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" nodeType="withEffect" fill="hold" presetClass="path" presetID="40" repeatCount="indefinite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-0.00313 -0.00416 C -0.00313 -0.04832 -0.00313 -0.09063 -0.00313 -0.0904 C -0.00278 -0.09063 -0.00278 -0.04832 -0.00243 -0.00416 C -0.00243 0.04509 -0.00243 0.0948 -0.00209 0.0948 C -0.00174 0.0948 -0.00174 0.04509 -0.00174 -0.00416 C -0.00174 -0.04832 -0.00174 -0.09063 -0.00139 -0.09063 C -0.00105 -0.09063 -0.00105 -0.04832 -0.00105 -0.00416 C -0.00105 0.04509 -0.00105 0.0948 -0.0007 0.0948 C -0.00035 0.0948 -0.00035 -0.00416 -0.00035 -0.00347 C -0.00035 -0.04832 3.88888999999998E-006 -0.09063 0.00034 -0.09063 C 0.00034 -0.0904 0.00034 -0.04832 0.00034 -0.00416 C 0.00069 0.04509 0.00069 0.0948 0.00104 0.0948 C 0.00104 0.09503 0.00104 0.04509 0.00139 -0.00416 C 0.00139 -0.04832 0.00139 -0.09063 0.00173 -0.09063 C 0.00173 -0.0904 0.00208 -0.04832 0.00208 -0.00416 C 0.00208 0.04509 0.00243 0.0948 0.00243 0.09503 C 0.00277 0.0948 0.00277 0.04509 0.00312 -0.00416 E">
                                      <p:cBhvr>
                                        <p:cTn id="56" dur="50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" nodeType="withEffect" fill="hold" presetClass="path" presetID="40" repeatCount="indefinite">
                                  <p:stCondLst>
                                    <p:cond delay="900"/>
                                  </p:stCondLst>
                                  <p:childTnLst>
                                    <p:animMotion origin="layout" path="M -0.00156 -0.00208 C -0.00156 -0.03491 -0.00156 -0.06589 -0.00156 -0.06566 C -0.00139 -0.06589 -0.00139 -0.03491 -0.00104 -0.00208 C -0.00104 0.03515 -0.00104 0.07283 -0.00086 0.07283 C -0.00052 0.07283 -0.00052 0.03515 -0.00052 -0.00208 C -0.00052 -0.03491 -0.00052 -0.06589 -0.00034 -0.06589 C -3.33332999999999E-006 -0.06589 -3.33333E-006 -0.03491 -3.33333E-006 -0.00208 C -3.33333E-006 0.03515 -3.33333000000001E-006 0.07283 0.00018 0.07283 C 0.00052 0.07283 0.00052 -0.00208 0.00052 -0.00139 C 0.00052 -0.03491 0.0007 -0.06589 0.00105 -0.06589 C 0.00105 -0.06566 0.00105 -0.03491 0.00105 -0.00208 C 0.00122 0.03515 0.00122 0.07283 0.00157 0.07283 C 0.00157 0.07306 0.00157 0.03515 0.00174 -0.00208 C 0.00174 -0.03491 0.00174 -0.06589 0.00209 -0.06589 C 0.00209 -0.06566 0.00226 -0.03491 0.00226 -0.00208 C 0.00226 0.03515 0.00261 0.07283 0.00261 0.07306 C 0.00278 0.07283 0.00278 0.03515 0.00313 -0.00208 E">
                                      <p:cBhvr>
                                        <p:cTn id="58" dur="5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7T00:23:25Z</dcterms:created>
  <dc:creator>Rick Trebino</dc:creator>
  <dc:description/>
  <dc:language>en-US</dc:language>
  <cp:lastModifiedBy>dobra chelovich</cp:lastModifiedBy>
  <dcterms:modified xsi:type="dcterms:W3CDTF">2007-11-08T00:01:10Z</dcterms:modified>
  <cp:revision>473</cp:revision>
  <dc:subject/>
  <dc:title>5. The Interaction of Light and  Matter:  a and n</dc:title>
</cp:coreProperties>
</file>